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C04D-C863-41F7-B0DD-792AAEB41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9A78-419F-4DF3-A8A0-821954507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F6EE-CB0E-4406-8759-EC798621A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FC32-26FF-4938-AF77-250B6B891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A943-8FD9-450F-B145-7AB020EBD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AACF-6ECF-4718-BC96-95D2B2A57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0D85-FBAA-451B-809D-473C43EEC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DA0B-319D-43AC-8DD1-59BA418C6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2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D064-D140-4804-9D85-F6132454C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A5EB-1814-4B56-8745-CDD00AC76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96A8-7F5C-4853-85C5-EAC12A462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1A66-B918-4CC4-8FA8-E7281AE4C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1440"/>
            <a:ext cx="915984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7320" y="6692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CD62-B639-4AF8-A8EA-4A5ED0BB839D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32240" y="6553080"/>
            <a:ext cx="381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Klocwork Inc. Confidential © 1998-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477120"/>
            <a:ext cx="901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B45C-0E0E-4737-9522-C728347CF9E8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7858" b="11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338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October 16-19,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locwork Users Course Overview – K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You Will Learn – Day 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cwork and its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cwork Client and Server Architect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nd Configuring Kloc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CMD &amp; TOOLBUS Sampl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Klocwork Ad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Integr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cwork inSpect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Klocwork Project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cwork Working with Code Problem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You Will Learn – Day 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cwork inForc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Klocwork in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cwork inForce for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Security Problems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Interface Problems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Include Problems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cwork inSight Architect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Klocwork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Klocwork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You Will Learn – Day 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cwork approach to Architecture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ing with Klocwork inSight Archit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Guided Tour – Klocwork inSight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Modeling with Klocwork inSight Archit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Architecture Problems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You Will Learn – Day 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ocwork Intellect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nd Configuring Intel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Guided Tour – Intel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Metrics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Metrics – Organiza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Metrics -- Distorted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Metrics – Avoiding Common Tr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ebdings" charset="2"/>
              <a:buChar char=""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Metrics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352680"/>
            <a:ext cx="8002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 of Modu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2:20:07Z</dcterms:created>
  <dc:creator>tmackenzie</dc:creator>
  <dc:description/>
  <dc:language>en-US</dc:language>
  <cp:lastModifiedBy>Mark Grice</cp:lastModifiedBy>
  <dcterms:modified xsi:type="dcterms:W3CDTF">2006-10-16T01:29:39Z</dcterms:modified>
  <cp:revision>64</cp:revision>
  <dc:subject/>
  <dc:title>klocwork bootcamp</dc:title>
</cp:coreProperties>
</file>