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AD03-A1C6-4756-A14B-69BA65A40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65D5-3D9A-4A13-8369-801475218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462D-5E1F-4870-81D2-BE603B27A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B24F-2D68-4D1E-93BF-483894C90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AE87-B247-4F39-893A-F20640C96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F6FB-2037-4CCA-BF0B-83045F3D3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CC53-C764-4973-97C2-233F51C47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633A-C66E-48D5-97E3-47D54A8FB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F5E0-4F01-4BB2-B9A3-D11FD0AA0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8368-DB68-46FC-944C-11EE85175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CFC6-6067-442C-9690-5DB1D5420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00D2-0BC4-4819-9555-EE9332EA5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2FA8-1878-4467-AA36-3B582E374FB6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3EE8-E26B-4C97-A800-05D20F5C4810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4954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OLBUS Sample Project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X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OLBUS Sample Proj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sample project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is used to illustrate the use of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ool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intended to be representative of an actual software system, while at the same time being small and easily understoo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so called a “sandbox” example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toolbu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811160"/>
                <a:tab algn="l" pos="3903840"/>
                <a:tab algn="l" pos="5138640"/>
                <a:tab algn="l" pos="6854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pplication consists of C++ source code files that provide a way for multiple applications to register their existence, listen for events and launch other applicatio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811160"/>
                <a:tab algn="l" pos="3903840"/>
                <a:tab algn="l" pos="5138640"/>
                <a:tab algn="l" pos="6854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811160"/>
                <a:tab algn="l" pos="3903840"/>
                <a:tab algn="l" pos="5138640"/>
                <a:tab algn="l" pos="6854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t is composed of a number of C++ files and header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905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1160"/>
                <a:tab algn="l" pos="3903840"/>
                <a:tab algn="l" pos="5138640"/>
                <a:tab algn="l" pos="6854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nBuffer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API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Error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IOProcess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ToolList.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905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1160"/>
                <a:tab algn="l" pos="3903840"/>
                <a:tab algn="l" pos="5138640"/>
                <a:tab algn="l" pos="6854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kefil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Communication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Events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Launcher.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905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1160"/>
                <a:tab algn="l" pos="3903840"/>
                <a:tab algn="l" pos="5138640"/>
                <a:tab algn="l" pos="6854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cketIO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Connection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Init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Log.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905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1160"/>
                <a:tab algn="l" pos="3903840"/>
                <a:tab algn="l" pos="5138640"/>
                <a:tab algn="l" pos="6854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ingToID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Control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IO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bMenu.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811160"/>
                <a:tab algn="l" pos="3903840"/>
                <a:tab algn="l" pos="5138640"/>
                <a:tab algn="l" pos="6854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irectory Struct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 uses the directory struc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ource files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oolbus/sr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include files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oolbus/in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executable file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oolbus/b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4290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ol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224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41972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1148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419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4419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p Level Make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11040" y="2776680"/>
            <a:ext cx="8453520" cy="25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oolbus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@cd src ; \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ake toolbus PRJDIR="$(PWD)"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ean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@cd src ; \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ake clean PRJDIR="$(PWD)"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040" y="1230480"/>
            <a:ext cx="8169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build the project, a top level Makefile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uilds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so provides for cleaning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toolbus/src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Make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8640" y="855720"/>
            <a:ext cx="8767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PROJECT = toolbu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BINDIR = ${PRJDIR}/bi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INCDIR = ${PRJDIR}/in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RCDIR = ${PRJDIR}/sr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.SUFFIXES 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.SUFFIXES : .C .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.C.o 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${CC} ${CFLAGS} ${INCS} -c $&lt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RCS = binBuffer.C socketIO.C StringToID.C tbAPI.C \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tbCommunication.C tbConnection.C tbControl.C tbError.C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tbEvents.C \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tbInit.C tbIO.C tbIOProcess.C tbLauncher.C tbLog.C \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tbMenu.C tbToolList.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OBJS = ${SRCS:.C=.o}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toolbus/src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Makefile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7476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CS = -I${INCDIR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LIBS =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C = gc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FLAGS =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oolbus : ${OBJS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lean 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m -f *.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Mak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toolbu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9160" y="990360"/>
            <a:ext cx="8699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$ make toolbu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make[1]: Entering directory `/home/training/toolbus/src'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binBuffer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socketIO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StringToID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API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Communication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Connection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Control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Error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Events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Init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IO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IOProcess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Launcher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Log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Menu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gcc  -I/home/training/toolbus/inc -c tbToolList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make[1]: Leaving directory `/home/training/toolbus/src'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sition to your home director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irectory has already been installed by the instructo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3080" indent="-2998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vestigate the contents of the directory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form the steps outlined in this module to buil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k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4:59:55Z</dcterms:created>
  <dc:creator>tmackenzie</dc:creator>
  <dc:description/>
  <dc:language>en-US</dc:language>
  <cp:lastModifiedBy>Mark Grice</cp:lastModifiedBy>
  <dcterms:modified xsi:type="dcterms:W3CDTF">2006-10-16T01:36:25Z</dcterms:modified>
  <cp:revision>269</cp:revision>
  <dc:subject/>
  <dc:title>klocwork Build Process</dc:title>
</cp:coreProperties>
</file>