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DE9B14-64D4-45D3-B4E0-11E4952D8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AD4E34-90C9-4FB7-B99C-B6A386464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ED0DFD-BA39-454F-BF33-D90F16AEE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28F0D9-90E3-4256-A865-927AF16BA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F49B8E-3C54-43DA-A98B-D8D226732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37E211-A74A-4463-9022-2F6511120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59EA78-10DB-4B4C-BE3D-7BB782D92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95B811-0F11-48A0-81D0-25A87993B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B3DD0F-2853-4944-A008-AFDF5E334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F8E04E-4E23-42EF-A362-28A80220B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0661F0-1162-4523-8FA0-6E1F92619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4C239F-A378-4A82-8AD2-44C155F79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E6086F-BA5B-45D0-AEC6-DC6C31521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650AFA-3E3C-4FB6-8961-076D34A77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F53568-8DFC-4701-A874-D28A43430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31800" y="5202360"/>
            <a:ext cx="583560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D57F-A70E-4043-9936-72081BB12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515E-65F6-4983-8921-9F93A173E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C074-FBAE-4366-82FC-5AFABC690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D418-9171-4558-9CF7-137A1AD0E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9BEC-C49A-40FE-946C-6E25BD7A7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CD13-6118-4BBE-843B-27C8FDBCE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8910-6C5D-4E4F-8A2D-7CFC65EA1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0846-CD41-47C2-A619-D251FBEE3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E72E-FF81-4775-B8D0-9D71C710A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C8B7-049C-4BF8-8EE2-54EC9D8D3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8B37-7681-4AF3-BC8A-8BF08DFB6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6543-7BF1-4B9F-B7F6-91FA0EE96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EAA4-B674-4943-8E05-63E8B7CD3D33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69276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8E16-E886-4F09-AEC2-4420D62B8630}" type="datetime2">
              <a:rPr b="0" lang="en-US" sz="800" spc="-1" strike="noStrike">
                <a:solidFill>
                  <a:srgbClr val="000066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9280" y="213516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05CF-4709-4EB4-B965-C7FB747CBAA8}" type="datetime2">
              <a:rPr b="0" lang="en-US" sz="8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Klocwor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K7 Client and Server Architecture Overview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Sigh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chitect client can review all System models, create user models, and share these models with other Architects and Develo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odels must be shared to be viewed within Project Central or inTel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ccess to Klocwork Admin server to get project properties (projects, builds, projects_root), and license che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ccess to the source for Flow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27400" y="6827760"/>
            <a:ext cx="5076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KLOCwork inSight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3DF7-F83F-4ECD-9386-535F0D2841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590400" y="865080"/>
            <a:ext cx="7606080" cy="4732200"/>
            <a:chOff x="590400" y="865080"/>
            <a:chExt cx="7606080" cy="4732200"/>
          </a:xfrm>
        </p:grpSpPr>
        <p:sp>
          <p:nvSpPr>
            <p:cNvPr id="257" name=""/>
            <p:cNvSpPr/>
            <p:nvPr/>
          </p:nvSpPr>
          <p:spPr>
            <a:xfrm>
              <a:off x="590400" y="1958040"/>
              <a:ext cx="7535880" cy="13028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d5d5fe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0400" y="4393080"/>
              <a:ext cx="7580520" cy="12042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ee5cd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0400" y="3424320"/>
              <a:ext cx="7566120" cy="8229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c7fea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0400" y="865080"/>
              <a:ext cx="7543800" cy="9601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dc54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47960" y="1965240"/>
              <a:ext cx="166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63480" y="876600"/>
              <a:ext cx="207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1720" y="4395960"/>
              <a:ext cx="298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projects_root 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30320" y="3435480"/>
              <a:ext cx="17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eng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91120" y="2042280"/>
              <a:ext cx="685800" cy="442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15000" y="2023920"/>
              <a:ext cx="685800" cy="479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icen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FLEXl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38720" y="1192320"/>
              <a:ext cx="685800" cy="333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Sp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69" idx="0"/>
              <a:endCxn id="267" idx="2"/>
            </p:cNvCxnSpPr>
            <p:nvPr/>
          </p:nvCxnSpPr>
          <p:spPr>
            <a:xfrm flipH="1" flipV="1" rot="5400000">
              <a:off x="2727360" y="952560"/>
              <a:ext cx="2282400" cy="3426840"/>
            </a:xfrm>
            <a:prstGeom prst="bentConnector3">
              <a:avLst>
                <a:gd name="adj1" fmla="val 49960"/>
              </a:avLst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66" idx="1"/>
              <a:endCxn id="265" idx="3"/>
            </p:cNvCxnSpPr>
            <p:nvPr/>
          </p:nvCxnSpPr>
          <p:spPr>
            <a:xfrm flipH="1">
              <a:off x="4876560" y="2263320"/>
              <a:ext cx="838800" cy="1080"/>
            </a:xfrm>
            <a:prstGeom prst="straightConnector1">
              <a:avLst/>
            </a:prstGeom>
            <a:ln w="28440">
              <a:solidFill>
                <a:srgbClr val="339966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5" idx="3"/>
              <a:endCxn id="267" idx="2"/>
            </p:cNvCxnSpPr>
            <p:nvPr/>
          </p:nvCxnSpPr>
          <p:spPr>
            <a:xfrm flipV="1">
              <a:off x="4876920" y="1524600"/>
              <a:ext cx="705240" cy="739080"/>
            </a:xfrm>
            <a:prstGeom prst="curved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3" idx="1"/>
              <a:endCxn id="265" idx="2"/>
            </p:cNvCxnSpPr>
            <p:nvPr/>
          </p:nvCxnSpPr>
          <p:spPr>
            <a:xfrm flipV="1" rot="16200000">
              <a:off x="3702240" y="3315600"/>
              <a:ext cx="2364120" cy="70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73" name=""/>
            <p:cNvSpPr/>
            <p:nvPr/>
          </p:nvSpPr>
          <p:spPr>
            <a:xfrm>
              <a:off x="4930920" y="4848840"/>
              <a:ext cx="608040" cy="3340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jec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per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69" idx="0"/>
              <a:endCxn id="266" idx="2"/>
            </p:cNvCxnSpPr>
            <p:nvPr/>
          </p:nvCxnSpPr>
          <p:spPr>
            <a:xfrm flipH="1" flipV="1" rot="5400000">
              <a:off x="3454920" y="1203840"/>
              <a:ext cx="1303920" cy="3903120"/>
            </a:xfrm>
            <a:prstGeom prst="curvedConnector5">
              <a:avLst>
                <a:gd name="adj1" fmla="val 49986"/>
                <a:gd name="adj2" fmla="val 49995"/>
                <a:gd name="adj3" fmla="val 49986"/>
              </a:avLst>
            </a:prstGeom>
            <a:ln w="28440">
              <a:solidFill>
                <a:srgbClr val="009900"/>
              </a:solidFill>
              <a:prstDash val="sysDot"/>
              <a:miter/>
              <a:head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4172040" y="4633200"/>
              <a:ext cx="608040" cy="3340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tab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1920" y="4621320"/>
              <a:ext cx="608040" cy="3340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Sp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Re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79480" y="3807000"/>
              <a:ext cx="752760" cy="334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kwinsp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5" idx="2"/>
              <a:endCxn id="269" idx="3"/>
            </p:cNvCxnSpPr>
            <p:nvPr/>
          </p:nvCxnSpPr>
          <p:spPr>
            <a:xfrm rot="10800000">
              <a:off x="2531520" y="3973680"/>
              <a:ext cx="1640520" cy="826560"/>
            </a:xfrm>
            <a:prstGeom prst="curvedConnector5">
              <a:avLst>
                <a:gd name="adj1" fmla="val 49934"/>
                <a:gd name="adj2" fmla="val 49978"/>
                <a:gd name="adj3" fmla="val 49934"/>
              </a:avLst>
            </a:prstGeom>
            <a:ln w="2844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8" name=""/>
            <p:cNvCxnSpPr>
              <a:stCxn id="269" idx="1"/>
              <a:endCxn id="276" idx="1"/>
            </p:cNvCxnSpPr>
            <p:nvPr/>
          </p:nvCxnSpPr>
          <p:spPr>
            <a:xfrm flipV="1" rot="10800000">
              <a:off x="1266120" y="3973320"/>
              <a:ext cx="513360" cy="647640"/>
            </a:xfrm>
            <a:prstGeom prst="bentConnector2">
              <a:avLst/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3032280" y="4870440"/>
              <a:ext cx="607680" cy="3340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ilter 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>
              <a:stCxn id="279" idx="1"/>
              <a:endCxn id="269" idx="3"/>
            </p:cNvCxnSpPr>
            <p:nvPr/>
          </p:nvCxnSpPr>
          <p:spPr>
            <a:xfrm flipV="1" rot="16200000">
              <a:off x="2486160" y="4019400"/>
              <a:ext cx="896400" cy="805320"/>
            </a:xfrm>
            <a:prstGeom prst="curvedConnector2">
              <a:avLst/>
            </a:prstGeom>
            <a:ln w="2844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81" name=""/>
            <p:cNvSpPr/>
            <p:nvPr/>
          </p:nvSpPr>
          <p:spPr>
            <a:xfrm>
              <a:off x="2265480" y="4613040"/>
              <a:ext cx="685800" cy="3340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nfi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" name=""/>
            <p:cNvCxnSpPr>
              <a:stCxn id="281" idx="1"/>
              <a:endCxn id="269" idx="3"/>
            </p:cNvCxnSpPr>
            <p:nvPr/>
          </p:nvCxnSpPr>
          <p:spPr>
            <a:xfrm flipV="1" rot="16200000">
              <a:off x="2250360" y="4255200"/>
              <a:ext cx="639360" cy="76680"/>
            </a:xfrm>
            <a:prstGeom prst="curved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84" idx="1"/>
              <a:endCxn id="269" idx="2"/>
            </p:cNvCxnSpPr>
            <p:nvPr/>
          </p:nvCxnSpPr>
          <p:spPr>
            <a:xfrm flipH="1" flipV="1" rot="5400000">
              <a:off x="1540080" y="4395600"/>
              <a:ext cx="870480" cy="361080"/>
            </a:xfrm>
            <a:prstGeom prst="curvedConnector5">
              <a:avLst>
                <a:gd name="adj1" fmla="val 49896"/>
                <a:gd name="adj2" fmla="val 50000"/>
                <a:gd name="adj3" fmla="val 49896"/>
              </a:avLst>
            </a:prstGeom>
            <a:ln w="2844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>
              <a:off x="1119240" y="5011560"/>
              <a:ext cx="1351080" cy="537120"/>
            </a:xfrm>
            <a:prstGeom prst="can">
              <a:avLst>
                <a:gd name="adj" fmla="val 25000"/>
              </a:avLst>
            </a:prstGeom>
            <a:solidFill>
              <a:srgbClr val="65a2a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30480" y="5034600"/>
              <a:ext cx="607680" cy="3340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l (R/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62280" y="5043240"/>
              <a:ext cx="608040" cy="3340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2200" y="341280"/>
            <a:ext cx="7548480" cy="2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Sp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2C81-554E-4806-A789-E6AE3274AE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Sp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the report data and can be used to update error status information as well as generate &amp; update filt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Status files are XML files which can be used to filter specific problems from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Filter files can be used to filter out specific detected problems from re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oc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min Server to get project properties and license che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properties are config files, projects_root, reports to generate, and format of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oc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bles as a source of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files are also part of the input, to determine the category and types of errors to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s may be used from previous builds, and updated if requ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AB16-BF78-4581-A278-13355B3ADF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3360" y="279360"/>
            <a:ext cx="75420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Project Cent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90400" y="955800"/>
            <a:ext cx="8325000" cy="4487760"/>
            <a:chOff x="590400" y="955800"/>
            <a:chExt cx="8325000" cy="4487760"/>
          </a:xfrm>
        </p:grpSpPr>
        <p:sp>
          <p:nvSpPr>
            <p:cNvPr id="292" name=""/>
            <p:cNvSpPr/>
            <p:nvPr/>
          </p:nvSpPr>
          <p:spPr>
            <a:xfrm>
              <a:off x="590400" y="2049480"/>
              <a:ext cx="7535880" cy="1301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d5d5fe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0400" y="4483080"/>
              <a:ext cx="7580520" cy="9604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ee5cd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0400" y="3514680"/>
              <a:ext cx="7566120" cy="82224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c7fea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0400" y="955800"/>
              <a:ext cx="7543800" cy="9604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dc54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65240" y="2054160"/>
              <a:ext cx="166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7000" y="966960"/>
              <a:ext cx="207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92640" y="4478400"/>
              <a:ext cx="298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projects_root 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42920" y="3516480"/>
              <a:ext cx="17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eng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9600" y="3171960"/>
              <a:ext cx="685800" cy="549000"/>
            </a:xfrm>
            <a:prstGeom prst="ca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13120" y="2216160"/>
              <a:ext cx="698400" cy="4921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05120" y="1347840"/>
              <a:ext cx="919080" cy="439560"/>
            </a:xfrm>
            <a:prstGeom prst="rect">
              <a:avLst/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ject Cent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5160" y="261468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mySQ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24360" y="2335320"/>
              <a:ext cx="685800" cy="4809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icen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FLEXl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" name=""/>
            <p:cNvCxnSpPr>
              <a:stCxn id="304" idx="1"/>
              <a:endCxn id="306" idx="3"/>
            </p:cNvCxnSpPr>
            <p:nvPr/>
          </p:nvCxnSpPr>
          <p:spPr>
            <a:xfrm flipH="1" flipV="1">
              <a:off x="4476240" y="2496240"/>
              <a:ext cx="1248480" cy="80280"/>
            </a:xfrm>
            <a:prstGeom prst="straightConnector1">
              <a:avLst/>
            </a:prstGeom>
            <a:ln w="28440">
              <a:solidFill>
                <a:srgbClr val="339966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303" idx="4"/>
              <a:endCxn id="301" idx="2"/>
            </p:cNvCxnSpPr>
            <p:nvPr/>
          </p:nvCxnSpPr>
          <p:spPr>
            <a:xfrm flipV="1">
              <a:off x="1533600" y="2707920"/>
              <a:ext cx="829440" cy="24984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/>
            <p:nvPr/>
          </p:nvCxnSpPr>
          <p:spPr>
            <a:xfrm flipV="1" rot="16200000">
              <a:off x="3559680" y="3321000"/>
              <a:ext cx="2194560" cy="1046880"/>
            </a:xfrm>
            <a:prstGeom prst="bentConnector3">
              <a:avLst>
                <a:gd name="adj1" fmla="val 49991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1" idx="0"/>
              <a:endCxn id="302" idx="2"/>
            </p:cNvCxnSpPr>
            <p:nvPr/>
          </p:nvCxnSpPr>
          <p:spPr>
            <a:xfrm flipH="1" flipV="1" rot="5400000">
              <a:off x="2149200" y="1999800"/>
              <a:ext cx="429480" cy="3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0" idx="2"/>
              <a:endCxn id="301" idx="3"/>
            </p:cNvCxnSpPr>
            <p:nvPr/>
          </p:nvCxnSpPr>
          <p:spPr>
            <a:xfrm rot="10800000">
              <a:off x="2711520" y="2461320"/>
              <a:ext cx="5518440" cy="985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9900"/>
              </a:solidFill>
              <a:prstDash val="lgDash"/>
              <a:miter/>
              <a:tailEnd len="med" type="triangle" w="med"/>
            </a:ln>
          </p:spPr>
        </p:cxnSp>
        <p:cxnSp>
          <p:nvCxnSpPr>
            <p:cNvPr id="311" name=""/>
            <p:cNvCxnSpPr/>
            <p:nvPr/>
          </p:nvCxnSpPr>
          <p:spPr>
            <a:xfrm rot="10800000">
              <a:off x="2239200" y="2707560"/>
              <a:ext cx="1772280" cy="40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312" name=""/>
            <p:cNvSpPr/>
            <p:nvPr/>
          </p:nvSpPr>
          <p:spPr>
            <a:xfrm>
              <a:off x="4762440" y="4941720"/>
              <a:ext cx="809640" cy="33516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jec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per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>
              <a:off x="2606760" y="2708280"/>
              <a:ext cx="3705840" cy="108720"/>
            </a:xfrm>
            <a:prstGeom prst="curvedConnector5">
              <a:avLst>
                <a:gd name="adj1" fmla="val 49995"/>
                <a:gd name="adj2" fmla="val 49833"/>
                <a:gd name="adj3" fmla="val 49995"/>
              </a:avLst>
            </a:prstGeom>
            <a:ln w="28440">
              <a:solidFill>
                <a:srgbClr val="009900"/>
              </a:solidFill>
              <a:prstDash val="sysDot"/>
              <a:miter/>
              <a:headEnd len="med" type="triangle" w="med"/>
            </a:ln>
          </p:spPr>
        </p:cxnSp>
        <p:sp>
          <p:nvSpPr>
            <p:cNvPr id="314" name=""/>
            <p:cNvSpPr/>
            <p:nvPr/>
          </p:nvSpPr>
          <p:spPr>
            <a:xfrm>
              <a:off x="1287360" y="4780080"/>
              <a:ext cx="1351080" cy="587160"/>
            </a:xfrm>
            <a:prstGeom prst="can">
              <a:avLst>
                <a:gd name="adj" fmla="val 25000"/>
              </a:avLst>
            </a:prstGeom>
            <a:solidFill>
              <a:srgbClr val="65a2a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76280" y="4822920"/>
              <a:ext cx="608040" cy="33480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l (R/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6120" y="4832280"/>
              <a:ext cx="607680" cy="33336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03" idx="3"/>
              <a:endCxn id="315" idx="1"/>
            </p:cNvCxnSpPr>
            <p:nvPr/>
          </p:nvCxnSpPr>
          <p:spPr>
            <a:xfrm flipH="1" rot="16200000">
              <a:off x="636480" y="3777840"/>
              <a:ext cx="1523160" cy="567360"/>
            </a:xfrm>
            <a:prstGeom prst="bentConnector3">
              <a:avLst>
                <a:gd name="adj1" fmla="val 49929"/>
              </a:avLst>
            </a:prstGeom>
            <a:ln w="28440">
              <a:solidFill>
                <a:srgbClr val="009900"/>
              </a:solidFill>
              <a:miter/>
              <a:headEnd len="med" type="triangle" w="med"/>
            </a:ln>
          </p:spPr>
        </p:cxnSp>
        <p:sp>
          <p:nvSpPr>
            <p:cNvPr id="306" name=""/>
            <p:cNvSpPr/>
            <p:nvPr/>
          </p:nvSpPr>
          <p:spPr>
            <a:xfrm>
              <a:off x="3790800" y="2244600"/>
              <a:ext cx="685800" cy="503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F0BF-C12C-480F-BA5C-2531481479A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Project Cent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oject Central provides the ability to present any project data, such as models, reports and defects, through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oject Central ac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atabase server for model-relat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dmin Server for project information, such as the projects_root directory, and license che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ource code for Source Vie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5759-B8F0-48F3-AC05-9FB961107B9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96880" y="178920"/>
            <a:ext cx="75247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Forc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0400" y="1987560"/>
            <a:ext cx="7535880" cy="1303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d5d5fe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400" y="4422600"/>
            <a:ext cx="7580520" cy="1054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5cd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0400" y="3454560"/>
            <a:ext cx="7566120" cy="8222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b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0400" y="895320"/>
            <a:ext cx="7543800" cy="960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dc54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3400" y="202572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90840" y="520848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projects_root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52640" y="34560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20240" y="2327400"/>
            <a:ext cx="685800" cy="54756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8" idx="3"/>
            <a:endCxn id="330" idx="3"/>
          </p:cNvCxnSpPr>
          <p:nvPr/>
        </p:nvCxnSpPr>
        <p:spPr>
          <a:xfrm rot="5400000">
            <a:off x="7582680" y="2987640"/>
            <a:ext cx="1092960" cy="867600"/>
          </a:xfrm>
          <a:prstGeom prst="bentConnector2">
            <a:avLst/>
          </a:prstGeom>
          <a:ln w="25560">
            <a:solidFill>
              <a:srgbClr val="339966"/>
            </a:solidFill>
            <a:prstDash val="dash"/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7088040" y="3722760"/>
            <a:ext cx="608040" cy="48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Comp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kw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62320" y="3749760"/>
            <a:ext cx="608040" cy="33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kwlin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4906800"/>
            <a:ext cx="608040" cy="4813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loc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Arial"/>
              </a:rPr>
              <a:t>tabl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Arial"/>
              </a:rPr>
              <a:t>(tem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2206800"/>
            <a:ext cx="685800" cy="47916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ce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FLEXl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6520" y="1238400"/>
            <a:ext cx="685800" cy="33156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1" idx="2"/>
            <a:endCxn id="332" idx="4"/>
          </p:cNvCxnSpPr>
          <p:nvPr/>
        </p:nvCxnSpPr>
        <p:spPr>
          <a:xfrm rot="5400000">
            <a:off x="3567240" y="4248720"/>
            <a:ext cx="1064520" cy="735840"/>
          </a:xfrm>
          <a:prstGeom prst="bentConnector2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3" idx="1"/>
            <a:endCxn id="337" idx="3"/>
          </p:cNvCxnSpPr>
          <p:nvPr/>
        </p:nvCxnSpPr>
        <p:spPr>
          <a:xfrm flipH="1">
            <a:off x="4876560" y="2446200"/>
            <a:ext cx="838800" cy="7200"/>
          </a:xfrm>
          <a:prstGeom prst="straightConnector1">
            <a:avLst/>
          </a:prstGeom>
          <a:ln w="2844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cxnSp>
        <p:nvCxnSpPr>
          <p:cNvPr id="338" name=""/>
          <p:cNvCxnSpPr/>
          <p:nvPr/>
        </p:nvCxnSpPr>
        <p:spPr>
          <a:xfrm flipV="1" rot="16200000">
            <a:off x="4188960" y="1794960"/>
            <a:ext cx="626040" cy="175680"/>
          </a:xfrm>
          <a:prstGeom prst="bentConnector3">
            <a:avLst>
              <a:gd name="adj1" fmla="val 49884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3645000" y="4503600"/>
            <a:ext cx="763560" cy="33516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ter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4503600"/>
            <a:ext cx="685800" cy="317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f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0" idx="1"/>
            <a:endCxn id="334" idx="1"/>
          </p:cNvCxnSpPr>
          <p:nvPr/>
        </p:nvCxnSpPr>
        <p:spPr>
          <a:xfrm flipH="1" flipV="1" rot="5400000">
            <a:off x="1887480" y="2374200"/>
            <a:ext cx="3099240" cy="1159560"/>
          </a:xfrm>
          <a:prstGeom prst="curvedConnector2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42" name=""/>
          <p:cNvCxnSpPr/>
          <p:nvPr/>
        </p:nvCxnSpPr>
        <p:spPr>
          <a:xfrm flipH="1" flipV="1" rot="5400000">
            <a:off x="1733760" y="1922760"/>
            <a:ext cx="2370960" cy="3096360"/>
          </a:xfrm>
          <a:prstGeom prst="bentConnector2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1066680" y="4648320"/>
            <a:ext cx="750960" cy="33480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je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4" idx="0"/>
            <a:endCxn id="345" idx="0"/>
          </p:cNvCxnSpPr>
          <p:nvPr/>
        </p:nvCxnSpPr>
        <p:spPr>
          <a:xfrm rot="5400000">
            <a:off x="2619360" y="732600"/>
            <a:ext cx="1234080" cy="2245320"/>
          </a:xfrm>
          <a:prstGeom prst="bentConnector3">
            <a:avLst>
              <a:gd name="adj1" fmla="val -16661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1521000" y="24717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x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31" idx="0"/>
            <a:endCxn id="333" idx="3"/>
          </p:cNvCxnSpPr>
          <p:nvPr/>
        </p:nvCxnSpPr>
        <p:spPr>
          <a:xfrm flipH="1" flipV="1" rot="5400000">
            <a:off x="4781880" y="2130480"/>
            <a:ext cx="1304280" cy="1934280"/>
          </a:xfrm>
          <a:prstGeom prst="curvedConnector5">
            <a:avLst>
              <a:gd name="adj1" fmla="val 40778"/>
              <a:gd name="adj2" fmla="val 55900"/>
              <a:gd name="adj3" fmla="val 40778"/>
            </a:avLst>
          </a:prstGeom>
          <a:ln w="28440">
            <a:solidFill>
              <a:srgbClr val="009900"/>
            </a:solidFill>
            <a:prstDash val="sysDot"/>
            <a:miter/>
            <a:headEnd len="med" type="triangle" w="med"/>
          </a:ln>
        </p:spPr>
      </p:cxnSp>
      <p:cxnSp>
        <p:nvCxnSpPr>
          <p:cNvPr id="347" name=""/>
          <p:cNvCxnSpPr>
            <a:stCxn id="334" idx="3"/>
            <a:endCxn id="333" idx="0"/>
          </p:cNvCxnSpPr>
          <p:nvPr/>
        </p:nvCxnSpPr>
        <p:spPr>
          <a:xfrm>
            <a:off x="4702320" y="1404720"/>
            <a:ext cx="1356120" cy="802440"/>
          </a:xfrm>
          <a:prstGeom prst="curvedConnector2">
            <a:avLst/>
          </a:prstGeom>
          <a:ln w="28440">
            <a:solidFill>
              <a:srgbClr val="009900"/>
            </a:solidFill>
            <a:prstDash val="sysDot"/>
            <a:miter/>
            <a:head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1878120" y="5019840"/>
            <a:ext cx="608040" cy="33336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4" idx="1"/>
          </p:cNvCxnSpPr>
          <p:nvPr/>
        </p:nvCxnSpPr>
        <p:spPr>
          <a:xfrm flipH="1" flipV="1" rot="5400000">
            <a:off x="1292040" y="2295000"/>
            <a:ext cx="3615480" cy="1834560"/>
          </a:xfrm>
          <a:prstGeom prst="curvedConnector2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6068160" y="89064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32" idx="1"/>
            <a:endCxn id="334" idx="1"/>
          </p:cNvCxnSpPr>
          <p:nvPr/>
        </p:nvCxnSpPr>
        <p:spPr>
          <a:xfrm flipH="1" flipV="1" rot="5400000">
            <a:off x="1971720" y="2861640"/>
            <a:ext cx="3502440" cy="588240"/>
          </a:xfrm>
          <a:prstGeom prst="curvedConnector2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52" name=""/>
          <p:cNvCxnSpPr/>
          <p:nvPr/>
        </p:nvCxnSpPr>
        <p:spPr>
          <a:xfrm flipH="1" flipV="1" rot="5400000">
            <a:off x="2648520" y="2870280"/>
            <a:ext cx="2934360" cy="332640"/>
          </a:xfrm>
          <a:prstGeom prst="curvedConnector5">
            <a:avLst>
              <a:gd name="adj1" fmla="val 95705"/>
              <a:gd name="adj2" fmla="val 49945"/>
              <a:gd name="adj3" fmla="val 95705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5640480" y="4876920"/>
            <a:ext cx="608040" cy="371520"/>
          </a:xfrm>
          <a:prstGeom prst="can">
            <a:avLst>
              <a:gd name="adj" fmla="val 17523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B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rot="10800000">
            <a:off x="6095160" y="3961800"/>
            <a:ext cx="534240" cy="729360"/>
          </a:xfrm>
          <a:prstGeom prst="bentConnector2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355" name=""/>
          <p:cNvCxnSpPr/>
          <p:nvPr/>
        </p:nvCxnSpPr>
        <p:spPr>
          <a:xfrm flipV="1">
            <a:off x="5943240" y="3962160"/>
            <a:ext cx="1080" cy="884880"/>
          </a:xfrm>
          <a:prstGeom prst="bentConnector2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57" idx="0"/>
            <a:endCxn id="358" idx="1"/>
          </p:cNvCxnSpPr>
          <p:nvPr/>
        </p:nvCxnSpPr>
        <p:spPr>
          <a:xfrm rot="5400000">
            <a:off x="5257800" y="3732840"/>
            <a:ext cx="915120" cy="612000"/>
          </a:xfrm>
          <a:prstGeom prst="bentConnector3">
            <a:avLst>
              <a:gd name="adj1" fmla="val -24990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716440" y="3581280"/>
            <a:ext cx="608040" cy="37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KWL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3"/>
            <a:endCxn id="331" idx="3"/>
          </p:cNvCxnSpPr>
          <p:nvPr/>
        </p:nvCxnSpPr>
        <p:spPr>
          <a:xfrm flipV="1" rot="16200000">
            <a:off x="4614840" y="4071960"/>
            <a:ext cx="950040" cy="640440"/>
          </a:xfrm>
          <a:prstGeom prst="bentConnector4">
            <a:avLst>
              <a:gd name="adj1" fmla="val -24071"/>
              <a:gd name="adj2" fmla="val 79865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5029200" y="4495680"/>
            <a:ext cx="76212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ject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 (Tem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1120" y="2195640"/>
            <a:ext cx="685800" cy="51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locwork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30" idx="1"/>
            <a:endCxn id="361" idx="1"/>
          </p:cNvCxnSpPr>
          <p:nvPr/>
        </p:nvCxnSpPr>
        <p:spPr>
          <a:xfrm flipV="1" rot="10800000">
            <a:off x="6780960" y="3966840"/>
            <a:ext cx="306720" cy="529200"/>
          </a:xfrm>
          <a:prstGeom prst="bentConnector2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>
            <a:off x="6400800" y="4495680"/>
            <a:ext cx="762120" cy="41940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ject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 (Tem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42BD-0349-40AF-9213-8BA0A887FDE6}" type="slidenum">
              <a:t>15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Forc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ce is similar to inSpect, but its main purpose is to analyze a single source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ce is run from the command line, or as integrated with an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64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sual Studio 6.0, Visual Studio .NET and Eclipse are officially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ce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64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tion files, including the Function Behaviour Knowledg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64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dmin Server to get project and licens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64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information from the model directory (model information is not taken from the Database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6480">
              <a:spcBef>
                <a:spcPts val="4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lter files, to filter out defects that you do not want to 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termediate object files and Klocwork tables are tempo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ce produces a text output to your screen (command-line), to a designated output file, or to the output window of Visual Studio or Eclipse in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6955-1DB4-431C-82F1-0986BEEC4B0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3360" y="279360"/>
            <a:ext cx="754200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38080" y="685800"/>
            <a:ext cx="7580520" cy="5266080"/>
            <a:chOff x="838080" y="685800"/>
            <a:chExt cx="7580520" cy="5266080"/>
          </a:xfrm>
        </p:grpSpPr>
        <p:sp>
          <p:nvSpPr>
            <p:cNvPr id="366" name=""/>
            <p:cNvSpPr/>
            <p:nvPr/>
          </p:nvSpPr>
          <p:spPr>
            <a:xfrm>
              <a:off x="838080" y="1828800"/>
              <a:ext cx="7535880" cy="1447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d5d5fe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4572000"/>
              <a:ext cx="7580520" cy="13381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ee5cd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505320"/>
              <a:ext cx="7566120" cy="91440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c7fea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8080" y="685800"/>
              <a:ext cx="7543800" cy="10666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dc54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47960" y="2087640"/>
              <a:ext cx="166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63480" y="878040"/>
              <a:ext cx="207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11720" y="4788000"/>
              <a:ext cx="298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projects_root 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0320" y="3720960"/>
              <a:ext cx="17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eng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30640" y="2401920"/>
              <a:ext cx="685800" cy="4921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70200" y="2386080"/>
              <a:ext cx="685800" cy="5331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icen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FLEXl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27720" y="1282680"/>
              <a:ext cx="685800" cy="370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Tel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4" idx="1"/>
              <a:endCxn id="375" idx="3"/>
            </p:cNvCxnSpPr>
            <p:nvPr/>
          </p:nvCxnSpPr>
          <p:spPr>
            <a:xfrm flipV="1" rot="10800000">
              <a:off x="3455280" y="2647440"/>
              <a:ext cx="1575360" cy="5760"/>
            </a:xfrm>
            <a:prstGeom prst="curvedConnector5">
              <a:avLst>
                <a:gd name="adj1" fmla="val 49988"/>
                <a:gd name="adj2" fmla="val 46666"/>
                <a:gd name="adj3" fmla="val 49988"/>
              </a:avLst>
            </a:prstGeom>
            <a:ln w="28440">
              <a:solidFill>
                <a:srgbClr val="009900"/>
              </a:solidFill>
              <a:prstDash val="sysDot"/>
              <a:miter/>
              <a:head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914400" y="3809880"/>
              <a:ext cx="1135080" cy="447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Load 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(kwadmi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" name=""/>
            <p:cNvCxnSpPr>
              <a:stCxn id="378" idx="2"/>
            </p:cNvCxnSpPr>
            <p:nvPr/>
          </p:nvCxnSpPr>
          <p:spPr>
            <a:xfrm flipH="1" rot="16200000">
              <a:off x="1181160" y="4558320"/>
              <a:ext cx="1465920" cy="864360"/>
            </a:xfrm>
            <a:prstGeom prst="bentConnector3">
              <a:avLst>
                <a:gd name="adj1" fmla="val 115598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2209680" y="3581280"/>
              <a:ext cx="1295640" cy="782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inTellect Extract Transformation and 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(kwintellectd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endCxn id="380" idx="2"/>
            </p:cNvCxnSpPr>
            <p:nvPr/>
          </p:nvCxnSpPr>
          <p:spPr>
            <a:xfrm flipV="1">
              <a:off x="2346480" y="4363200"/>
              <a:ext cx="511920" cy="437400"/>
            </a:xfrm>
            <a:prstGeom prst="straightConnector1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382" name=""/>
            <p:cNvSpPr/>
            <p:nvPr/>
          </p:nvSpPr>
          <p:spPr>
            <a:xfrm>
              <a:off x="4349880" y="5205240"/>
              <a:ext cx="1350720" cy="597240"/>
            </a:xfrm>
            <a:prstGeom prst="can">
              <a:avLst>
                <a:gd name="adj" fmla="val 25000"/>
              </a:avLst>
            </a:prstGeom>
            <a:solidFill>
              <a:srgbClr val="65a2a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inTellect 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82" idx="2"/>
              <a:endCxn id="380" idx="3"/>
            </p:cNvCxnSpPr>
            <p:nvPr/>
          </p:nvCxnSpPr>
          <p:spPr>
            <a:xfrm rot="10800000">
              <a:off x="3504600" y="3972960"/>
              <a:ext cx="845280" cy="15310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9900"/>
              </a:solidFill>
              <a:miter/>
              <a:headEnd len="med" type="triangle" w="med"/>
            </a:ln>
          </p:spPr>
        </p:cxnSp>
        <p:cxnSp>
          <p:nvCxnSpPr>
            <p:cNvPr id="384" name=""/>
            <p:cNvCxnSpPr>
              <a:stCxn id="374" idx="0"/>
              <a:endCxn id="376" idx="2"/>
            </p:cNvCxnSpPr>
            <p:nvPr/>
          </p:nvCxnSpPr>
          <p:spPr>
            <a:xfrm flipV="1" rot="16200000">
              <a:off x="4746960" y="1774800"/>
              <a:ext cx="749880" cy="504000"/>
            </a:xfrm>
            <a:prstGeom prst="bentConnector3">
              <a:avLst>
                <a:gd name="adj1" fmla="val 26897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385" name=""/>
            <p:cNvCxnSpPr>
              <a:stCxn id="374" idx="2"/>
              <a:endCxn id="380" idx="0"/>
            </p:cNvCxnSpPr>
            <p:nvPr/>
          </p:nvCxnSpPr>
          <p:spPr>
            <a:xfrm rot="5400000">
              <a:off x="3771360" y="1979280"/>
              <a:ext cx="687960" cy="2516760"/>
            </a:xfrm>
            <a:prstGeom prst="bentConnector3">
              <a:avLst>
                <a:gd name="adj1" fmla="val 49842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6" idx="1"/>
              <a:endCxn id="382" idx="1"/>
            </p:cNvCxnSpPr>
            <p:nvPr/>
          </p:nvCxnSpPr>
          <p:spPr>
            <a:xfrm flipH="1" flipV="1" rot="10800000">
              <a:off x="4527360" y="1468080"/>
              <a:ext cx="498960" cy="3737520"/>
            </a:xfrm>
            <a:prstGeom prst="bentConnector4">
              <a:avLst>
                <a:gd name="adj1" fmla="val -72924"/>
                <a:gd name="adj2" fmla="val 52461"/>
              </a:avLst>
            </a:prstGeom>
            <a:ln w="28440">
              <a:solidFill>
                <a:srgbClr val="009900"/>
              </a:solidFill>
              <a:miter/>
              <a:headEnd len="med" type="triangle" w="med"/>
            </a:ln>
          </p:spPr>
        </p:cxnSp>
        <p:sp>
          <p:nvSpPr>
            <p:cNvPr id="387" name=""/>
            <p:cNvSpPr/>
            <p:nvPr/>
          </p:nvSpPr>
          <p:spPr>
            <a:xfrm>
              <a:off x="6537240" y="1227240"/>
              <a:ext cx="914400" cy="457200"/>
            </a:xfrm>
            <a:prstGeom prst="rect">
              <a:avLst/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M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1"/>
              <a:endCxn id="374" idx="3"/>
            </p:cNvCxnSpPr>
            <p:nvPr/>
          </p:nvCxnSpPr>
          <p:spPr>
            <a:xfrm flipV="1" rot="10800000">
              <a:off x="5715720" y="1454400"/>
              <a:ext cx="821520" cy="1192320"/>
            </a:xfrm>
            <a:prstGeom prst="bentConnector3">
              <a:avLst>
                <a:gd name="adj1" fmla="val 49890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523880" y="4800600"/>
              <a:ext cx="1645560" cy="921960"/>
              <a:chOff x="1523880" y="4800600"/>
              <a:chExt cx="1645560" cy="921960"/>
            </a:xfrm>
          </p:grpSpPr>
          <p:sp>
            <p:nvSpPr>
              <p:cNvPr id="390" name=""/>
              <p:cNvSpPr/>
              <p:nvPr/>
            </p:nvSpPr>
            <p:spPr>
              <a:xfrm>
                <a:off x="1523880" y="4800600"/>
                <a:ext cx="1643760" cy="921960"/>
              </a:xfrm>
              <a:prstGeom prst="can">
                <a:avLst>
                  <a:gd name="adj" fmla="val 25000"/>
                </a:avLst>
              </a:prstGeom>
              <a:solidFill>
                <a:srgbClr val="65a2a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000" spc="-1" strike="noStrike">
                    <a:solidFill>
                      <a:srgbClr val="ffffff"/>
                    </a:solidFill>
                    <a:latin typeface="Arial"/>
                  </a:rPr>
                  <a:t>Datab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537200" y="4864320"/>
                <a:ext cx="1632240" cy="587880"/>
                <a:chOff x="1537200" y="4864320"/>
                <a:chExt cx="1632240" cy="5878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537200" y="4864320"/>
                  <a:ext cx="894240" cy="573480"/>
                </a:xfrm>
                <a:prstGeom prst="can">
                  <a:avLst>
                    <a:gd name="adj" fmla="val 25000"/>
                  </a:avLst>
                </a:prstGeom>
                <a:solidFill>
                  <a:srgbClr val="6f689f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Model (R/O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429640" y="4878720"/>
                  <a:ext cx="739800" cy="573480"/>
                </a:xfrm>
                <a:prstGeom prst="can">
                  <a:avLst>
                    <a:gd name="adj" fmla="val 25000"/>
                  </a:avLst>
                </a:prstGeom>
                <a:solidFill>
                  <a:srgbClr val="6f689f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Us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C599-7411-4A16-81FE-86C240B8ABE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inTellec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 inTellect provides the user with the opportunity to view trending information across a given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ect is a separate installation from the Klocwork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6480"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st recent version for use with K7.1 is  inTellect 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 inTellect takes build information from a given project and populates a subset of that information for purposes of display in the inTellect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837E-4B54-4949-BA17-62EA49FA55B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Client and Server Architecture 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ent/server architecture is 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tion and purpose of the major components 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ver are presented and discu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udent will gain an understanding of the layout and purpose of the major functional components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oc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ent/server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0202-7EB7-4842-8DC1-3AE21FEE84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20240"/>
            <a:ext cx="86104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Client and Server Architect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3438360"/>
            <a:ext cx="685800" cy="60336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3360" y="988920"/>
            <a:ext cx="7388280" cy="992160"/>
            <a:chOff x="603360" y="988920"/>
            <a:chExt cx="7388280" cy="992160"/>
          </a:xfrm>
        </p:grpSpPr>
        <p:sp>
          <p:nvSpPr>
            <p:cNvPr id="96" name=""/>
            <p:cNvSpPr/>
            <p:nvPr/>
          </p:nvSpPr>
          <p:spPr>
            <a:xfrm>
              <a:off x="603360" y="988920"/>
              <a:ext cx="7388280" cy="9921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dc54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39560" y="1054080"/>
              <a:ext cx="207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86200" y="1285920"/>
            <a:ext cx="779400" cy="385560"/>
          </a:xfrm>
          <a:prstGeom prst="rect">
            <a:avLst/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59160" y="1257480"/>
            <a:ext cx="1066680" cy="442800"/>
          </a:xfrm>
          <a:prstGeom prst="rect">
            <a:avLst/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Sight Archit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67520" y="1463760"/>
            <a:ext cx="685800" cy="36648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winFo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0440" y="1455840"/>
            <a:ext cx="685800" cy="36648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winSp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" y="1236600"/>
            <a:ext cx="1118880" cy="484200"/>
          </a:xfrm>
          <a:prstGeom prst="rect">
            <a:avLst/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locwork 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al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Web brows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90400" y="3265560"/>
            <a:ext cx="7391520" cy="874440"/>
            <a:chOff x="590400" y="3265560"/>
            <a:chExt cx="7391520" cy="874440"/>
          </a:xfrm>
        </p:grpSpPr>
        <p:sp>
          <p:nvSpPr>
            <p:cNvPr id="104" name=""/>
            <p:cNvSpPr/>
            <p:nvPr/>
          </p:nvSpPr>
          <p:spPr>
            <a:xfrm>
              <a:off x="590400" y="3268440"/>
              <a:ext cx="7391520" cy="8715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c7fea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1560" y="3265560"/>
              <a:ext cx="17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eng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715000" y="3463920"/>
            <a:ext cx="60804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wcc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w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3480" y="3546360"/>
            <a:ext cx="608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wlin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3510000"/>
            <a:ext cx="113508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kwadmi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546360"/>
            <a:ext cx="730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winsp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0400" y="2131920"/>
            <a:ext cx="7391520" cy="1004760"/>
            <a:chOff x="590400" y="2131920"/>
            <a:chExt cx="7391520" cy="1004760"/>
          </a:xfrm>
        </p:grpSpPr>
        <p:sp>
          <p:nvSpPr>
            <p:cNvPr id="111" name=""/>
            <p:cNvSpPr/>
            <p:nvPr/>
          </p:nvSpPr>
          <p:spPr>
            <a:xfrm>
              <a:off x="590400" y="2131920"/>
              <a:ext cx="7391520" cy="10047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d5d5fe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1520" y="213660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306520"/>
            <a:ext cx="5114880" cy="754200"/>
            <a:chOff x="907920" y="2306520"/>
            <a:chExt cx="5114880" cy="754200"/>
          </a:xfrm>
        </p:grpSpPr>
        <p:sp>
          <p:nvSpPr>
            <p:cNvPr id="114" name=""/>
            <p:cNvSpPr/>
            <p:nvPr/>
          </p:nvSpPr>
          <p:spPr>
            <a:xfrm>
              <a:off x="907920" y="2306520"/>
              <a:ext cx="838440" cy="75420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mySQ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7000" y="2533680"/>
              <a:ext cx="685800" cy="5270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icen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FLEXl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81440" y="2533680"/>
              <a:ext cx="920880" cy="3762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 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240" y="2457360"/>
              <a:ext cx="799920" cy="5317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90400" y="4245120"/>
            <a:ext cx="7413840" cy="1167480"/>
            <a:chOff x="590400" y="4245120"/>
            <a:chExt cx="7413840" cy="1167480"/>
          </a:xfrm>
        </p:grpSpPr>
        <p:sp>
          <p:nvSpPr>
            <p:cNvPr id="119" name=""/>
            <p:cNvSpPr/>
            <p:nvPr/>
          </p:nvSpPr>
          <p:spPr>
            <a:xfrm>
              <a:off x="590400" y="4245120"/>
              <a:ext cx="7402680" cy="1160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ee5cd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19480" y="5105520"/>
              <a:ext cx="298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projects_root 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39800" y="4276800"/>
            <a:ext cx="7007040" cy="1089000"/>
            <a:chOff x="739800" y="4276800"/>
            <a:chExt cx="7007040" cy="1089000"/>
          </a:xfrm>
        </p:grpSpPr>
        <p:sp>
          <p:nvSpPr>
            <p:cNvPr id="122" name=""/>
            <p:cNvSpPr/>
            <p:nvPr/>
          </p:nvSpPr>
          <p:spPr>
            <a:xfrm>
              <a:off x="5533920" y="4280040"/>
              <a:ext cx="608040" cy="3682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bject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7720" y="4292640"/>
              <a:ext cx="608040" cy="3682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BK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97280" y="4276800"/>
              <a:ext cx="608040" cy="3682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jec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per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39160" y="4278240"/>
              <a:ext cx="607680" cy="36864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D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35440" y="4286160"/>
              <a:ext cx="608040" cy="36864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tab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9800" y="4346640"/>
              <a:ext cx="608040" cy="36684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Sp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Re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32280" y="4292640"/>
              <a:ext cx="607680" cy="3682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ilter 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41640" y="4286160"/>
              <a:ext cx="685800" cy="36864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nfi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9240" y="4775400"/>
              <a:ext cx="1351080" cy="590400"/>
            </a:xfrm>
            <a:prstGeom prst="can">
              <a:avLst>
                <a:gd name="adj" fmla="val 25000"/>
              </a:avLst>
            </a:prstGeom>
            <a:solidFill>
              <a:srgbClr val="65a2a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62280" y="4810320"/>
              <a:ext cx="608040" cy="36648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0480" y="4800600"/>
              <a:ext cx="607680" cy="36684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odel (R/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553080" y="354816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wintellect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52880" y="1066680"/>
            <a:ext cx="685800" cy="824040"/>
            <a:chOff x="4952880" y="1066680"/>
            <a:chExt cx="685800" cy="824040"/>
          </a:xfrm>
        </p:grpSpPr>
        <p:sp>
          <p:nvSpPr>
            <p:cNvPr id="135" name=""/>
            <p:cNvSpPr/>
            <p:nvPr/>
          </p:nvSpPr>
          <p:spPr>
            <a:xfrm>
              <a:off x="4952880" y="1523880"/>
              <a:ext cx="685800" cy="3668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w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52880" y="1066680"/>
              <a:ext cx="685800" cy="3668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wintel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965840" y="3546360"/>
            <a:ext cx="608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wl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7360" y="3548160"/>
            <a:ext cx="99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wbuild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649E-2117-4BDC-B74D-68415D278CB7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228600" y="914400"/>
            <a:ext cx="4979880" cy="4419360"/>
            <a:chOff x="228600" y="914400"/>
            <a:chExt cx="4979880" cy="4419360"/>
          </a:xfrm>
        </p:grpSpPr>
        <p:sp>
          <p:nvSpPr>
            <p:cNvPr id="140" name=""/>
            <p:cNvSpPr/>
            <p:nvPr/>
          </p:nvSpPr>
          <p:spPr>
            <a:xfrm>
              <a:off x="250920" y="1990440"/>
              <a:ext cx="4903560" cy="12834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d5d5fe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2880" y="4388400"/>
              <a:ext cx="4926240" cy="9453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ee5cd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080" y="3434400"/>
              <a:ext cx="4922640" cy="81036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c7fea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" y="914400"/>
              <a:ext cx="4933800" cy="945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dc54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0320" y="2008800"/>
              <a:ext cx="166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3200" y="923760"/>
              <a:ext cx="25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client 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46440" y="4394160"/>
              <a:ext cx="33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projects_root 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51080" y="3444120"/>
              <a:ext cx="204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locwork eng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3640" y="2657520"/>
              <a:ext cx="685800" cy="514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locwork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43200" y="2678760"/>
              <a:ext cx="685800" cy="4726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icen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FLEXl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23760" y="1327680"/>
              <a:ext cx="914400" cy="405000"/>
            </a:xfrm>
            <a:prstGeom prst="rect">
              <a:avLst/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M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71720" y="1405440"/>
              <a:ext cx="685800" cy="3276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kw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48" idx="0"/>
              <a:endCxn id="151" idx="2"/>
            </p:cNvCxnSpPr>
            <p:nvPr/>
          </p:nvCxnSpPr>
          <p:spPr>
            <a:xfrm flipH="1" flipV="1" rot="5400000">
              <a:off x="1433160" y="1775520"/>
              <a:ext cx="924840" cy="838800"/>
            </a:xfrm>
            <a:prstGeom prst="bentConnector3">
              <a:avLst>
                <a:gd name="adj1" fmla="val 49922"/>
              </a:avLst>
            </a:prstGeom>
            <a:ln w="28440">
              <a:solidFill>
                <a:srgbClr val="339966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9" idx="1"/>
              <a:endCxn id="148" idx="3"/>
            </p:cNvCxnSpPr>
            <p:nvPr/>
          </p:nvCxnSpPr>
          <p:spPr>
            <a:xfrm flipH="1">
              <a:off x="1819080" y="2914560"/>
              <a:ext cx="924480" cy="1080"/>
            </a:xfrm>
            <a:prstGeom prst="straightConnector1">
              <a:avLst/>
            </a:prstGeom>
            <a:ln w="28440">
              <a:solidFill>
                <a:srgbClr val="339966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 flipV="1">
              <a:off x="1371600" y="1732680"/>
              <a:ext cx="0" cy="9241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6040" y="4840200"/>
              <a:ext cx="703080" cy="329040"/>
            </a:xfrm>
            <a:prstGeom prst="can">
              <a:avLst>
                <a:gd name="adj" fmla="val 25000"/>
              </a:avLst>
            </a:prstGeom>
            <a:solidFill>
              <a:srgbClr val="6f689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jec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per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5" idx="1"/>
              <a:endCxn id="148" idx="2"/>
            </p:cNvCxnSpPr>
            <p:nvPr/>
          </p:nvCxnSpPr>
          <p:spPr>
            <a:xfrm flipV="1" rot="16200000">
              <a:off x="1023120" y="3624840"/>
              <a:ext cx="1668240" cy="762840"/>
            </a:xfrm>
            <a:prstGeom prst="bentConnector3">
              <a:avLst>
                <a:gd name="adj1" fmla="val 49946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grpSp>
          <p:nvGrpSpPr>
            <p:cNvPr id="157" name=""/>
            <p:cNvGrpSpPr/>
            <p:nvPr/>
          </p:nvGrpSpPr>
          <p:grpSpPr>
            <a:xfrm>
              <a:off x="1524960" y="1983600"/>
              <a:ext cx="266040" cy="276480"/>
              <a:chOff x="1524960" y="1983600"/>
              <a:chExt cx="266040" cy="276480"/>
            </a:xfrm>
          </p:grpSpPr>
          <p:sp>
            <p:nvSpPr>
              <p:cNvPr id="158" name=""/>
              <p:cNvSpPr/>
              <p:nvPr/>
            </p:nvSpPr>
            <p:spPr>
              <a:xfrm>
                <a:off x="1524960" y="1983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33600" y="1994400"/>
                <a:ext cx="247680" cy="210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049120" y="2647800"/>
              <a:ext cx="266040" cy="276480"/>
              <a:chOff x="2049120" y="2647800"/>
              <a:chExt cx="266040" cy="276480"/>
            </a:xfrm>
          </p:grpSpPr>
          <p:sp>
            <p:nvSpPr>
              <p:cNvPr id="161" name=""/>
              <p:cNvSpPr/>
              <p:nvPr/>
            </p:nvSpPr>
            <p:spPr>
              <a:xfrm>
                <a:off x="2049120" y="26478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7760" y="2661480"/>
                <a:ext cx="247680" cy="210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29880" y="3679200"/>
              <a:ext cx="266040" cy="276480"/>
              <a:chOff x="1829880" y="3679200"/>
              <a:chExt cx="266040" cy="276480"/>
            </a:xfrm>
          </p:grpSpPr>
          <p:sp>
            <p:nvSpPr>
              <p:cNvPr id="164" name=""/>
              <p:cNvSpPr/>
              <p:nvPr/>
            </p:nvSpPr>
            <p:spPr>
              <a:xfrm>
                <a:off x="1829880" y="3679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38520" y="3691800"/>
                <a:ext cx="247680" cy="210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Project Setu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09720" y="990720"/>
            <a:ext cx="3505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: KMC and/or kwadmin is used to set up a pro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: KMC/kwadmin uses the KW Admin server to check licensing entit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: KMC/kwadmin uses the KW Admin server to set project properties, and determine projects_ro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of the following are stored as project properties, for later use when build pro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name and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 code direc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 and system incl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nguage/file type ext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tion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Spect reports to gen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ous other 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8DFF-7CC7-4F0B-811C-C9E585DEA2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2200" y="469800"/>
            <a:ext cx="7548480" cy="2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Build Proces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0400" y="1943280"/>
            <a:ext cx="7535880" cy="928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d5d5fe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0400" y="4038480"/>
            <a:ext cx="7562880" cy="1171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5cd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600" y="2971800"/>
            <a:ext cx="7565760" cy="9144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b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0400" y="1057320"/>
            <a:ext cx="7543800" cy="771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dc54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" y="198108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9040" y="1066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24320" y="490212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projects_root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000" y="29113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2895480"/>
            <a:ext cx="685800" cy="60984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3124080"/>
            <a:ext cx="608040" cy="54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Comp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kw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114800"/>
            <a:ext cx="60804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ject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7560" y="3218040"/>
            <a:ext cx="607680" cy="371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kwlin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72040" y="4113360"/>
            <a:ext cx="608040" cy="37116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loc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Arial"/>
              </a:rPr>
              <a:t>t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014560"/>
            <a:ext cx="685800" cy="59364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locwork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0240" y="3184560"/>
            <a:ext cx="1135080" cy="44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Load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(kwadmi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004840"/>
            <a:ext cx="685800" cy="61308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ce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FLEXl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1104840"/>
            <a:ext cx="914400" cy="457200"/>
          </a:xfrm>
          <a:prstGeom prst="rect">
            <a:avLst/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61920" y="4100400"/>
            <a:ext cx="60804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Sp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1125360"/>
            <a:ext cx="685800" cy="37008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w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01800" y="3227400"/>
            <a:ext cx="730440" cy="37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kwinsp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32280" y="4376880"/>
            <a:ext cx="607680" cy="37116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ter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65480" y="4091040"/>
            <a:ext cx="68580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f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4800600"/>
            <a:ext cx="60804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je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0" idx="0"/>
            <a:endCxn id="184" idx="3"/>
          </p:cNvCxnSpPr>
          <p:nvPr/>
        </p:nvCxnSpPr>
        <p:spPr>
          <a:xfrm flipH="1" flipV="1" rot="5400000">
            <a:off x="5197680" y="2014920"/>
            <a:ext cx="907200" cy="1499400"/>
          </a:xfrm>
          <a:prstGeom prst="curvedConnector5">
            <a:avLst>
              <a:gd name="adj1" fmla="val 33068"/>
              <a:gd name="adj2" fmla="val 57612"/>
              <a:gd name="adj3" fmla="val 33068"/>
            </a:avLst>
          </a:prstGeom>
          <a:ln w="28440">
            <a:solidFill>
              <a:srgbClr val="009900"/>
            </a:solidFill>
            <a:prstDash val="sysDot"/>
            <a:miter/>
            <a:head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5638680" y="4495680"/>
            <a:ext cx="608040" cy="371520"/>
          </a:xfrm>
          <a:prstGeom prst="can">
            <a:avLst>
              <a:gd name="adj" fmla="val 17523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B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15200" y="4267080"/>
            <a:ext cx="60804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19240" y="4533840"/>
            <a:ext cx="1351080" cy="596880"/>
          </a:xfrm>
          <a:prstGeom prst="can">
            <a:avLst>
              <a:gd name="adj" fmla="val 25000"/>
            </a:avLst>
          </a:prstGeom>
          <a:solidFill>
            <a:srgbClr val="65a2a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30480" y="4559400"/>
            <a:ext cx="60768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 (R/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62280" y="4568760"/>
            <a:ext cx="60804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77" idx="3"/>
            <a:endCxn id="178" idx="3"/>
          </p:cNvCxnSpPr>
          <p:nvPr/>
        </p:nvCxnSpPr>
        <p:spPr>
          <a:xfrm flipV="1" rot="16200000">
            <a:off x="8192520" y="3124800"/>
            <a:ext cx="110520" cy="650160"/>
          </a:xfrm>
          <a:prstGeom prst="bentConnector4">
            <a:avLst>
              <a:gd name="adj1" fmla="val -208496"/>
              <a:gd name="adj2" fmla="val 76509"/>
            </a:avLst>
          </a:prstGeom>
          <a:ln w="25560">
            <a:solidFill>
              <a:srgbClr val="339966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78" idx="1"/>
            <a:endCxn id="179" idx="4"/>
          </p:cNvCxnSpPr>
          <p:nvPr/>
        </p:nvCxnSpPr>
        <p:spPr>
          <a:xfrm flipV="1" rot="10800000">
            <a:off x="7008120" y="3395160"/>
            <a:ext cx="306720" cy="905760"/>
          </a:xfrm>
          <a:prstGeom prst="bentConnector3">
            <a:avLst>
              <a:gd name="adj1" fmla="val 50293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00" name=""/>
          <p:cNvCxnSpPr/>
          <p:nvPr/>
        </p:nvCxnSpPr>
        <p:spPr>
          <a:xfrm rot="10800000">
            <a:off x="6095160" y="3580560"/>
            <a:ext cx="534240" cy="729360"/>
          </a:xfrm>
          <a:prstGeom prst="bentConnector2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1" idx="1"/>
            <a:endCxn id="183" idx="2"/>
          </p:cNvCxnSpPr>
          <p:nvPr/>
        </p:nvCxnSpPr>
        <p:spPr>
          <a:xfrm flipV="1" rot="16200000">
            <a:off x="3916800" y="3553200"/>
            <a:ext cx="482040" cy="638280"/>
          </a:xfrm>
          <a:prstGeom prst="curvedConnector5">
            <a:avLst>
              <a:gd name="adj1" fmla="val 49775"/>
              <a:gd name="adj2" fmla="val 50000"/>
              <a:gd name="adj3" fmla="val 49775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2"/>
            <a:endCxn id="181" idx="1"/>
          </p:cNvCxnSpPr>
          <p:nvPr/>
        </p:nvCxnSpPr>
        <p:spPr>
          <a:xfrm rot="5400000">
            <a:off x="4426560" y="3638520"/>
            <a:ext cx="524880" cy="426240"/>
          </a:xfrm>
          <a:prstGeom prst="curvedConnector5">
            <a:avLst>
              <a:gd name="adj1" fmla="val 49965"/>
              <a:gd name="adj2" fmla="val 49957"/>
              <a:gd name="adj3" fmla="val 49965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4" idx="1"/>
            <a:endCxn id="182" idx="3"/>
          </p:cNvCxnSpPr>
          <p:nvPr/>
        </p:nvCxnSpPr>
        <p:spPr>
          <a:xfrm flipH="1">
            <a:off x="4876560" y="2311200"/>
            <a:ext cx="838800" cy="1080"/>
          </a:xfrm>
          <a:prstGeom prst="straightConnector1">
            <a:avLst/>
          </a:prstGeom>
          <a:ln w="2844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cxnSp>
        <p:nvCxnSpPr>
          <p:cNvPr id="204" name=""/>
          <p:cNvCxnSpPr>
            <a:stCxn id="181" idx="2"/>
            <a:endCxn id="188" idx="3"/>
          </p:cNvCxnSpPr>
          <p:nvPr/>
        </p:nvCxnSpPr>
        <p:spPr>
          <a:xfrm rot="10800000">
            <a:off x="2531520" y="3412440"/>
            <a:ext cx="1640520" cy="8866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2844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5" name=""/>
          <p:cNvCxnSpPr>
            <a:stCxn id="188" idx="1"/>
            <a:endCxn id="186" idx="1"/>
          </p:cNvCxnSpPr>
          <p:nvPr/>
        </p:nvCxnSpPr>
        <p:spPr>
          <a:xfrm flipV="1" rot="10800000">
            <a:off x="1266120" y="3412080"/>
            <a:ext cx="535680" cy="687960"/>
          </a:xfrm>
          <a:prstGeom prst="bentConnector2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89" idx="1"/>
            <a:endCxn id="188" idx="3"/>
          </p:cNvCxnSpPr>
          <p:nvPr/>
        </p:nvCxnSpPr>
        <p:spPr>
          <a:xfrm flipV="1" rot="16200000">
            <a:off x="2451960" y="3492000"/>
            <a:ext cx="964440" cy="805320"/>
          </a:xfrm>
          <a:prstGeom prst="curvedConnector2">
            <a:avLst/>
          </a:prstGeom>
          <a:ln w="284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" name=""/>
          <p:cNvCxnSpPr>
            <a:stCxn id="190" idx="1"/>
            <a:endCxn id="188" idx="3"/>
          </p:cNvCxnSpPr>
          <p:nvPr/>
        </p:nvCxnSpPr>
        <p:spPr>
          <a:xfrm flipV="1" rot="16200000">
            <a:off x="2230560" y="3713400"/>
            <a:ext cx="678600" cy="76680"/>
          </a:xfrm>
          <a:prstGeom prst="curvedConnector2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1" idx="1"/>
            <a:endCxn id="182" idx="2"/>
          </p:cNvCxnSpPr>
          <p:nvPr/>
        </p:nvCxnSpPr>
        <p:spPr>
          <a:xfrm flipH="1" flipV="1" rot="5400000">
            <a:off x="3227760" y="3494520"/>
            <a:ext cx="2193120" cy="419760"/>
          </a:xfrm>
          <a:prstGeom prst="bentConnector3">
            <a:avLst>
              <a:gd name="adj1" fmla="val 49958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88" idx="0"/>
            <a:endCxn id="184" idx="2"/>
          </p:cNvCxnSpPr>
          <p:nvPr/>
        </p:nvCxnSpPr>
        <p:spPr>
          <a:xfrm flipH="1" flipV="1" rot="5400000">
            <a:off x="3807360" y="976320"/>
            <a:ext cx="610200" cy="389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9900"/>
            </a:solidFill>
            <a:prstDash val="sysDot"/>
            <a:miter/>
            <a:headEnd len="med" type="triangle" w="med"/>
          </a:ln>
        </p:spPr>
      </p:cxnSp>
      <p:cxnSp>
        <p:nvCxnSpPr>
          <p:cNvPr id="210" name=""/>
          <p:cNvCxnSpPr>
            <a:stCxn id="194" idx="1"/>
            <a:endCxn id="178" idx="2"/>
          </p:cNvCxnSpPr>
          <p:nvPr/>
        </p:nvCxnSpPr>
        <p:spPr>
          <a:xfrm flipV="1">
            <a:off x="7619760" y="3664800"/>
            <a:ext cx="1080" cy="602280"/>
          </a:xfrm>
          <a:prstGeom prst="bentConnector2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5" idx="1"/>
            <a:endCxn id="188" idx="2"/>
          </p:cNvCxnSpPr>
          <p:nvPr/>
        </p:nvCxnSpPr>
        <p:spPr>
          <a:xfrm flipH="1" flipV="1" rot="5400000">
            <a:off x="1513440" y="3880080"/>
            <a:ext cx="935640" cy="372240"/>
          </a:xfrm>
          <a:prstGeom prst="curvedConnector5">
            <a:avLst>
              <a:gd name="adj1" fmla="val 49884"/>
              <a:gd name="adj2" fmla="val 49951"/>
              <a:gd name="adj3" fmla="val 49884"/>
            </a:avLst>
          </a:prstGeom>
          <a:ln w="284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"/>
          <p:cNvCxnSpPr>
            <a:stCxn id="183" idx="2"/>
            <a:endCxn id="195" idx="3"/>
          </p:cNvCxnSpPr>
          <p:nvPr/>
        </p:nvCxnSpPr>
        <p:spPr>
          <a:xfrm rot="5400000">
            <a:off x="2067120" y="3359520"/>
            <a:ext cx="1499400" cy="2044080"/>
          </a:xfrm>
          <a:prstGeom prst="bentConnector3">
            <a:avLst>
              <a:gd name="adj1" fmla="val 115249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82" idx="0"/>
            <a:endCxn id="187" idx="2"/>
          </p:cNvCxnSpPr>
          <p:nvPr/>
        </p:nvCxnSpPr>
        <p:spPr>
          <a:xfrm flipH="1" flipV="1" rot="5400000">
            <a:off x="4731120" y="1297440"/>
            <a:ext cx="519840" cy="915120"/>
          </a:xfrm>
          <a:prstGeom prst="bentConnector3">
            <a:avLst>
              <a:gd name="adj1" fmla="val 49826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4267080" y="1523880"/>
            <a:ext cx="0" cy="533520"/>
          </a:xfrm>
          <a:prstGeom prst="line">
            <a:avLst/>
          </a:prstGeom>
          <a:ln w="2844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/>
          <p:nvPr/>
        </p:nvCxnSpPr>
        <p:spPr>
          <a:xfrm flipV="1">
            <a:off x="5943240" y="3580560"/>
            <a:ext cx="1080" cy="885240"/>
          </a:xfrm>
          <a:prstGeom prst="bentConnector2">
            <a:avLst/>
          </a:prstGeom>
          <a:ln w="2844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6" name=""/>
          <p:cNvCxnSpPr>
            <a:stCxn id="217" idx="0"/>
            <a:endCxn id="218" idx="1"/>
          </p:cNvCxnSpPr>
          <p:nvPr/>
        </p:nvCxnSpPr>
        <p:spPr>
          <a:xfrm rot="5400000">
            <a:off x="5219640" y="3313800"/>
            <a:ext cx="915120" cy="687960"/>
          </a:xfrm>
          <a:prstGeom prst="bentConnector3">
            <a:avLst>
              <a:gd name="adj1" fmla="val 25147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5716440" y="3200400"/>
            <a:ext cx="608040" cy="37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KWL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180" idx="2"/>
          </p:cNvCxnSpPr>
          <p:nvPr/>
        </p:nvCxnSpPr>
        <p:spPr>
          <a:xfrm flipV="1" rot="16200000">
            <a:off x="4669200" y="3821040"/>
            <a:ext cx="897840" cy="432720"/>
          </a:xfrm>
          <a:prstGeom prst="bentConnector3">
            <a:avLst>
              <a:gd name="adj1" fmla="val 25471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029200" y="4114800"/>
            <a:ext cx="60804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ject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les (Er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3910-3397-4D46-980F-EDEE48785154}" type="slidenum">
              <a:t>5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Build Process Overvie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project build is a single invocation of the Klocwork engines on a specific pro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ch project build contains the reports and databases required by the Klocwork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eight steps in creating a project build, although typically these can be covered through 3 separate comman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ecide on which files are to be compi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1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a buildspec fi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kwinject/kwwr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he source files are compiled, and object files are created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wbuild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he object files are analyzed generating object files with error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wbuild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4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he object files are linked to create Klocwork table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wbuild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5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evious model data is propagated for the new build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wadmin build-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6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he inSpect data defined for the project are generated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wadmin build-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7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he database is loaded with the Klocwork table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wadmin build-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C979-52C9-480D-803F-C89EAD4D436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Standard Build Proces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min server uses the project information to automatically handle the core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ile source files with the appropriat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 object files to generate errors and FBKB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object files to creat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gate any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a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atabase to be used by inSight Architect and for viewing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ject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inSpect report data based on project settings for the viewing of report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oc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ject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5973-8BD7-44F9-AC36-225ED6C3A6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</a:t>
            </a:r>
            <a:r>
              <a:rPr b="1" lang="en-CA" sz="2400" spc="-1" strike="noStrike">
                <a:solidFill>
                  <a:srgbClr val="000066"/>
                </a:solidFill>
                <a:latin typeface="Arial"/>
              </a:rPr>
              <a:t>Custom Build Proces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0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, a custom build process script will be configured for a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build process will follow this set of steps to some deg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600" indent="-40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winject | kwwrap | kwVcprojParser | kwDspParser |(MANUAL APPRO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75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o generate a buildspec file which defines the set of options to be used with each compile, as well as how these files are lin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8600" indent="-40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Kwbuild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75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is step will typical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8680" indent="-3265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Generate initial .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8680" indent="-3265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Run analysis against .o files to generate new FBKB files, and augment .o’s with error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8680" indent="-3265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ink files to generate Klocwork tables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8600" indent="-40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dify tables output for local CM us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600" indent="-40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Kwadmin build-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75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is step will typical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8680" indent="-3265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oad tables into the mysql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8680" indent="-3265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pagate model and defect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8600" indent="-40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ave any pertinent data for use with inForc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52B5-538C-4F9A-AB98-B25DFB6C93F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90400" y="2058840"/>
            <a:ext cx="7535880" cy="144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d5d5fe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0400" y="4764240"/>
            <a:ext cx="758052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5cd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0400" y="3687840"/>
            <a:ext cx="7566120" cy="9144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c7feab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0400" y="844560"/>
            <a:ext cx="7543800" cy="1066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dc54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65240" y="20700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45840" y="85716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3800" y="475776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projects_root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54080" y="36892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locwork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2200" y="341280"/>
            <a:ext cx="7548480" cy="2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Sigh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27400" y="6827760"/>
            <a:ext cx="5076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KLOCwork inSight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91520" y="3916440"/>
            <a:ext cx="685800" cy="68580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67080" y="2622600"/>
            <a:ext cx="685800" cy="55872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locwork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2800" y="2482920"/>
            <a:ext cx="838080" cy="83808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locwork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mySQ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95760" y="2635200"/>
            <a:ext cx="685800" cy="533520"/>
          </a:xfrm>
          <a:prstGeom prst="rect">
            <a:avLst/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ce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FLEXl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24080" y="1373040"/>
            <a:ext cx="1162080" cy="447840"/>
          </a:xfrm>
          <a:prstGeom prst="rect">
            <a:avLst/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Sight Archit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7" idx="0"/>
            <a:endCxn id="240" idx="2"/>
          </p:cNvCxnSpPr>
          <p:nvPr/>
        </p:nvCxnSpPr>
        <p:spPr>
          <a:xfrm flipV="1" rot="16200000">
            <a:off x="2405880" y="2218680"/>
            <a:ext cx="802440" cy="5400"/>
          </a:xfrm>
          <a:prstGeom prst="bentConnector3">
            <a:avLst>
              <a:gd name="adj1" fmla="val 49865"/>
            </a:avLst>
          </a:prstGeom>
          <a:ln w="2844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1"/>
            <a:endCxn id="237" idx="3"/>
          </p:cNvCxnSpPr>
          <p:nvPr/>
        </p:nvCxnSpPr>
        <p:spPr>
          <a:xfrm flipH="1">
            <a:off x="3152520" y="2901600"/>
            <a:ext cx="543600" cy="1080"/>
          </a:xfrm>
          <a:prstGeom prst="straightConnector1">
            <a:avLst/>
          </a:prstGeom>
          <a:ln w="2844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cxnSp>
        <p:nvCxnSpPr>
          <p:cNvPr id="243" name=""/>
          <p:cNvCxnSpPr>
            <a:stCxn id="238" idx="4"/>
            <a:endCxn id="237" idx="1"/>
          </p:cNvCxnSpPr>
          <p:nvPr/>
        </p:nvCxnSpPr>
        <p:spPr>
          <a:xfrm>
            <a:off x="1550520" y="2901600"/>
            <a:ext cx="916920" cy="1080"/>
          </a:xfrm>
          <a:prstGeom prst="bentConnector2">
            <a:avLst/>
          </a:prstGeom>
          <a:ln w="284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4" name=""/>
          <p:cNvCxnSpPr>
            <a:stCxn id="236" idx="1"/>
            <a:endCxn id="237" idx="2"/>
          </p:cNvCxnSpPr>
          <p:nvPr/>
        </p:nvCxnSpPr>
        <p:spPr>
          <a:xfrm flipV="1" rot="16200000">
            <a:off x="5353920" y="636120"/>
            <a:ext cx="735840" cy="5825160"/>
          </a:xfrm>
          <a:prstGeom prst="bentConnector3">
            <a:avLst>
              <a:gd name="adj1" fmla="val 49877"/>
            </a:avLst>
          </a:prstGeom>
          <a:ln w="28440">
            <a:solidFill>
              <a:srgbClr val="009900"/>
            </a:solidFill>
            <a:prstDash val="dash"/>
            <a:miter/>
            <a:tailEnd len="med" type="triangle" w="med"/>
          </a:ln>
        </p:spPr>
      </p:cxnSp>
      <p:cxnSp>
        <p:nvCxnSpPr>
          <p:cNvPr id="245" name=""/>
          <p:cNvCxnSpPr>
            <a:stCxn id="246" idx="1"/>
            <a:endCxn id="237" idx="3"/>
          </p:cNvCxnSpPr>
          <p:nvPr/>
        </p:nvCxnSpPr>
        <p:spPr>
          <a:xfrm flipV="1" rot="16200000">
            <a:off x="2410200" y="3643560"/>
            <a:ext cx="2296080" cy="811800"/>
          </a:xfrm>
          <a:prstGeom prst="curvedConnector2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659040" y="5197320"/>
            <a:ext cx="60804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je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/>
          <p:nvPr/>
        </p:nvCxnSpPr>
        <p:spPr>
          <a:xfrm flipH="1" rot="16200000">
            <a:off x="3127320" y="1613520"/>
            <a:ext cx="815040" cy="1229400"/>
          </a:xfrm>
          <a:prstGeom prst="curvedConnector5">
            <a:avLst>
              <a:gd name="adj1" fmla="val 49889"/>
              <a:gd name="adj2" fmla="val 50000"/>
              <a:gd name="adj3" fmla="val 49889"/>
            </a:avLst>
          </a:prstGeom>
          <a:ln w="28440">
            <a:solidFill>
              <a:srgbClr val="009900"/>
            </a:solidFill>
            <a:prstDash val="sysDot"/>
            <a:miter/>
            <a:headEnd len="med" type="triangle" w="med"/>
          </a:ln>
        </p:spPr>
      </p:cxnSp>
      <p:cxnSp>
        <p:nvCxnSpPr>
          <p:cNvPr id="248" name=""/>
          <p:cNvCxnSpPr/>
          <p:nvPr/>
        </p:nvCxnSpPr>
        <p:spPr>
          <a:xfrm flipH="1" flipV="1" rot="5400000">
            <a:off x="1550520" y="1312200"/>
            <a:ext cx="662760" cy="1678680"/>
          </a:xfrm>
          <a:prstGeom prst="curvedConnector5">
            <a:avLst>
              <a:gd name="adj1" fmla="val 49836"/>
              <a:gd name="adj2" fmla="val 50000"/>
              <a:gd name="adj3" fmla="val 49836"/>
            </a:avLst>
          </a:prstGeom>
          <a:ln w="28440">
            <a:solidFill>
              <a:srgbClr val="009900"/>
            </a:solidFill>
            <a:miter/>
            <a:headEnd len="med" type="triangle" w="med"/>
          </a:ln>
        </p:spPr>
      </p:cxnSp>
      <p:cxnSp>
        <p:nvCxnSpPr>
          <p:cNvPr id="249" name=""/>
          <p:cNvCxnSpPr>
            <a:stCxn id="238" idx="3"/>
            <a:endCxn id="250" idx="2"/>
          </p:cNvCxnSpPr>
          <p:nvPr/>
        </p:nvCxnSpPr>
        <p:spPr>
          <a:xfrm flipH="1" rot="16200000">
            <a:off x="298440" y="4154040"/>
            <a:ext cx="2099520" cy="432720"/>
          </a:xfrm>
          <a:prstGeom prst="bentConnector2">
            <a:avLst/>
          </a:prstGeom>
          <a:ln w="284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1563840" y="5092560"/>
            <a:ext cx="1350720" cy="652680"/>
          </a:xfrm>
          <a:prstGeom prst="can">
            <a:avLst>
              <a:gd name="adj" fmla="val 25000"/>
            </a:avLst>
          </a:prstGeom>
          <a:solidFill>
            <a:srgbClr val="65a2a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30440" y="5140440"/>
            <a:ext cx="60804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 (R/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39920" y="5149800"/>
            <a:ext cx="608040" cy="371520"/>
          </a:xfrm>
          <a:prstGeom prst="can">
            <a:avLst>
              <a:gd name="adj" fmla="val 25000"/>
            </a:avLst>
          </a:prstGeom>
          <a:solidFill>
            <a:srgbClr val="6f689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FF1C-B3F3-490D-948B-D430C0C10A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20:42:19Z</dcterms:created>
  <dc:creator>Norm Rajala</dc:creator>
  <dc:description/>
  <dc:language>en-US</dc:language>
  <cp:lastModifiedBy>Mark Grice</cp:lastModifiedBy>
  <cp:lastPrinted>2004-04-07T16:09:40Z</cp:lastPrinted>
  <dcterms:modified xsi:type="dcterms:W3CDTF">2006-10-18T02:43:21Z</dcterms:modified>
  <cp:revision>427</cp:revision>
  <dc:subject/>
  <dc:title>PowerPoint Presentation</dc:title>
</cp:coreProperties>
</file>