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2"/>
          </p:nvPr>
        </p:nvSpPr>
        <p:spPr>
          <a:xfrm>
            <a:off x="402264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lstStyle>
            <a:lvl1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990360" y="766440"/>
            <a:ext cx="5118120" cy="3838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3"/>
          </p:nvPr>
        </p:nvSpPr>
        <p:spPr>
          <a:xfrm>
            <a:off x="0" y="972180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marL="216000"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4"/>
          </p:nvPr>
        </p:nvSpPr>
        <p:spPr>
          <a:xfrm>
            <a:off x="4022640" y="972180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7BAC9498-B12E-45A4-8346-07CCFD24578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4022640" y="972180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3997DF7-CC98-4F12-8728-C599B53FB12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0" y="972180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02264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001880" y="774720"/>
            <a:ext cx="5099040" cy="382428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31800" y="5202360"/>
            <a:ext cx="5835600" cy="426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4022640" y="972180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6E5ED5A-729A-4800-A6A6-8567785845B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0" y="972180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02264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001880" y="774720"/>
            <a:ext cx="5099040" cy="382428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31800" y="5202360"/>
            <a:ext cx="5835600" cy="426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4022640" y="972180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4F09D7F-0FB9-4F60-8AD1-CF696D99F00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0" y="972180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02264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001880" y="774720"/>
            <a:ext cx="5099040" cy="382428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31800" y="5202360"/>
            <a:ext cx="5835600" cy="426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4022640" y="972180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0A97A03-0904-409B-A3F5-6BAB3323CB9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0" y="972180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02264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001880" y="774720"/>
            <a:ext cx="5099040" cy="382428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31800" y="5202360"/>
            <a:ext cx="5835600" cy="426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F87BE6-2DD4-4D40-B799-C640C6F1B8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3352680"/>
            <a:ext cx="80024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34ED6C-F681-46EB-891B-F16F476FD5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3352680"/>
            <a:ext cx="80024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B9EC4C-E96A-46F5-803E-593E6999EC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3352680"/>
            <a:ext cx="80024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901F57-F1AA-48D2-ABB5-48A40AC0A4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3352680"/>
            <a:ext cx="80024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3352680"/>
            <a:ext cx="80024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3352680"/>
            <a:ext cx="80024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3352680"/>
            <a:ext cx="80024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3352680"/>
            <a:ext cx="800244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3352680"/>
            <a:ext cx="80024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3352680"/>
            <a:ext cx="80024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0C96CD-E36F-48EC-AC14-9DDB922DB7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3352680"/>
            <a:ext cx="80024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3352680"/>
            <a:ext cx="80024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3352680"/>
            <a:ext cx="80024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3352680"/>
            <a:ext cx="80024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3352680"/>
            <a:ext cx="80024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3352680"/>
            <a:ext cx="80024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279ECC-C9B8-43EC-AB45-C2D2E0D24D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3352680"/>
            <a:ext cx="80024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004869-29F9-467B-BCC0-71AC36FDAE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3352680"/>
            <a:ext cx="80024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775B5B-7275-4441-9594-9C9E5B3194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3352680"/>
            <a:ext cx="800244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E66DA1-033E-45E0-B9FA-FE506515FD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3352680"/>
            <a:ext cx="80024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59F121-A062-413B-B78C-C1602412B1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3352680"/>
            <a:ext cx="80024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35C6AF-3757-4CFD-90B0-84548B8A13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3352680"/>
            <a:ext cx="80024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0C6BF4-F385-4373-A8FE-2B37751DE7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7920" y="-1440"/>
            <a:ext cx="9159840" cy="68608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000066"/>
              </a:buClr>
              <a:buFont typeface="Webdings" charset="2"/>
              <a:buChar char="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8077320" y="6692400"/>
            <a:ext cx="91440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8AA24-4A95-4B28-B1B6-4C62D6B89EDD}" type="slidenum">
              <a:rPr b="0" lang="en-US" sz="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5232240" y="6553080"/>
            <a:ext cx="3810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66"/>
                </a:solidFill>
                <a:latin typeface="Arial"/>
              </a:rPr>
              <a:t>Klocwork Inc. Confidential © 1998-2006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rcRect l="0" t="0" r="17858" b="1125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3352680"/>
            <a:ext cx="80024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80880" y="6338880"/>
            <a:ext cx="160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A445E-B782-4AF4-8163-BD9F242A6A1B}" type="datetime2">
              <a:rPr b="0" lang="en-US" sz="800" spc="-1" strike="noStrike">
                <a:solidFill>
                  <a:srgbClr val="000066"/>
                </a:solidFill>
                <a:latin typeface="Arial"/>
              </a:rPr>
              <a:t>Thursday, July 30, 20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00006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3" marL="1371600" algn="ctr">
              <a:spcBef>
                <a:spcPts val="349"/>
              </a:spcBef>
              <a:buClr>
                <a:srgbClr val="00006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lvl="4" marL="1828800" algn="ctr">
              <a:spcBef>
                <a:spcPts val="300"/>
              </a:spcBef>
              <a:buClr>
                <a:srgbClr val="000066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lvl="5" marL="18288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lvl="6" marL="18288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1920" y="48765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 Black"/>
              </a:rPr>
              <a:t>Klocwork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Approach to Architecture Improvement – K7</a:t>
            </a:r>
            <a:br>
              <a:rPr sz="2400"/>
            </a:b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 Black"/>
              </a:rPr>
              <a:t>Klocwork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Approach to Architecture Improvement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The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Klocwork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approach to architecture recovery and modeling is introduced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The stages of a managed architecture defined by the Software Engineering Institute Capability Maturity Model are discussed and the applicability of the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Klocwork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inSight Architect and inSpect in those stages is presented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Upon completion of this module the student will understand what is meant by the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Klocwork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approach to architecture management and how it fits with the SEI CMM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2B13E8-272C-4081-9C52-6D9529CF8974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mproving Architecture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838080"/>
            <a:ext cx="8085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3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The Software Engineering Institute Capability Maturity Model</a:t>
            </a:r>
            <a:r>
              <a:rPr b="0" lang="en-CA" sz="1800" spc="-1" strike="noStrike">
                <a:solidFill>
                  <a:srgbClr val="000066"/>
                </a:solidFill>
                <a:latin typeface="Arial"/>
              </a:rPr>
              <a:t> refers to the architecture of the existing software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66"/>
                </a:solidFill>
                <a:latin typeface="Arial"/>
              </a:rPr>
              <a:t>Level 1: </a:t>
            </a:r>
            <a:r>
              <a:rPr b="1" lang="en-CA" sz="1600" spc="-1" strike="noStrike">
                <a:solidFill>
                  <a:srgbClr val="000066"/>
                </a:solidFill>
                <a:latin typeface="Arial"/>
              </a:rPr>
              <a:t>Initial architecture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66"/>
                </a:solidFill>
                <a:latin typeface="Arial"/>
              </a:rPr>
              <a:t>Level 2: </a:t>
            </a:r>
            <a:r>
              <a:rPr b="1" lang="en-CA" sz="1600" spc="-1" strike="noStrike">
                <a:solidFill>
                  <a:srgbClr val="000066"/>
                </a:solidFill>
                <a:latin typeface="Arial"/>
              </a:rPr>
              <a:t>Repeatable architecture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2" marL="858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66"/>
                </a:solidFill>
                <a:latin typeface="Arial"/>
              </a:rPr>
              <a:t>Some packaging rules, some use of libraries, some code reuse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lvl="2" marL="858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66"/>
                </a:solidFill>
                <a:latin typeface="Arial"/>
              </a:rPr>
              <a:t>Level 3: </a:t>
            </a:r>
            <a:r>
              <a:rPr b="1" lang="en-CA" sz="1600" spc="-1" strike="noStrike">
                <a:solidFill>
                  <a:srgbClr val="000066"/>
                </a:solidFill>
                <a:latin typeface="Arial"/>
              </a:rPr>
              <a:t>Defined architecture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2" marL="858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66"/>
                </a:solidFill>
                <a:latin typeface="Arial"/>
              </a:rPr>
              <a:t>Components and their interfaces are formally defined and maintained together with the rest of the code, component environment is used, modelling tools like Rational Rose are used.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lvl="2" marL="858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66"/>
                </a:solidFill>
                <a:latin typeface="Arial"/>
              </a:rPr>
              <a:t>Level 4: </a:t>
            </a:r>
            <a:r>
              <a:rPr b="1" lang="en-CA" sz="1600" spc="-1" strike="noStrike">
                <a:solidFill>
                  <a:srgbClr val="000066"/>
                </a:solidFill>
                <a:latin typeface="Arial"/>
              </a:rPr>
              <a:t>Managed architecture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2" marL="858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66"/>
                </a:solidFill>
                <a:latin typeface="Arial"/>
              </a:rPr>
              <a:t>Visualization of existing software is available, feedback between the “as designed” architecture and the “as built” architecture is available, metrics of existing architecture are used, architecture integrity is enforced.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lvl="2" marL="858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66"/>
                </a:solidFill>
                <a:latin typeface="Arial"/>
              </a:rPr>
              <a:t>Level 5: </a:t>
            </a:r>
            <a:r>
              <a:rPr b="1" lang="en-CA" sz="1600" spc="-1" strike="noStrike">
                <a:solidFill>
                  <a:srgbClr val="000066"/>
                </a:solidFill>
                <a:latin typeface="Arial"/>
              </a:rPr>
              <a:t>Optimizing architecture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2" marL="858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66"/>
                </a:solidFill>
                <a:latin typeface="Arial"/>
              </a:rPr>
              <a:t>On-going architecture improvement is part of the overall development process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9CCD13-BE90-4AE2-A501-B1C45DC0BFF4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 Black"/>
              </a:rPr>
              <a:t>Klocwork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Approach to Architecture Modeling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Use the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Klocwork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Engine to build a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Klocwork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Database with the initial containment hierarchy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Use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Klocwork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inSight Architect to visualize the existing containment hierarchy and rearrange to reflect ideal hierarchy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Use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Klocwork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inSight Architect to investigate anomalies and repairs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Export the model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ompose Architecture Rules to capture and enforce the new containment hierarchy using the model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Use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Klocwork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inForce to apply Architecture Rules to subsequent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Klocwork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Database datasets to create actionable lists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8754C5-E547-445C-ADF3-928DB07862E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tep 1- Re-discover the Architecture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33080"/>
            <a:ext cx="8229600" cy="48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3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When the software is not properly managed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1960" indent="-223920">
              <a:spcBef>
                <a:spcPts val="451"/>
              </a:spcBef>
              <a:buClr>
                <a:srgbClr val="00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The original architecture vision becomes hidden under the implementation details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561960" indent="-223920">
              <a:spcBef>
                <a:spcPts val="451"/>
              </a:spcBef>
              <a:buClr>
                <a:srgbClr val="00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The architecture is easily distorted by uninformed implementation decisions (such as accidental placement of functionality to files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223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As the result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1960" indent="-223920">
              <a:spcBef>
                <a:spcPts val="451"/>
              </a:spcBef>
              <a:buClr>
                <a:srgbClr val="00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The initial packages and dependencies are highly complex. You need to: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858960" indent="-182520">
              <a:spcBef>
                <a:spcPts val="4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Clean up the architectural picture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2" marL="858960" indent="-182520">
              <a:spcBef>
                <a:spcPts val="4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cover improper dependencies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2" marL="858960" indent="-182520">
              <a:spcBef>
                <a:spcPts val="4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cover extraneous dependencies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223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Re-discover the lost architecture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1960" indent="-223920">
              <a:spcBef>
                <a:spcPts val="451"/>
              </a:spcBef>
              <a:buClr>
                <a:srgbClr val="00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By actively transforming the initial containment hierarchy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57D100-2A8C-4D1A-8618-C4D9848BE746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Process of </a:t>
            </a:r>
            <a:r>
              <a:rPr b="1" lang="en-CA" sz="2400" spc="-1" strike="noStrike">
                <a:solidFill>
                  <a:srgbClr val="000066"/>
                </a:solidFill>
                <a:latin typeface="Arial"/>
              </a:rPr>
              <a:t>Architecture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Re-discovery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957240" y="2238480"/>
            <a:ext cx="2139840" cy="157140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2133720" y="1946160"/>
            <a:ext cx="2020680" cy="155592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3362400" y="1717560"/>
            <a:ext cx="2135160" cy="154332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  <p:grpSp>
        <p:nvGrpSpPr>
          <p:cNvPr id="101" name=""/>
          <p:cNvGrpSpPr/>
          <p:nvPr/>
        </p:nvGrpSpPr>
        <p:grpSpPr>
          <a:xfrm>
            <a:off x="914400" y="990720"/>
            <a:ext cx="4559400" cy="678240"/>
            <a:chOff x="914400" y="990720"/>
            <a:chExt cx="4559400" cy="678240"/>
          </a:xfrm>
        </p:grpSpPr>
        <p:grpSp>
          <p:nvGrpSpPr>
            <p:cNvPr id="102" name=""/>
            <p:cNvGrpSpPr/>
            <p:nvPr/>
          </p:nvGrpSpPr>
          <p:grpSpPr>
            <a:xfrm>
              <a:off x="914400" y="1361880"/>
              <a:ext cx="4559400" cy="307080"/>
              <a:chOff x="914400" y="1361880"/>
              <a:chExt cx="4559400" cy="307080"/>
            </a:xfrm>
          </p:grpSpPr>
          <p:sp>
            <p:nvSpPr>
              <p:cNvPr id="103" name=""/>
              <p:cNvSpPr/>
              <p:nvPr/>
            </p:nvSpPr>
            <p:spPr>
              <a:xfrm>
                <a:off x="914400" y="1361880"/>
                <a:ext cx="12193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808080"/>
                    </a:solidFill>
                    <a:latin typeface="Arial"/>
                  </a:rPr>
                  <a:t>detaile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4254480" y="1361880"/>
                <a:ext cx="12193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808080"/>
                    </a:solidFill>
                    <a:latin typeface="Arial"/>
                  </a:rPr>
                  <a:t>abstrac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1612800" y="1514160"/>
                <a:ext cx="2590920" cy="0"/>
              </a:xfrm>
              <a:prstGeom prst="line">
                <a:avLst/>
              </a:prstGeom>
              <a:ln cap="sq" w="12600">
                <a:solidFill>
                  <a:srgbClr val="808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6" name=""/>
            <p:cNvSpPr/>
            <p:nvPr/>
          </p:nvSpPr>
          <p:spPr>
            <a:xfrm>
              <a:off x="1784520" y="990720"/>
              <a:ext cx="2819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6f689f"/>
                  </a:solidFill>
                  <a:latin typeface="Verdana"/>
                </a:rPr>
                <a:t>Architecture mode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5626080" y="1739880"/>
            <a:ext cx="2594160" cy="2158920"/>
            <a:chOff x="5626080" y="1739880"/>
            <a:chExt cx="2594160" cy="2158920"/>
          </a:xfrm>
        </p:grpSpPr>
        <p:sp>
          <p:nvSpPr>
            <p:cNvPr id="108" name=""/>
            <p:cNvSpPr/>
            <p:nvPr/>
          </p:nvSpPr>
          <p:spPr>
            <a:xfrm>
              <a:off x="5626080" y="1739880"/>
              <a:ext cx="241200" cy="2158920"/>
            </a:xfrm>
            <a:custGeom>
              <a:avLst/>
              <a:gdLst>
                <a:gd name="textAreaLeft" fmla="*/ 0 w 241200"/>
                <a:gd name="textAreaRight" fmla="*/ 87120 w 241200"/>
                <a:gd name="textAreaTop" fmla="*/ 56160 h 2158920"/>
                <a:gd name="textAreaBottom" fmla="*/ 2102760 h 215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cap="sq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888160" y="2143080"/>
              <a:ext cx="2332080" cy="13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808080"/>
                  </a:solidFill>
                  <a:latin typeface="Arial"/>
                </a:rPr>
                <a:t>Architecture excavation</a:t>
              </a:r>
              <a:r>
                <a:rPr b="0" lang="en-US" sz="1400" spc="-1" strike="noStrike">
                  <a:solidFill>
                    <a:srgbClr val="808080"/>
                  </a:solidFill>
                  <a:latin typeface="Arial"/>
                </a:rPr>
                <a:t> is a process of transforming the initial architecture model to achieve more </a:t>
              </a:r>
              <a:r>
                <a:rPr b="1" lang="en-US" sz="1400" spc="-1" strike="noStrike">
                  <a:solidFill>
                    <a:srgbClr val="808080"/>
                  </a:solidFill>
                  <a:latin typeface="Arial"/>
                </a:rPr>
                <a:t>abstraction</a:t>
              </a:r>
              <a:r>
                <a:rPr b="0" lang="en-US" sz="1400" spc="-1" strike="noStrike">
                  <a:solidFill>
                    <a:srgbClr val="808080"/>
                  </a:solidFill>
                  <a:latin typeface="Arial"/>
                </a:rPr>
                <a:t> and remove accidental dependenci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587520" y="3276720"/>
            <a:ext cx="3298680" cy="1879560"/>
            <a:chOff x="587520" y="3276720"/>
            <a:chExt cx="3298680" cy="1879560"/>
          </a:xfrm>
        </p:grpSpPr>
        <p:grpSp>
          <p:nvGrpSpPr>
            <p:cNvPr id="111" name=""/>
            <p:cNvGrpSpPr/>
            <p:nvPr/>
          </p:nvGrpSpPr>
          <p:grpSpPr>
            <a:xfrm>
              <a:off x="587520" y="3276720"/>
              <a:ext cx="3298680" cy="1879560"/>
              <a:chOff x="587520" y="3276720"/>
              <a:chExt cx="3298680" cy="1879560"/>
            </a:xfrm>
          </p:grpSpPr>
          <p:cxnSp>
            <p:nvCxnSpPr>
              <p:cNvPr id="112" name=""/>
              <p:cNvCxnSpPr>
                <a:stCxn id="113" idx="2"/>
                <a:endCxn id="114" idx="2"/>
              </p:cNvCxnSpPr>
              <p:nvPr/>
            </p:nvCxnSpPr>
            <p:spPr>
              <a:xfrm rot="10800000">
                <a:off x="2361600" y="3847320"/>
                <a:ext cx="305280" cy="1308960"/>
              </a:xfrm>
              <a:prstGeom prst="bentConnector3">
                <a:avLst>
                  <a:gd name="adj1" fmla="val 174970"/>
                </a:avLst>
              </a:prstGeom>
              <a:ln w="28440">
                <a:solidFill>
                  <a:srgbClr val="808080"/>
                </a:solidFill>
                <a:miter/>
                <a:tailEnd len="med" type="triangle" w="med"/>
              </a:ln>
            </p:spPr>
          </p:cxnSp>
          <p:sp>
            <p:nvSpPr>
              <p:cNvPr id="115" name=""/>
              <p:cNvSpPr/>
              <p:nvPr/>
            </p:nvSpPr>
            <p:spPr>
              <a:xfrm>
                <a:off x="587520" y="4206960"/>
                <a:ext cx="2473200" cy="641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808080"/>
                    </a:solidFill>
                    <a:latin typeface="Arial"/>
                  </a:rPr>
                  <a:t>Initial model automatically extracted by Klocwork Engine into the Klocwork Databas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2362320" y="3276720"/>
                <a:ext cx="1523880" cy="1143000"/>
              </a:xfrm>
              <a:prstGeom prst="can">
                <a:avLst>
                  <a:gd name="adj" fmla="val 25000"/>
                </a:avLst>
              </a:prstGeom>
              <a:solidFill>
                <a:srgbClr val="6f689f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CA" sz="1400" spc="-1" strike="noStrike">
                    <a:solidFill>
                      <a:srgbClr val="ffff00"/>
                    </a:solidFill>
                    <a:latin typeface="Arial"/>
                  </a:rPr>
                  <a:t>Klocwork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CA" sz="1400" spc="-1" strike="noStrike">
                    <a:solidFill>
                      <a:srgbClr val="ffff00"/>
                    </a:solidFill>
                    <a:latin typeface="Arial"/>
                  </a:rPr>
                  <a:t>Databas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6" name=""/>
            <p:cNvSpPr/>
            <p:nvPr/>
          </p:nvSpPr>
          <p:spPr>
            <a:xfrm>
              <a:off x="2414520" y="3352680"/>
              <a:ext cx="695520" cy="459000"/>
            </a:xfrm>
            <a:prstGeom prst="can">
              <a:avLst>
                <a:gd name="adj" fmla="val 25000"/>
              </a:avLst>
            </a:prstGeom>
            <a:solidFill>
              <a:srgbClr val="009999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00"/>
                  </a:solidFill>
                  <a:latin typeface="Arial"/>
                </a:rPr>
                <a:t>Syste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00"/>
                  </a:solidFill>
                  <a:latin typeface="Arial"/>
                </a:rPr>
                <a:t>Model (R/O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" name=""/>
          <p:cNvSpPr/>
          <p:nvPr/>
        </p:nvSpPr>
        <p:spPr>
          <a:xfrm>
            <a:off x="3200400" y="3352680"/>
            <a:ext cx="650880" cy="457200"/>
          </a:xfrm>
          <a:prstGeom prst="can">
            <a:avLst>
              <a:gd name="adj" fmla="val 25000"/>
            </a:avLst>
          </a:prstGeom>
          <a:solidFill>
            <a:srgbClr val="009999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00"/>
                </a:solidFill>
                <a:latin typeface="Arial"/>
              </a:rPr>
              <a:t>Us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00"/>
                </a:solidFill>
                <a:latin typeface="Arial"/>
              </a:rPr>
              <a:t>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666880" y="4724280"/>
            <a:ext cx="984240" cy="863640"/>
          </a:xfrm>
          <a:prstGeom prst="can">
            <a:avLst>
              <a:gd name="adj" fmla="val 25000"/>
            </a:avLst>
          </a:prstGeom>
          <a:solidFill>
            <a:srgbClr val="6f689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9e400"/>
                </a:solidFill>
                <a:latin typeface="Arial"/>
              </a:rPr>
              <a:t>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9e400"/>
                </a:solidFill>
                <a:latin typeface="Arial"/>
              </a:rPr>
              <a:t>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3657600" y="2895480"/>
            <a:ext cx="2217600" cy="2354400"/>
            <a:chOff x="3657600" y="2895480"/>
            <a:chExt cx="2217600" cy="2354400"/>
          </a:xfrm>
        </p:grpSpPr>
        <p:sp>
          <p:nvSpPr>
            <p:cNvPr id="119" name=""/>
            <p:cNvSpPr/>
            <p:nvPr/>
          </p:nvSpPr>
          <p:spPr>
            <a:xfrm>
              <a:off x="3657600" y="2895480"/>
              <a:ext cx="1066680" cy="2133720"/>
            </a:xfrm>
            <a:custGeom>
              <a:avLst/>
              <a:gdLst/>
              <a:ahLst/>
              <a:rect l="l" t="t" r="r" b="b"/>
              <a:pathLst>
                <a:path w="872" h="1408">
                  <a:moveTo>
                    <a:pt x="144" y="8"/>
                  </a:moveTo>
                  <a:cubicBezTo>
                    <a:pt x="240" y="4"/>
                    <a:pt x="336" y="0"/>
                    <a:pt x="432" y="56"/>
                  </a:cubicBezTo>
                  <a:cubicBezTo>
                    <a:pt x="528" y="112"/>
                    <a:pt x="648" y="240"/>
                    <a:pt x="720" y="344"/>
                  </a:cubicBezTo>
                  <a:cubicBezTo>
                    <a:pt x="792" y="448"/>
                    <a:pt x="872" y="560"/>
                    <a:pt x="864" y="680"/>
                  </a:cubicBezTo>
                  <a:cubicBezTo>
                    <a:pt x="856" y="800"/>
                    <a:pt x="752" y="952"/>
                    <a:pt x="672" y="1064"/>
                  </a:cubicBezTo>
                  <a:cubicBezTo>
                    <a:pt x="592" y="1176"/>
                    <a:pt x="496" y="1296"/>
                    <a:pt x="384" y="1352"/>
                  </a:cubicBezTo>
                  <a:cubicBezTo>
                    <a:pt x="272" y="1408"/>
                    <a:pt x="64" y="1392"/>
                    <a:pt x="0" y="1400"/>
                  </a:cubicBezTo>
                </a:path>
              </a:pathLst>
            </a:custGeom>
            <a:noFill/>
            <a:ln w="12600">
              <a:solidFill>
                <a:srgbClr val="80808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167360" y="4516560"/>
              <a:ext cx="17078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808080"/>
                  </a:solidFill>
                  <a:latin typeface="Arial"/>
                </a:rPr>
                <a:t>Architecture models are now </a:t>
              </a:r>
              <a:r>
                <a:rPr b="1" lang="en-US" sz="1400" spc="-1" strike="noStrike">
                  <a:solidFill>
                    <a:srgbClr val="808080"/>
                  </a:solidFill>
                  <a:latin typeface="Arial"/>
                </a:rPr>
                <a:t>precise </a:t>
              </a:r>
              <a:r>
                <a:rPr b="0" lang="en-US" sz="1400" spc="-1" strike="noStrike">
                  <a:solidFill>
                    <a:srgbClr val="808080"/>
                  </a:solidFill>
                  <a:latin typeface="Arial"/>
                </a:rPr>
                <a:t>and</a:t>
              </a:r>
              <a:r>
                <a:rPr b="1" lang="en-US" sz="1400" spc="-1" strike="noStrike">
                  <a:solidFill>
                    <a:srgbClr val="808080"/>
                  </a:solidFill>
                  <a:latin typeface="Arial"/>
                </a:rPr>
                <a:t> enforceab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4C842C-D6AE-41F8-8C8D-542129083DB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tep 2 - Improve the Architecture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Analyze the new containment hierarchy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26320" indent="-262080">
              <a:spcBef>
                <a:spcPts val="400"/>
              </a:spcBef>
              <a:buClr>
                <a:srgbClr val="00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Clean up include file irregularities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1" marL="526320" indent="-262080">
              <a:spcBef>
                <a:spcPts val="400"/>
              </a:spcBef>
              <a:buClr>
                <a:srgbClr val="00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Improve general architectural quality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Plan the clean up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26320" indent="-262080">
              <a:spcBef>
                <a:spcPts val="400"/>
              </a:spcBef>
              <a:buClr>
                <a:srgbClr val="00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Participation of code owners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1" marL="526320" indent="-262080">
              <a:spcBef>
                <a:spcPts val="400"/>
              </a:spcBef>
              <a:buClr>
                <a:srgbClr val="00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Action lists, deadlines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1" marL="526320" indent="-262080">
              <a:spcBef>
                <a:spcPts val="400"/>
              </a:spcBef>
              <a:buClr>
                <a:srgbClr val="00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efine architecture rules to report and track progress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Perform the clean-up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26320" indent="-262080">
              <a:spcBef>
                <a:spcPts val="400"/>
              </a:spcBef>
              <a:buClr>
                <a:srgbClr val="00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Put architecture rules in place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1" marL="526320" indent="-262080">
              <a:spcBef>
                <a:spcPts val="400"/>
              </a:spcBef>
              <a:buClr>
                <a:srgbClr val="00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Reporting by inSpect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1" marL="526320" indent="-262080">
              <a:spcBef>
                <a:spcPts val="400"/>
              </a:spcBef>
              <a:buClr>
                <a:srgbClr val="00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Editor integration with inForce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Continued reporting on integrity of the architecture to prevent further erosion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80D470-2FA2-416C-BFC0-C6666AA6DDA7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3352680"/>
            <a:ext cx="80024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End of Module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9T20:42:19Z</dcterms:created>
  <dc:creator>Norm Rajala</dc:creator>
  <dc:description/>
  <dc:language>en-US</dc:language>
  <cp:lastModifiedBy>Mark Grice</cp:lastModifiedBy>
  <cp:lastPrinted>2004-04-07T16:09:40Z</cp:lastPrinted>
  <dcterms:modified xsi:type="dcterms:W3CDTF">2006-10-16T01:33:45Z</dcterms:modified>
  <cp:revision>221</cp:revision>
  <dc:subject/>
  <dc:title>PowerPoint Presentation</dc:title>
</cp:coreProperties>
</file>