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721800"/>
            <a:ext cx="307656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CA47-765E-44FD-90D5-B5945C4F2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2160" y="768240"/>
            <a:ext cx="5114880" cy="3837240"/>
          </a:xfrm>
          <a:prstGeom prst="rect">
            <a:avLst/>
          </a:prstGeom>
          <a:ln w="0">
            <a:noFill/>
          </a:ln>
        </p:spPr>
      </p:sp>
      <p:sp>
        <p:nvSpPr>
          <p:cNvPr id="15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easures shown above as worthy of monitoring, note that they are monitoring a measurable t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measurements for the organization in a timely man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work estimates that are inaccurate is either affecting their stress levels, if underestimated, or affecting your efficiencies when over-estim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2160" y="768240"/>
            <a:ext cx="5114880" cy="3837240"/>
          </a:xfrm>
          <a:prstGeom prst="rect">
            <a:avLst/>
          </a:prstGeom>
          <a:ln w="0">
            <a:noFill/>
          </a:ln>
        </p:spPr>
      </p:sp>
      <p:sp>
        <p:nvSpPr>
          <p:cNvPr id="15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2160" y="768240"/>
            <a:ext cx="5114880" cy="3837240"/>
          </a:xfrm>
          <a:prstGeom prst="rect">
            <a:avLst/>
          </a:prstGeom>
          <a:ln w="0">
            <a:noFill/>
          </a:ln>
        </p:spPr>
      </p:sp>
      <p:sp>
        <p:nvSpPr>
          <p:cNvPr id="15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following notes are learned from the Karl Wiegers article lis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rocessimpact.com/articles/mtrap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E5B74-24C3-4DDE-92E4-D1E2BC24B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909AA6F-E9A1-4D50-982D-92D70597E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ED0184F-A17F-4133-B868-297E16AA83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C041FA2-7B0F-42BE-9DCA-0EA25DCEC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5DC41-5FC7-437B-9F9B-76E67C2BA6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7EBC7-EBAF-43B6-8F0B-4A96424769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58803C0-B284-431D-AA6A-2F3BD37F6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9E9A9156-86DA-4E42-9F71-C5B015555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2FF5FF0-49CD-4136-B6B1-0DCEA1CE2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297E2AE-8A64-4F02-AF0C-3F2944F2F6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E072634-9F4F-49AF-AE03-F48093E1D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60CF660-2E03-4982-A1FF-4734EED7E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1993-330C-404A-A5E7-42F253C4DDF9}"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
        <p:nvSpPr>
          <p:cNvPr id="5" name=""/>
          <p:cNvSpPr/>
          <p:nvPr/>
        </p:nvSpPr>
        <p:spPr>
          <a:xfrm>
            <a:off x="4343400" y="6477120"/>
            <a:ext cx="90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FDAB-44FE-4E5E-86F1-6D9A29BEE91D}" type="slidenum">
              <a:rPr b="1" i="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7858" b="11258"/>
          <a:stretch/>
        </p:blipFill>
        <p:spPr>
          <a:xfrm>
            <a:off x="0" y="0"/>
            <a:ext cx="9144000" cy="6858000"/>
          </a:xfrm>
          <a:prstGeom prst="rect">
            <a:avLst/>
          </a:prstGeom>
          <a:ln w="0">
            <a:noFill/>
          </a:ln>
        </p:spPr>
      </p:pic>
      <p:sp>
        <p:nvSpPr>
          <p:cNvPr id="4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4"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D627-7AB7-40C0-9E45-611214C2AF2C}"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Software Metrics Program – </a:t>
            </a:r>
            <a:br>
              <a:rPr sz="2000"/>
            </a:br>
            <a:r>
              <a:rPr b="1" lang="en-US" sz="2000" spc="-1" strike="noStrike">
                <a:solidFill>
                  <a:srgbClr val="000066"/>
                </a:solidFill>
                <a:latin typeface="Arial"/>
              </a:rPr>
              <a:t>Techniques to Apply &amp; Traps to Avoid</a:t>
            </a: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Lack of Management Commitment</a:t>
            </a:r>
            <a:endParaRPr b="1" lang="en-US" sz="2800" spc="-1" strike="noStrike">
              <a:solidFill>
                <a:srgbClr val="000066"/>
              </a:solidFill>
              <a:latin typeface="Arial"/>
            </a:endParaRPr>
          </a:p>
        </p:txBody>
      </p:sp>
      <p:sp>
        <p:nvSpPr>
          <p:cNvPr id="10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initiatives of any type require management commitment for succes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direct opposition can sometimes be seen, more likely there will be “support” without explicitly stated requirements to collect the data</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llocation of resource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apable people and resources not offered, support may be, or more importantly, may be perceived as being weak</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ncouraging Management Commitment</a:t>
            </a:r>
            <a:endParaRPr b="1" lang="en-US" sz="2800" spc="-1" strike="noStrike">
              <a:solidFill>
                <a:srgbClr val="000066"/>
              </a:solidFill>
              <a:latin typeface="Arial"/>
            </a:endParaRPr>
          </a:p>
        </p:txBody>
      </p:sp>
      <p:sp>
        <p:nvSpPr>
          <p:cNvPr id="11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programs which explicitly address the potential for organization reluctance, like mandatory training sessions, or measurable incentives tied to business goals, should help </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management has input into how the program will be implemen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op-level areas are unwilling to commit, work with groups who are willing to try, and leverage the benefits from what they learn to push widely in the future</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rganizations will encourage this type of “Beta” program with specific groups.  </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that although benefits can be seen at the lowest levels,  additional benefits can come from cross-corporate initiativ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Too Much Too Soon</a:t>
            </a:r>
            <a:endParaRPr b="1" lang="en-US" sz="2800" spc="-1" strike="noStrike">
              <a:solidFill>
                <a:srgbClr val="000066"/>
              </a:solidFill>
              <a:latin typeface="Arial"/>
            </a:endParaRPr>
          </a:p>
        </p:txBody>
      </p:sp>
      <p:sp>
        <p:nvSpPr>
          <p:cNvPr id="11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too much data at the beginning may stall the entire initiativ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llected data has no planned outlet, considering certain data will most likely result in wasted effort</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ing overwhelming reports to an un-prepared organization may also yield low ROI</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vercoming “Too Much Too Soon”</a:t>
            </a:r>
            <a:endParaRPr b="1" lang="en-US" sz="2800" spc="-1" strike="noStrike">
              <a:solidFill>
                <a:srgbClr val="000066"/>
              </a:solidFill>
              <a:latin typeface="Arial"/>
            </a:endParaRPr>
          </a:p>
        </p:txBody>
      </p:sp>
      <p:sp>
        <p:nvSpPr>
          <p:cNvPr id="11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both Developers and Managers is vital to ensure that those responsible for collecting data understand the potential benefits that can be had, and thus are willing participants</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metric collection as much as possible</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ocwork helps here greatly</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roposed metric, ask:</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can we learn from knowing this information?”</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we need this information right away?”</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we need this much granularity?”</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articipants are into the habit of using the data they collect to learn process strengths and holes, the environment will be more accepting of expanding the metrics program</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Too Little Too Late</a:t>
            </a:r>
            <a:endParaRPr b="1" lang="en-US" sz="2800" spc="-1" strike="noStrike">
              <a:solidFill>
                <a:srgbClr val="000066"/>
              </a:solidFill>
              <a:latin typeface="Arial"/>
            </a:endParaRPr>
          </a:p>
        </p:txBody>
      </p:sp>
      <p:sp>
        <p:nvSpPr>
          <p:cNvPr id="11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due to limited funding, or support, programs may start out with the idea of collecting only a couple of data items</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return from such a limited data set does not justify the overhead involved with the collection process, and the entire initiative becomes “doomed from the start”</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who prefer to work independently may </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 their feet on certain measurement tasks</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choose to only report the “good stuff”</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give excuses to only offer the data beyond when it is most useful</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uch cases help to sabotage the intent of the program</a:t>
            </a:r>
            <a:endParaRPr b="0" lang="en-US" sz="18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ng too little can be very damaging</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kill interest in metrics collection for years to come!</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s made on weakly supported metrics will be pounced on by those in opposition to the program</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ed data in favour of  one metric over another will encourage “camps” to form (ie: productivity vs. quality)</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Too Little Too Late”</a:t>
            </a:r>
            <a:endParaRPr b="1" lang="en-US" sz="2800" spc="-1" strike="noStrike">
              <a:solidFill>
                <a:srgbClr val="000066"/>
              </a:solidFill>
              <a:latin typeface="Arial"/>
            </a:endParaRPr>
          </a:p>
        </p:txBody>
      </p:sp>
      <p:sp>
        <p:nvSpPr>
          <p:cNvPr id="11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lanced set of metrics is key.</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focused goals like these categorie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size</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effort</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efficiency</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tric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atisfaction</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what initiatives will help you learn the most about your processes and where they can improv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oner you collect data, the better</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ast-projects would be beneficial to monitor?</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metrics program participation a job expectation</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Measuring the Wrong Stuff</a:t>
            </a:r>
            <a:endParaRPr b="1" lang="en-US" sz="2800" spc="-1" strike="noStrike">
              <a:solidFill>
                <a:srgbClr val="000066"/>
              </a:solidFill>
              <a:latin typeface="Arial"/>
            </a:endParaRPr>
          </a:p>
        </p:txBody>
      </p:sp>
      <p:sp>
        <p:nvSpPr>
          <p:cNvPr id="12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ed to re-evaluate your metrics program may be necessary if:</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doesn’t clearly relate to your business strategie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can’t act in a timely manner on what you deliver</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recognize improvements from what your metrics data is recommending?</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bstitute metrics actually measuring what you expect?</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ng metrics from one project to another has potential risks that must be considered before using this technique</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Measuring the Wrong Stuff”</a:t>
            </a:r>
            <a:endParaRPr b="1" lang="en-US" sz="2800" spc="-1" strike="noStrike">
              <a:solidFill>
                <a:srgbClr val="000066"/>
              </a:solidFill>
              <a:latin typeface="Arial"/>
            </a:endParaRPr>
          </a:p>
        </p:txBody>
      </p:sp>
      <p:sp>
        <p:nvSpPr>
          <p:cNvPr id="123" name="PlaceHolder 2"/>
          <p:cNvSpPr>
            <a:spLocks noGrp="1"/>
          </p:cNvSpPr>
          <p:nvPr>
            <p:ph/>
          </p:nvPr>
        </p:nvSpPr>
        <p:spPr>
          <a:xfrm>
            <a:off x="457200" y="990720"/>
            <a:ext cx="8229600" cy="4952880"/>
          </a:xfrm>
          <a:prstGeom prst="rect">
            <a:avLst/>
          </a:prstGeom>
          <a:noFill/>
          <a:ln w="0">
            <a:noFill/>
          </a:ln>
        </p:spPr>
        <p:txBody>
          <a:bodyPr lIns="0" rIns="0" tIns="0" bIns="0" anchor="t">
            <a:normAutofit fontScale="99000"/>
          </a:bodyPr>
          <a:p>
            <a:pPr marL="339480" indent="-3394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metrics that can measurably drive process improvement</a:t>
            </a:r>
            <a:endParaRPr b="0" lang="en-US" sz="2400" spc="-1" strike="noStrike">
              <a:solidFill>
                <a:srgbClr val="000000"/>
              </a:solidFill>
              <a:latin typeface="Arial"/>
            </a:endParaRPr>
          </a:p>
          <a:p>
            <a:pPr lvl="1" marL="735480" indent="-28296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on the NEW defects, in a build-over-build scenario, not all existing defects, will be more telling for understanding how to improve the current process.  The past data may be useful, but it will depend on how old, and how much has changed.</a:t>
            </a:r>
            <a:endParaRPr b="0" lang="en-US" sz="2000" spc="-1" strike="noStrike">
              <a:solidFill>
                <a:srgbClr val="000000"/>
              </a:solidFill>
              <a:latin typeface="Arial"/>
            </a:endParaRPr>
          </a:p>
          <a:p>
            <a:pPr lvl="1" marL="7354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your metrics are applicable to the goals you are attempting to reach</a:t>
            </a:r>
            <a:endParaRPr b="0" lang="en-US" sz="2400" spc="-1" strike="noStrike">
              <a:solidFill>
                <a:srgbClr val="000000"/>
              </a:solidFill>
              <a:latin typeface="Arial"/>
            </a:endParaRPr>
          </a:p>
          <a:p>
            <a:pPr lvl="1" marL="735480" indent="-28296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checks against the data during the project, not just at the end</a:t>
            </a:r>
            <a:endParaRPr b="0" lang="en-US" sz="2000" spc="-1" strike="noStrike">
              <a:solidFill>
                <a:srgbClr val="000000"/>
              </a:solidFill>
              <a:latin typeface="Arial"/>
            </a:endParaRPr>
          </a:p>
          <a:p>
            <a:pPr lvl="1" marL="7354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breast of trends in the software-metrics field to learn about how to understand your processes from the metrics you keep, and perhaps which metrics you should start recording.</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Using the Wrong Stuff</a:t>
            </a:r>
            <a:endParaRPr b="1" lang="en-US" sz="2800" spc="-1" strike="noStrike">
              <a:solidFill>
                <a:srgbClr val="000066"/>
              </a:solidFill>
              <a:latin typeface="Arial"/>
            </a:endParaRPr>
          </a:p>
        </p:txBody>
      </p:sp>
      <p:sp>
        <p:nvSpPr>
          <p:cNvPr id="12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metrics from one project to another may not be appropriat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information from one language doesn’t necessarily correlate directly to another</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Using the Wrong Stuff”</a:t>
            </a:r>
            <a:endParaRPr b="1" lang="en-US" sz="2800" spc="-1" strike="noStrike">
              <a:solidFill>
                <a:srgbClr val="000066"/>
              </a:solidFill>
              <a:latin typeface="Arial"/>
            </a:endParaRPr>
          </a:p>
        </p:txBody>
      </p:sp>
      <p:sp>
        <p:nvSpPr>
          <p:cNvPr id="12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istorical data from the same project, as much as possibl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data that you have rather than allowing yourself to be influenced by opinions of past projects </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t feel doesn’t always work</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that the more recent historical data is typically more telling than the past history, when your processes are evolving rapidly</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ave changed</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have evolved</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expectations have change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ps to Avoid when Implementing a Metrics Program</a:t>
            </a:r>
            <a:endParaRPr b="1" lang="en-US" sz="2400" spc="-1" strike="noStrike">
              <a:solidFill>
                <a:srgbClr val="000066"/>
              </a:solidFill>
              <a:latin typeface="Arial"/>
            </a:endParaRPr>
          </a:p>
        </p:txBody>
      </p:sp>
      <p:sp>
        <p:nvSpPr>
          <p:cNvPr id="91" name="PlaceHolder 2"/>
          <p:cNvSpPr>
            <a:spLocks noGrp="1"/>
          </p:cNvSpPr>
          <p:nvPr>
            <p:ph/>
          </p:nvPr>
        </p:nvSpPr>
        <p:spPr>
          <a:xfrm>
            <a:off x="456840" y="761760"/>
            <a:ext cx="8458200" cy="510516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ips for implementing a process are presen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n common traps seen when implementing a Metrics Program are presented</a:t>
            </a:r>
            <a:endParaRPr b="0" lang="en-US" sz="2400" spc="-1" strike="noStrike">
              <a:solidFill>
                <a:srgbClr val="000000"/>
              </a:solidFill>
              <a:latin typeface="Arial"/>
            </a:endParaRPr>
          </a:p>
          <a:p>
            <a:pPr marL="343080" indent="0">
              <a:spcBef>
                <a:spcPts val="601"/>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Imprecise Definitions</a:t>
            </a:r>
            <a:endParaRPr b="1" lang="en-US" sz="2800" spc="-1" strike="noStrike">
              <a:solidFill>
                <a:srgbClr val="000066"/>
              </a:solidFill>
              <a:latin typeface="Arial"/>
            </a:endParaRPr>
          </a:p>
        </p:txBody>
      </p:sp>
      <p:sp>
        <p:nvSpPr>
          <p:cNvPr id="12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metrics to be collected in a vague manner suffers from the same fate as most statistics – they will be mis-interpre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can be that individuals collect data differently leading to erratic trending, or unusable data</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Imprecise Definitions</a:t>
            </a:r>
            <a:endParaRPr b="1" lang="en-US" sz="2800" spc="-1" strike="noStrike">
              <a:solidFill>
                <a:srgbClr val="000066"/>
              </a:solidFill>
              <a:latin typeface="Arial"/>
            </a:endParaRPr>
          </a:p>
        </p:txBody>
      </p:sp>
      <p:sp>
        <p:nvSpPr>
          <p:cNvPr id="13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definitions for all measurements to be collec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automated tools, like Klocwork, to collect metrics, where possibl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e definitions will add a little time at the start of your program set-up, but are worth the effort</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ilot projects to confirm that the desired metric collection will be justified for a wider audience.</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Big Brother” Initiatives</a:t>
            </a:r>
            <a:endParaRPr b="1" lang="en-US" sz="2800" spc="-1" strike="noStrike">
              <a:solidFill>
                <a:srgbClr val="000066"/>
              </a:solidFill>
              <a:latin typeface="Arial"/>
            </a:endParaRPr>
          </a:p>
        </p:txBody>
      </p:sp>
      <p:sp>
        <p:nvSpPr>
          <p:cNvPr id="13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etrics to monitor individuals behaviour will have undesirable effects on your software development proces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rtion of the development community will alter their habits in order to “score” well under such systems, but playing to the score is never as effective as “doing the right thing”.</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data should be informative, never subjective like “good” or “bad”, otherwise groups may tweak code to suit reporting criteria, or </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program could be political land-mine for years to come under such approache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zation has the potential to suffer a long-term opportunity loss from instigating a program that gets halted</a:t>
            </a:r>
            <a:endParaRPr b="0" lang="en-US" sz="20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Big Brother”</a:t>
            </a:r>
            <a:endParaRPr b="1" lang="en-US" sz="2800" spc="-1" strike="noStrike">
              <a:solidFill>
                <a:srgbClr val="000066"/>
              </a:solidFill>
              <a:latin typeface="Arial"/>
            </a:endParaRPr>
          </a:p>
        </p:txBody>
      </p:sp>
      <p:sp>
        <p:nvSpPr>
          <p:cNvPr id="13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train all those involved on the intent of any metrics collection program: to improve process</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data under collections rather than point-based excercises.</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o many variables involved with software development  that no indvidual piece of data deserves comparison to others</a:t>
            </a:r>
            <a:endParaRPr b="0" lang="en-US" sz="18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cess improvement guidelines to drive behaviour, and metrics for measuring those results</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worthy of monitoring:</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eople participating in the data collection, as asked</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dividually-created work estimates matching to reality?</a:t>
            </a:r>
            <a:endParaRPr b="0" lang="en-US" sz="18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results are achieved when individuals can view data concerning their code, in private</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ocwork inForce gives developers the chance to clean their code before ever submitting it!  </a:t>
            </a:r>
            <a:endParaRPr b="0" lang="en-US" sz="18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sufficient security to prevent personal information from being viewed by other team-members</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Asking for Data and not using it!</a:t>
            </a:r>
            <a:endParaRPr b="1" lang="en-US" sz="2800" spc="-1" strike="noStrike">
              <a:solidFill>
                <a:srgbClr val="000066"/>
              </a:solidFill>
              <a:latin typeface="Arial"/>
            </a:endParaRPr>
          </a:p>
        </p:txBody>
      </p:sp>
      <p:sp>
        <p:nvSpPr>
          <p:cNvPr id="13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members will be frustrated at collecting data for which no results are presen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shows no concern whether the data is collected, so those who collect the data will feel they are being penalized for doing what they were told to do</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se the data you ask for!</a:t>
            </a:r>
            <a:endParaRPr b="1" lang="en-US" sz="2800" spc="-1" strike="noStrike">
              <a:solidFill>
                <a:srgbClr val="000066"/>
              </a:solidFill>
              <a:latin typeface="Arial"/>
            </a:endParaRPr>
          </a:p>
        </p:txBody>
      </p:sp>
      <p:sp>
        <p:nvSpPr>
          <p:cNvPr id="13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ssues drive home the importance of determining through a team exercise what should and should not be collect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should avoid ad-hoc requests for data on “pet projects” if they can’t follow through with result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trends best shared with the entire team to allow for the chance to address short-coming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eams understand how to apply historical data to new processes so that feedback-cycle yields maximum benefit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se the data you ask for - Collecting Timesheets</a:t>
            </a:r>
            <a:endParaRPr b="1" lang="en-US" sz="2800" spc="-1" strike="noStrike">
              <a:solidFill>
                <a:srgbClr val="000066"/>
              </a:solidFill>
              <a:latin typeface="Arial"/>
            </a:endParaRPr>
          </a:p>
        </p:txBody>
      </p:sp>
      <p:sp>
        <p:nvSpPr>
          <p:cNvPr id="14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data like timesheets in order to accurately recognize work effort per project/feature/release, etc… may be perceived as an annoyanc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t;5 minutes per day for recording this data should result in reduced overtime when the data and projects are managed properly</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Poor Training of Staff</a:t>
            </a:r>
            <a:endParaRPr b="1" lang="en-US" sz="2800" spc="-1" strike="noStrike">
              <a:solidFill>
                <a:srgbClr val="000066"/>
              </a:solidFill>
              <a:latin typeface="Arial"/>
            </a:endParaRPr>
          </a:p>
        </p:txBody>
      </p:sp>
      <p:sp>
        <p:nvSpPr>
          <p:cNvPr id="14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am members are not properly informed of why they need to collect information, they are likely to be unreliable for collecting that data</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information, and poor education, will typically breed fear or cynicism amongst your development staff</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ffer formal Training</a:t>
            </a:r>
            <a:endParaRPr b="1" lang="en-US" sz="2800" spc="-1" strike="noStrike">
              <a:solidFill>
                <a:srgbClr val="000066"/>
              </a:solidFill>
              <a:latin typeface="Arial"/>
            </a:endParaRPr>
          </a:p>
        </p:txBody>
      </p:sp>
      <p:sp>
        <p:nvSpPr>
          <p:cNvPr id="14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training class, or online-learning session will often suffic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your program small enough to help build momentum, rather than become over-whelming right away</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data will be us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 web-based handbook or reference guide to help people follow a process, where necessary</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raining to foster a “measurement-friendly” cultur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results with visuals where possible as this can help reach common ground more easily than just charts with number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P – Avoid Over-reacting to Results</a:t>
            </a:r>
            <a:endParaRPr b="1" lang="en-US" sz="2800" spc="-1" strike="noStrike">
              <a:solidFill>
                <a:srgbClr val="000066"/>
              </a:solidFill>
              <a:latin typeface="Arial"/>
            </a:endParaRPr>
          </a:p>
        </p:txBody>
      </p:sp>
      <p:sp>
        <p:nvSpPr>
          <p:cNvPr id="14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ee-jerk reactions from viewing the data may undermine the intent of the metrics program</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for process change, mid-stream, will often raise the ire of your team, so should always be handled delicately</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ing teams or individuals for certain results can breakdown team-spirit (See “Big Brother Initiatives”)</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stablishing a Metrics Program</a:t>
            </a:r>
            <a:endParaRPr b="1" lang="en-US" sz="2400" spc="-1" strike="noStrike">
              <a:solidFill>
                <a:srgbClr val="000066"/>
              </a:solidFill>
              <a:latin typeface="Arial"/>
            </a:endParaRPr>
          </a:p>
        </p:txBody>
      </p:sp>
      <p:sp>
        <p:nvSpPr>
          <p:cNvPr id="93" name="PlaceHolder 2"/>
          <p:cNvSpPr>
            <a:spLocks noGrp="1"/>
          </p:cNvSpPr>
          <p:nvPr>
            <p:ph/>
          </p:nvPr>
        </p:nvSpPr>
        <p:spPr>
          <a:xfrm>
            <a:off x="456840" y="761760"/>
            <a:ext cx="8458200" cy="510516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e have seen today, numerous benefits to your software development process can be obtained through establishing a metrics program</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programs are typically part of a continuous-improvement exercise which will help you evolve from developing your software like an “art-house” into a more structured, predictable engineering disciplin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change always comes with difficulties</a:t>
            </a:r>
            <a:endParaRPr b="0" lang="en-US" sz="2400" spc="-1" strike="noStrike">
              <a:solidFill>
                <a:srgbClr val="000000"/>
              </a:solidFill>
              <a:latin typeface="Arial"/>
            </a:endParaRPr>
          </a:p>
          <a:p>
            <a:pPr marL="343080" indent="0">
              <a:spcBef>
                <a:spcPts val="601"/>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act appropriately to the resulting data</a:t>
            </a:r>
            <a:endParaRPr b="1" lang="en-US" sz="2800" spc="-1" strike="noStrike">
              <a:solidFill>
                <a:srgbClr val="000066"/>
              </a:solidFill>
              <a:latin typeface="Arial"/>
            </a:endParaRPr>
          </a:p>
        </p:txBody>
      </p:sp>
      <p:sp>
        <p:nvSpPr>
          <p:cNvPr id="14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rends rather than point-result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range your metrics are in to realize whether trends are significant, or within a safe zon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hanges in direction only once the data has been analyzed by the right set of peopl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ing to “do better next time” is sometimes better than attempting to change things mid-cours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ing teams or individuals for certain results is never a good solution as the root cause may well sit with decisions made outside their control</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voiding Program Failure</a:t>
            </a:r>
            <a:endParaRPr b="1" lang="en-US" sz="2800" spc="-1" strike="noStrike">
              <a:solidFill>
                <a:srgbClr val="000066"/>
              </a:solidFill>
              <a:latin typeface="Arial"/>
            </a:endParaRPr>
          </a:p>
        </p:txBody>
      </p:sp>
      <p:sp>
        <p:nvSpPr>
          <p:cNvPr id="15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mindful of these “10 traps” will help your metrics program become more successful</a:t>
            </a:r>
            <a:endParaRPr b="0" lang="en-US" sz="2400" spc="-1" strike="noStrike">
              <a:solidFill>
                <a:srgbClr val="000000"/>
              </a:solidFill>
              <a:latin typeface="Arial"/>
            </a:endParaRPr>
          </a:p>
          <a:p>
            <a:pPr marL="343080" indent="0">
              <a:lnSpc>
                <a:spcPct val="90000"/>
              </a:lnSpc>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planning goes a long way</a:t>
            </a:r>
            <a:endParaRPr b="0" lang="en-US" sz="2000" spc="-1" strike="noStrike">
              <a:solidFill>
                <a:srgbClr val="000000"/>
              </a:solidFill>
              <a:latin typeface="Arial"/>
            </a:endParaRPr>
          </a:p>
          <a:p>
            <a:pPr lvl="2" marL="1143000" indent="-228600">
              <a:lnSpc>
                <a:spcPct val="90000"/>
              </a:lnSpc>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 programs must support process improvement activities and should be aligned with the business goals of the organization</a:t>
            </a:r>
            <a:endParaRPr b="0" lang="en-US" sz="18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dvertised upper-management support</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people are trained</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on real improvement, not just numbers or reaching levels</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atient</a:t>
            </a:r>
            <a:endParaRPr b="0" lang="en-US" sz="2000" spc="-1" strike="noStrike">
              <a:solidFill>
                <a:srgbClr val="000000"/>
              </a:solidFill>
              <a:latin typeface="Arial"/>
            </a:endParaRPr>
          </a:p>
          <a:p>
            <a:pPr lvl="2" marL="1143000" indent="-228600">
              <a:lnSpc>
                <a:spcPct val="90000"/>
              </a:lnSpc>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ing conclusions from metrics results that you analyze will not happen in a short timeframe, give yourself enough time to make appropriate decisions</a:t>
            </a:r>
            <a:endParaRPr b="0" lang="en-US" sz="18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ing the program is much easier than keeping it going!</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stablishing a Metrics Program</a:t>
            </a:r>
            <a:endParaRPr b="1" lang="en-US" sz="2400" spc="-1" strike="noStrike">
              <a:solidFill>
                <a:srgbClr val="000066"/>
              </a:solidFill>
              <a:latin typeface="Arial"/>
            </a:endParaRPr>
          </a:p>
        </p:txBody>
      </p:sp>
      <p:sp>
        <p:nvSpPr>
          <p:cNvPr id="95" name="PlaceHolder 2"/>
          <p:cNvSpPr>
            <a:spLocks noGrp="1"/>
          </p:cNvSpPr>
          <p:nvPr>
            <p:ph/>
          </p:nvPr>
        </p:nvSpPr>
        <p:spPr>
          <a:xfrm>
            <a:off x="456840" y="761760"/>
            <a:ext cx="8458200" cy="5105160"/>
          </a:xfrm>
          <a:prstGeom prst="rect">
            <a:avLst/>
          </a:prstGeom>
          <a:noFill/>
          <a:ln w="0">
            <a:noFill/>
          </a:ln>
        </p:spPr>
        <p:txBody>
          <a:bodyPr lIns="0" rIns="0" tIns="0" bIns="0" anchor="t">
            <a:normAutofit/>
          </a:bodyPr>
          <a:p>
            <a:pPr marL="343080" indent="-343080">
              <a:lnSpc>
                <a:spcPct val="90000"/>
              </a:lnSpc>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design, implement and later adjust your metrics program, it helps to have your program be guided by the following high-level objectives:</a:t>
            </a:r>
            <a:endParaRPr b="0" lang="en-US" sz="24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llect objective information about the current state of a software product, project, or process. </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llow managers and practitioners to make timely, data-driven decisions. </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ck your organization's progress toward its improvement goals. </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ssess the impact of process changes. </a:t>
            </a:r>
            <a:endParaRPr b="0" lang="en-US" sz="1800" spc="-1" strike="noStrike">
              <a:solidFill>
                <a:srgbClr val="000000"/>
              </a:solidFill>
              <a:latin typeface="Arial"/>
            </a:endParaRPr>
          </a:p>
          <a:p>
            <a:pPr lvl="1" marL="743040" indent="0">
              <a:lnSpc>
                <a:spcPct val="90000"/>
              </a:lnSpc>
              <a:spcBef>
                <a:spcPts val="451"/>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objectives can often be lost under the goal of collecting specific metrics, or in checking off some goal for a CMM/ISO/6-sigma initiative.  </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remember that the purpose of such initiatives is to improve process, not to simply check off some possible item on an auditor’s 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tting Started - Setting Goals</a:t>
            </a:r>
            <a:endParaRPr b="1" lang="en-US" sz="2400" spc="-1" strike="noStrike">
              <a:solidFill>
                <a:srgbClr val="000066"/>
              </a:solidFill>
              <a:latin typeface="Arial"/>
            </a:endParaRPr>
          </a:p>
        </p:txBody>
      </p:sp>
      <p:sp>
        <p:nvSpPr>
          <p:cNvPr id="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ffect change, it is always best to first set targets to strive for:</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maintenance costs by 20% per year for the next 3 year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system-test time by 25% this year</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rate of defect closure by 1/3 within 6 month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 schedule estimation accuracy to within +/- 10% over the next 2 releases</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me Tips For Establishing a Metrics Program</a:t>
            </a:r>
            <a:endParaRPr b="1" lang="en-US" sz="2400" spc="-1" strike="noStrike">
              <a:solidFill>
                <a:srgbClr val="000066"/>
              </a:solidFill>
              <a:latin typeface="Arial"/>
            </a:endParaRPr>
          </a:p>
        </p:txBody>
      </p:sp>
      <p:sp>
        <p:nvSpPr>
          <p:cNvPr id="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Routine</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oints, hold a meeting to record a project’s “vital statistic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data in a post-mortem prior to the departure of key individual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what was deemed to have been successful, and what was not</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the effort with those involved, allowing them to be co-owners of the metrics initiative</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what you have learned</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data centrally accessible</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living document, so that new knowledge can be kept in perspective with the old</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me Tips For Establishing a Metrics Program</a:t>
            </a:r>
            <a:endParaRPr b="1" lang="en-US" sz="2400" spc="-1" strike="noStrike">
              <a:solidFill>
                <a:srgbClr val="000066"/>
              </a:solidFill>
              <a:latin typeface="Arial"/>
            </a:endParaRPr>
          </a:p>
        </p:txBody>
      </p:sp>
      <p:sp>
        <p:nvSpPr>
          <p:cNvPr id="10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what you have collected</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multiple charts on a single view</a:t>
            </a:r>
            <a:endParaRPr b="0" lang="en-US" sz="2000" spc="-1" strike="noStrike">
              <a:solidFill>
                <a:srgbClr val="000000"/>
              </a:solidFill>
              <a:latin typeface="Arial"/>
            </a:endParaRPr>
          </a:p>
          <a:p>
            <a:pPr lvl="2" marL="1143000" indent="-228600">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ing the information can help spread the word</a:t>
            </a:r>
            <a:endParaRPr b="0" lang="en-US" sz="1800" spc="-1" strike="noStrike">
              <a:solidFill>
                <a:srgbClr val="000000"/>
              </a:solidFill>
              <a:latin typeface="Arial"/>
            </a:endParaRPr>
          </a:p>
          <a:p>
            <a:pPr lvl="2" marL="1143000" indent="-228600">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make sure that metrics in use are appropriate and not something simple for the sake of being simple.  Worrying too much about keeping things simple can yield misleading initiatives.</a:t>
            </a:r>
            <a:endParaRPr b="0" lang="en-US" sz="18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data by selection sets</a:t>
            </a:r>
            <a:endParaRPr b="0" lang="en-US" sz="2000" spc="-1" strike="noStrike">
              <a:solidFill>
                <a:srgbClr val="000000"/>
              </a:solidFill>
              <a:latin typeface="Arial"/>
            </a:endParaRPr>
          </a:p>
          <a:p>
            <a:pPr lvl="2" marL="1143000" indent="-228600">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how new process changes are affecting results</a:t>
            </a:r>
            <a:endParaRPr b="0" lang="en-US" sz="1800" spc="-1" strike="noStrike">
              <a:solidFill>
                <a:srgbClr val="000000"/>
              </a:solidFill>
              <a:latin typeface="Arial"/>
            </a:endParaRPr>
          </a:p>
          <a:p>
            <a:pPr lvl="2" marL="1143000" indent="-228600">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uncover patterns between different lines of business</a:t>
            </a:r>
            <a:endParaRPr b="0" lang="en-US" sz="1800" spc="-1" strike="noStrike">
              <a:solidFill>
                <a:srgbClr val="000000"/>
              </a:solidFill>
              <a:latin typeface="Arial"/>
            </a:endParaRPr>
          </a:p>
          <a:p>
            <a:pPr lvl="2" marL="1143000" indent="-228600">
              <a:spcBef>
                <a:spcPts val="451"/>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re may be reasons for varying productivity rates within different groups</a:t>
            </a:r>
            <a:endParaRPr b="0" lang="en-US" sz="18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Big-Brother” appearances in your approach</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hich gets interpreted as a Big-Brother approach will result in altering developer behaviour, negatively affecting productivity!</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 Prepared for Resistance to Change</a:t>
            </a:r>
            <a:endParaRPr b="1" lang="en-US" sz="2400" spc="-1" strike="noStrike">
              <a:solidFill>
                <a:srgbClr val="000066"/>
              </a:solidFill>
              <a:latin typeface="Arial"/>
            </a:endParaRPr>
          </a:p>
        </p:txBody>
      </p:sp>
      <p:sp>
        <p:nvSpPr>
          <p:cNvPr id="10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involves cultural change</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measurement transforms an organization from “managing by feeling” to “managing by fact”</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affects how employees view their work, their jobs and themselves</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is predominantly personal</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may show up both passively, or directly</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s need to feel:</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l plan is in place to implement this change</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support is made apparent</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s to their doubts are presented rationally</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will affect management work/job/self as well</a:t>
            </a:r>
            <a:endParaRPr b="0" lang="en-US" sz="24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 the collection of data, even if it brings bad news!</a:t>
            </a:r>
            <a:endParaRPr b="0" lang="en-US" sz="2400" spc="-1" strike="noStrike">
              <a:solidFill>
                <a:srgbClr val="000000"/>
              </a:solidFill>
              <a:latin typeface="Arial"/>
            </a:endParaRPr>
          </a:p>
        </p:txBody>
      </p:sp>
      <p:sp>
        <p:nvSpPr>
          <p:cNvPr id="104" name=""/>
          <p:cNvSpPr/>
          <p:nvPr/>
        </p:nvSpPr>
        <p:spPr>
          <a:xfrm>
            <a:off x="3468960" y="5925960"/>
            <a:ext cx="508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A. Dekkers – </a:t>
            </a:r>
            <a:r>
              <a:rPr b="1" lang="en-US" sz="1000" spc="-1" strike="noStrike">
                <a:solidFill>
                  <a:srgbClr val="000000"/>
                </a:solidFill>
                <a:latin typeface="Times New Roman"/>
              </a:rPr>
              <a:t>How and When Can Functional Size Fit with a Measurement Program?</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6868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ps to avoid with your metrics program</a:t>
            </a:r>
            <a:endParaRPr b="1" lang="en-US" sz="2400" spc="-1" strike="noStrike">
              <a:solidFill>
                <a:srgbClr val="000066"/>
              </a:solidFill>
              <a:latin typeface="Arial"/>
            </a:endParaRPr>
          </a:p>
        </p:txBody>
      </p:sp>
      <p:sp>
        <p:nvSpPr>
          <p:cNvPr id="10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Management Commitment</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too much, too soon</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oo little, too late</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the wrong stuff</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wrong stuff</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cise definition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ata for “Big-Brother” initiative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for data that doesn’t get us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training of staff</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over-reacting to results</a:t>
            </a:r>
            <a:endParaRPr b="0" lang="en-US" sz="24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5010480" y="5877000"/>
            <a:ext cx="369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rl E. Wiegers – </a:t>
            </a:r>
            <a:r>
              <a:rPr b="1" lang="en-US" sz="1200" spc="-1" strike="noStrike">
                <a:solidFill>
                  <a:srgbClr val="000000"/>
                </a:solidFill>
                <a:latin typeface="Times New Roman"/>
              </a:rPr>
              <a:t>Software Metrics: 10 Traps to Avoi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2:20:07Z</dcterms:created>
  <dc:creator>tmackenzie</dc:creator>
  <dc:description/>
  <dc:language>en-US</dc:language>
  <cp:lastModifiedBy>Mark Grice</cp:lastModifiedBy>
  <dcterms:modified xsi:type="dcterms:W3CDTF">2006-10-16T01:41:09Z</dcterms:modified>
  <cp:revision>103</cp:revision>
  <dc:subject/>
  <dc:title>klocwork bootcamp</dc:title>
</cp:coreProperties>
</file>