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ECA9-A3F2-4634-BA5F-7DA2A75C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tatistics were based on pre-static-analysis or limited static-analysis capabilities, so expect future benefits to have a reduced negative slope, but a benefit to more accurate scheduling will alway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owing either increases or decreases may justify an associated +’ve or –’ve shift in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peaking, relative goals are better than fixed goals, since they are more achie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983B-7ABF-4C23-92D7-DE8CB6759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E3CF-9D0B-46AA-AAAF-DD487C724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9E36-47B9-4BCC-9366-7FA9EECC9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DE31-0BF7-4DA6-859E-2E7AEFB84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FEF4-015A-4EC4-B057-AEB4ECE9B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4923-8966-468F-9B6D-6979DCC63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3A4F-25E7-4658-A676-1FA3C56BC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0D9B-4A89-4811-B99C-493D39FC8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B26F-7398-461F-BB89-ADF13B691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3A7B-F6B7-4FBF-85D9-6590C9228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C438-4B7A-4DFE-8199-B917B93B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124D-CBE9-439C-B6BC-A819DDBF0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4D6D-6CF4-4E52-BE9F-8DE2A6029E58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477120"/>
            <a:ext cx="90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9622-4A3E-4DB9-9988-FBA0CC796163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0149-0A04-4737-8AF3-6B79928096A1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ftware Metrics Introdu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 Tips For Establishing a Metrics Progra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what you have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multiple charts on a singl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ing the information can help spread th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make sure that metrics in use are appropriate and not something simple for the sake of being simple.  Worrying too much about keeping things simple can yield misleading initi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data by selection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how new process changes are affec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uncover patterns between different lines of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re may be reasons for varying productivity rates within differ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“Big-Brother” appearances in y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which gets interpreted as a Big-Brother approach will result in altering developer behaviour, negatively affecting productiv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ftware Metric Truths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arger files result in greater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more complex functions contain more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ents a sign of better 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 questions to consi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arger files imply greater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yes, as you would expect.  However, defect density rates tend to be larger for smaller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more complex functions contain more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re comments a sign of better 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11280" y="2922480"/>
            <a:ext cx="5037120" cy="306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78520" y="589104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 questions to consi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larger files imply greater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more complex functions contain more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how you look a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at Microsoft showed average complexity files had greater faul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re comments a sign of better 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10520" y="616572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507672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 questions to consi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larger files imply greater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more complex functions contain more de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ents a sign of better 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ecess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at Microsoft showed that Medium LOC/comment files tended to have higher defect densities than large or small LOC/commen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4934160" cy="2847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02520" y="610704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doesn’t code conform to set “rules”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is rarely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tend to “borrow” sample code from others when starting a new or related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code has had the benefit of field tri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ay be complex, but bugs may have been wiped clean over time, resulting in previously observed cu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is written under differen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-schedule” code will tend to suffer more than “early-schedule” or “mid-schedule” co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even low complexity code can have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tasks are no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tougher tasks go to more senio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2520" y="610704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to counter these influences inside your process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istoric build information to plan with more accurate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build churn metrics regularly to act on areas of concern before they get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80-20 rule to help optimize testing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locwork to establish time-zero checking guidelines against metrics like complexity, function-size, comments or the risk me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developers the chance to be better informed on maintenance issues when they are in the midst of coding.     (“Build quality in from the ground-up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ccurate 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accurate scheduling estimation is shown by this grap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utnum, Myers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miliar Metric Management - Effort, Development Time, and Defects Interac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973840" cy="43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to obtain more accurate estimates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duce “gut” feel estimation, and aim for something more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y collecting metrics on both software and work-effor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any factors affect how an estimate is formulated, and estimates are related to the code, some artistic ability is help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you record your justifications for estimate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applying “rules-of-thumb” from different language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art or science is used, compare recorded estimates to actual numbers to help learn which techniques and justifications h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arity of recording work-effort can be over-kill initially, so be careful with what you ask your employees to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that timesheet recordings will start to expose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ce churn is obviously affecting development productiv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uld start our next releases sooner if we just did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nitor Build Metrics Regular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build metrics after the project can provide assistance in making more accurate estimates for fu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viously, waiting until the end doesn’t help the current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regular cycle which will expose issues early enough to allow for corrective action which makes a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, Weekly or Month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periods of excessive churn, daily reports on defects might be important, but trends require more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on issues observed through weekly reports may be too re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monthly reports may be too 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generally depends on the volume of churn being recorded in the given timeframe, for when you should become concerned by what you are se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ftware Metrics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nefits of collecting software metrics ar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your development process with Klocwork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cess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Improved Est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can be done to keep the train on track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groups will observe differ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urrent project, the primary question will come down to how best to allocat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rics warranting corrective action might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/Decreasing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/Decreasing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Maintenance Issu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xpectedly high churn rates late in the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workloads or Consistent peak work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balanced work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areas of concern with GANT/PERT charts to see if critical path becoming mo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can be done to keep the train on track? (Con’t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just trust the numbers, apply awareness where pos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ew that added feature would increase complex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move someone from that group over here to learn about this area of code for the next releas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hold a code-review/requirements review for that area next wee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ly recognize desirable metric reductions and low-rates on key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contingencies in your plan to allow for taking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Late-cycle churn with the 80-20 r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ing which areas in the code are more prone to have errors can offer the ability to prioritize testing on those are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: Test the most risky area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when the test-group finds errors in this code, it will allow more time for development to fix the errors before the release window significantly shr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churn metrics can be used to point to recently changed areas with highe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ing test-plans to focus on the top 20% of risk areas early in the test-cycle will offer development a larger time-window to address issues these tests uncover.  Typically 80% of unexposed defects will lie within this churned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8560" indent="0">
              <a:spcBef>
                <a:spcPts val="249"/>
              </a:spcBef>
              <a:buNone/>
              <a:tabLst>
                <a:tab algn="l" pos="0"/>
                <a:tab algn="l" pos="180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strand, Weyuker and Bell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Static Analysis to Determine Where to Focus Dynamic Testing Ef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fits of Time-Zero in reducing chur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benefits of static analysis testing at time-zero have been shown prev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added effect on churn likely to be seen as a result of implementing time-zero static-analysis use within your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typical Project Churn cycl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79840" y="2727360"/>
            <a:ext cx="5143320" cy="358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2109000">
            <a:off x="5168520" y="3244320"/>
            <a:ext cx="647640" cy="1295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120" y="3282840"/>
            <a:ext cx="2252520" cy="641520"/>
          </a:xfrm>
          <a:prstGeom prst="rect">
            <a:avLst/>
          </a:prstGeom>
          <a:solidFill>
            <a:srgbClr val="aebf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Release increases churn due to customer discovered-fixes and feature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09000">
            <a:off x="6033960" y="4130640"/>
            <a:ext cx="648000" cy="1295280"/>
          </a:xfrm>
          <a:custGeom>
            <a:avLst/>
            <a:gdLst>
              <a:gd name="textAreaLeft" fmla="*/ 86760 w 648000"/>
              <a:gd name="textAreaRight" fmla="*/ 561240 w 6480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0200" y="4168800"/>
            <a:ext cx="2252520" cy="641520"/>
          </a:xfrm>
          <a:prstGeom prst="rect">
            <a:avLst/>
          </a:prstGeom>
          <a:solidFill>
            <a:srgbClr val="aebf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GA-release performance tuning, and simple fixes result in another small up-tick in ch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02520" y="624996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fits of Time-Zero in reducing chur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643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a Time-Zero testing program will cause negligible increases in churn at the early phase of the project, while reducing the more risky, late-cycle ch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avings could then be used to shrink the schedule, implement more features, tune resource allocation, and eventually, cut back negative impacts of over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698920" y="2755800"/>
          <a:ext cx="532908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755800"/>
                    <a:ext cx="5329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rot="2109000">
            <a:off x="5311440" y="3403080"/>
            <a:ext cx="647640" cy="1295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57680" y="3441600"/>
            <a:ext cx="2252880" cy="459000"/>
          </a:xfrm>
          <a:prstGeom prst="rect">
            <a:avLst/>
          </a:prstGeom>
          <a:solidFill>
            <a:srgbClr val="aebf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Release churn shrinks with Time-Zero defec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109000">
            <a:off x="6176880" y="4289040"/>
            <a:ext cx="647640" cy="1295280"/>
          </a:xfrm>
          <a:custGeom>
            <a:avLst/>
            <a:gdLst>
              <a:gd name="textAreaLeft" fmla="*/ 86760 w 647640"/>
              <a:gd name="textAreaRight" fmla="*/ 560880 w 64764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23120" y="4327560"/>
            <a:ext cx="2252520" cy="641520"/>
          </a:xfrm>
          <a:prstGeom prst="rect">
            <a:avLst/>
          </a:prstGeom>
          <a:solidFill>
            <a:srgbClr val="aebf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GA-release churn also shrinks with Time-Zero defec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2520" y="624996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stimating the Risk of Releasing Software – Brendan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standing your Development Process with Klocwor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listed the metrics you may need to reach some targeted goals, you then need to apply tools to collecting thos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cwork build analysis and Klocwork inTellect give you the ability to collect and monitor some of the metrics which will be relevant to measuring you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oftware Metrics as Innovative Progre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5040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spcBef>
                <a:spcPts val="451"/>
              </a:spcBef>
              <a:buNone/>
              <a:tabLst>
                <a:tab algn="l" pos="0"/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Arndt article from Business-Week, May 8, 2006, on Innovation at Whirlpool, can apply to Software Organizations developing a Metrics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72280" y="836640"/>
            <a:ext cx="352080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900000" y="2276640"/>
            <a:ext cx="4103640" cy="3660120"/>
          </a:xfrm>
          <a:prstGeom prst="rect">
            <a:avLst/>
          </a:prstGeom>
          <a:solidFill>
            <a:srgbClr val="ace1f2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ck With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istence in collecting metr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yield tangible ins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rics Alone, won’t cut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rag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ch your discoveries t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in the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 Orthodo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such a young indust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iefs deserve to be ques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out which ones to use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 on the metrics that m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73120" y="18446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rics Best-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Measure Software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projects are known for being over-scheduled, over-budget, yet still suffering from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ome form of measurement on your current processes, estimates for future projects remain guess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can be used to help you learn more about the way your organizatio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actual effort and time taken on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when your product is sufficiently stable to 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whether new processes are actually working or worth the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tting Started - Setting Goa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affect change, it is always best to first set targets to striv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maintenance costs by 20% per year for the next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system-test time by 25% this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rate of defect closure by 1/3 within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 schedule estimation accuracy to within +/- 10% over the next 2 rel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tting Started - How to reach for those targets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setup a series of goals, the next step would be to ask questions which focus on those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maintenance costs by 20% per year for the next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aintenance costing us each mon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these maintenance dollars spread across the various applications w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of that maintenance is for additions (adaptive), vs. fixes (correctiv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tting Started - Metrics for your Goal-based ques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question, identify the metrics which can be used to help you measure what you need to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metrics that will typically be involved in solving such goal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arenR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:  LOC, Function Points, Requirements, Elements,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n: Code Churn, File Churn, Function Ch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arenR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/Actual Duration:  time or hours used, tracked over projects, specific task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arenR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effort distribution: time spent on development activities (requirements, design, coding, testing, project management) and maintenance activities (corrective vs. adap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arenR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s: observances from various stages of development life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these 4 metrics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jects get managed around only 2 of these metric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ilestones (D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defect metrics, however, are critical since they represent what has been built, and the relative quality of tha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program is put in place to collect these 4 metric areas, an organization has the basis for constructing a productivity bas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nitor your Productivit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program in place to monitor productivity, organizations can then begin to explore w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exhibit schedule over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exhibit cost over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exhibit high defect density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n all be converted into process and productivit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software estimations provide for improved inter-corporate communications, including employee performance expec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ultimately lead to a reduction in the need for overtime, which taxes the organization in various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 Tips For Establishing a Metrics Progra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various points, hold a meeting to record a project’s “vital statist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data in a post-mortem prior to the departure of key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what was deemed to have been successful, and what wa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e effort with those involved, allowing them to be co-owners of the metrics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what you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data centrally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living document, so that new knowledge can be kept in perspective with the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2:20:07Z</dcterms:created>
  <dc:creator>tmackenzie</dc:creator>
  <dc:description/>
  <dc:language>en-US</dc:language>
  <cp:lastModifiedBy>Mark Grice</cp:lastModifiedBy>
  <dcterms:modified xsi:type="dcterms:W3CDTF">2006-10-16T01:35:51Z</dcterms:modified>
  <cp:revision>86</cp:revision>
  <dc:subject/>
  <dc:title>klocwork bootcamp</dc:title>
</cp:coreProperties>
</file>