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E0E1-33B9-42F7-ADE1-E988054F1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1F59-53C5-45F8-AACB-8B363FEDC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7F11-7D14-48DB-8758-42876ACF0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FB33-C8B6-49BF-B80F-61E341F2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029C-BB24-4FD4-A8A9-E56848059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C5DE-42DB-4F13-BF23-E7AC7F6D8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BED-64D4-4A82-86FD-3758DE07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B63A-FA41-4F1B-BA39-A7CD79801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1C96-655C-40EE-82BC-4BF4C994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D30C-8B5D-4A70-84B6-2C98F0B85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058A-FC20-48E7-8F7A-02FC16A07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A6FC-F6AD-49E1-8A78-D9913CA06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6B0-D299-4A61-A19A-C6668363411D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0B2-1181-491E-A2DA-B213AD2C5325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49543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QLCMD Sample Project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IND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QLCMD Sample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sample project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is used to illustrate the use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ol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intended to be representative of an actual software system, while at the same time being small and easily understo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so called a “sandbox” exampl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lication is a C source code file that connects to an SQL database, allows you to type in an SQL query, and then displays the resul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“main” pro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QL interf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QL interface header 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Project - The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irectory Stru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696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 uses the directory stru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ourc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sr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clude files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xecutable file are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\b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4290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lc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800600"/>
            <a:ext cx="2743200" cy="6858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441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4:59:55Z</dcterms:created>
  <dc:creator>tmackenzie</dc:creator>
  <dc:description/>
  <dc:language>en-US</dc:language>
  <cp:lastModifiedBy>Neil Lillemark</cp:lastModifiedBy>
  <dcterms:modified xsi:type="dcterms:W3CDTF">2006-06-20T03:13:15Z</dcterms:modified>
  <cp:revision>293</cp:revision>
  <dc:subject/>
  <dc:title>klocwork Build Process</dc:title>
</cp:coreProperties>
</file>