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7B84-7355-4219-95A6-BDA38541D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64CC-5FCE-49AB-A68A-071C93B49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0D81-04B6-4D0D-B562-D3F979537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B325-4857-4193-88BA-419623406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C8FA-3BDA-4D45-92EF-DA16CE40B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903C-3380-4310-B08F-485B11AA7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23C4-7943-4FDA-8E77-59123E627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4B06-0FCA-422D-A5D8-AC261055E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C21C-9EB9-431C-961F-D1CFEDDC0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A188-289E-45F3-A168-C14CCF1B9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2A2B-7B46-40C8-9448-439E4CCAB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FD62-3CD4-488B-A677-9D3403156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26400" y="614808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4C3E-30DC-453D-9D64-A008B3CEF56F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7F34-26AB-445A-A420-DDC71D2597C9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Interface Problems Reporting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LOCAL_DECL - File uses a local declaration of 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ternal object without  using 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face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3192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An extern is used to reference a definition without using a hea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if_local_decl.c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Error;3;MAINT_BASE;IF_LOCAL_DECL;Error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if_local_decl.c:{FUNCTION-DECLARATION}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File uses local declaration of external object 'if_local_decl.c:{FUNCTI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DECLARATION}f' without using interfa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9120" y="2459160"/>
            <a:ext cx="381636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local_decl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 void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MISS_DECL - Object is used but declaration was no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n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1520" y="947880"/>
            <a:ext cx="8936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object was used but no declaration was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miss_decl.c;2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MISS_DECL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}f;Object '{FUNCTION}f' used but declaration not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63760" y="2600280"/>
            <a:ext cx="3816360" cy="1513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miss_decl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MULTI_DECL - Multiple declarations for an ob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" y="763560"/>
            <a:ext cx="893628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than one declaration of an object was fou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eader1.h;3;-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rror;3;MAINT_BASE;IF_MULTI_DECL;Error;;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ultiple declaration for f (header1.h:{FUNCTION-DECLARATION}f,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eader.h:{FUNCTION-DECLARATION}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eader.h;3;-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rror;3;MAINT_BASE;IF_MULTI_DECL;Error;;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ultiple declaration for f (header1.h:{FUNCTION-DECLARATION}f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eader.h:{FUNCTION-DECLARATION}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20" y="1771560"/>
            <a:ext cx="3163680" cy="2224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multi_decl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20920" y="1771560"/>
            <a:ext cx="2917800" cy="2224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54560" y="1771560"/>
            <a:ext cx="2918160" cy="2224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MULTI_INTERFACE -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 has more than one interfac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le: %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1520" y="1090440"/>
            <a:ext cx="89362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are declarations in more than one header for the file defini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multi_interface.c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MULTI_INTERFACE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:{FUNCTION-DECLARATION}f, header1.h:{FUNCTIONDECLARATION}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le has more than one interface file: header.h:{FUNCTION-DECLARATION}f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1.h:{FUNCTION-DECLARATION}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097000"/>
            <a:ext cx="2954160" cy="1957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E: if_multi_interface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g()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g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5520" y="2097000"/>
            <a:ext cx="2343240" cy="1957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f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4880" y="2097000"/>
            <a:ext cx="2570400" cy="1957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g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MULTI_KIND - Multiple definition for %s (%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8120" y="1039680"/>
            <a:ext cx="8831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s with the same name but different kinds were fou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multi_kind.c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rror;3;MAINT_BASE;IF_MULTI_KIND;Error;;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ltiple definition for f (if_multi_kind.c:{VARIABLE}f, if_multi_kind.c:{FUNCTION}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multi_kind.c;2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rror;3276800;MAINT_BASE;IF_MULTI_KIND;3279616;;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ltiple definition for f (if_multi_kind.c:{VARIABLE}f, if_multi_kind.c:{FUNCTION}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0280" y="2097000"/>
            <a:ext cx="3529080" cy="1685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f_multi_kind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NOTINC_INTERFACE - File does not include all it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faces: %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" y="1039680"/>
            <a:ext cx="8831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interface file for a file is missing declar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Module.c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Warning;7;MAINT_BASE;IF_NOTINC_INTERFACE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Module.h:{FUNCTION-DECLARATION}g;File does not include all its interfac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Module.h:{FUNCTION-DECLARATION}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960" y="2325600"/>
            <a:ext cx="369900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if_notinc_interface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aModule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83040" y="2325600"/>
            <a:ext cx="234324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aModule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g()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9800" y="2325600"/>
            <a:ext cx="2570040" cy="18079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Module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ONLY_DECL - Declaration found for %s, but no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8120" y="1039680"/>
            <a:ext cx="8831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claration was found but the corresponding definition was mi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;3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ONLY_DECL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-DECLARATION}h;Declaration foun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-DECLARATION}h,but no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2880" y="1766880"/>
            <a:ext cx="3529080" cy="1955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only_decl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73760" y="1766880"/>
            <a:ext cx="2838240" cy="1955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ONLY_DEF - Definition found for %s, but no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laration: should be defined static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lar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8120" y="1090440"/>
            <a:ext cx="88315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was found but the corresponding declaration was mi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only_def.c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ONLY_DEF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}f;Definition found for {FUNCTION}f, but not declaration: should 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fined static or decl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2880" y="2300400"/>
            <a:ext cx="3529080" cy="1685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f_only_de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bu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a custom interface problem rules file that only reports interface errors and import it into the project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a build using only the custom interface problem configuration file to show only the interface error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pect the results in Project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Interface Problems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nterface problems are discussed in detail with emphasis on the code that causes the proble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actical exercise in the interface problem analysis configuration and the generation and inspection of interface problem reports is provid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Interface Problem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ault Descrip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aul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CYCLE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Cycle in include files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DEF_IN_HEADER_DECL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Definition in one header and declaration in another header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DEF_IN_HEADER_EX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Extern object defined in header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DEF_IN_HEADER_ST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Static object defined in header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DUPL_HEADER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Header file name is duplicated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LOCAL_DECL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ile uses a local declaration of an external object without 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using an interface fil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MISS_DECL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Object is used but declaration was not found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MULTI_DECL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Multiple declaration for an object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MULTI_DEF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Multiple definition for an object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MULTI_INTERFACE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ile has more than one interface file: %s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MULTI_KIND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Multiple definition for %s (%s)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NOTINC_INTERFACE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ile does not include all its interfaces: %s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ONLY_DECL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Declaration found for %s, but not definition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IF_ONLY_DEF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Definition found for %s, but not declaration: should be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00"/>
              </a:spcBef>
              <a:buNone/>
              <a:tabLst>
                <a:tab algn="l" pos="0"/>
                <a:tab algn="l" pos="2060640"/>
                <a:tab algn="l" pos="6181560"/>
                <a:tab algn="l" pos="7261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66"/>
                </a:solidFill>
                <a:latin typeface="Arial"/>
              </a:rPr>
              <a:t>defined static or declar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24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9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face Problems Related to C/C++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s are provided for the interface problems applicable to C and C++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CYCLE – There is a Cycle in the Header Fi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028880"/>
            <a:ext cx="82296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ral files include each other in a loo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1.h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rror;3;MAINT_BASE;IF_CYCLE;Error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cycle.c, header.h, header1.h, header1.h;Cycle in include fi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_cycle.c, header.h, header1.h,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6760" y="2079720"/>
            <a:ext cx="2619360" cy="1513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34400" y="2079720"/>
            <a:ext cx="2741040" cy="1513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2079720"/>
            <a:ext cx="3032280" cy="151380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f_cycle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DEF_IN_HEADER_DECL - Definition in one heade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declaration in anoth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03680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oth the definition and declaration are in header fi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;3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DEF_IN_HEADER_DECL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:{FUNCTION}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:{FUNCTION}f header1.h:{FUNCTION-DECLARATION}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fined in header and declared in anoth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3560" y="2371680"/>
            <a:ext cx="2709720" cy="1955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76800" y="2371680"/>
            <a:ext cx="2846520" cy="1955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1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1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exte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200" y="2371680"/>
            <a:ext cx="3135240" cy="19288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def_in_header_decl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1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DEF_IN_HEADER_EX - Extern object defined in hea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023840"/>
            <a:ext cx="85550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is a definition in a hea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;3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rror;3;MAINT_BASE;IF_DEF_IN_HEADER_EX;Error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}f;Extern object defined in header {FUNCTION}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3120" y="2359080"/>
            <a:ext cx="2917800" cy="14158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 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04840" y="2359080"/>
            <a:ext cx="4156200" cy="14158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: if_def_in_header_ex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DEF_IN_HEADER_ST - Static object defined in hea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023840"/>
            <a:ext cx="868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is a static definition in a hea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;3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DEF_IN_HEADER_ST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{FUNCTION}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tatic object defined in header {FUNCTION}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400" y="2066760"/>
            <a:ext cx="2917800" cy="14158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static 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f() 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55520" y="2066760"/>
            <a:ext cx="4141800" cy="14158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def_in_header_st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984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_DUPL_HEADER - Header file name is duplica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1520" y="1023840"/>
            <a:ext cx="8936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is a duplicate hea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b1\header.h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DUPL_HEADER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 file name header.h duplicated: sub1\header.h, sub2\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b2\header.h;1;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rning;7;MAINT_BASE;IF_DUPL_HEADER;Warning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eader.h#1;Header file name header.h#1 duplicated: sub1\header.h,sub2\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920" y="1987560"/>
            <a:ext cx="3164040" cy="1685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if_dupl_head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sub1/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"sub2/header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20920" y="1987560"/>
            <a:ext cx="2917800" cy="1685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sub1/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29360" y="1987560"/>
            <a:ext cx="2917800" cy="1685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FILE: sub2/head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ifndef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__HEADER_H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4:26:07Z</dcterms:created>
  <dc:creator>Tom MacKenzie</dc:creator>
  <dc:description/>
  <dc:language>en-US</dc:language>
  <cp:lastModifiedBy>Neil Lillemark</cp:lastModifiedBy>
  <dcterms:modified xsi:type="dcterms:W3CDTF">2006-06-23T12:14:39Z</dcterms:modified>
  <cp:revision>639</cp:revision>
  <dc:subject/>
  <dc:title>Working with Code Problem Reporting</dc:title>
</cp:coreProperties>
</file>