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35810-BC46-4975-81DB-A1D003D4C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1731A-E15C-4F2A-8AD2-740DD060B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17A67-177B-4A18-927C-1815827E3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9EE0E-C236-4C15-8D67-3B6DF42BF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FDA9A-D6FB-4399-8867-D347F8856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BD9B8-5747-4F91-8486-16D27F0BA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08CF4-C71A-4EEC-8E48-0D22C27D6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6E350-D4FF-4527-B164-4FAD516FBD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6F79-1CD6-41F4-B95F-A823638946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9208-3EE6-4D4F-B982-78BBDA065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6F67-24C7-4C0D-B7AC-FCEDB8A75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B96D4-24F6-4CAA-A4F9-819B0C386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920" y="-1440"/>
            <a:ext cx="9159840" cy="6860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77320" y="669240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7CB2-B26B-442E-B6E0-5344FBEF2404}" type="slidenum">
              <a:rPr b="0" lang="en-US" sz="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32240" y="6553080"/>
            <a:ext cx="3810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Klocwork Inc. Confidential © 1998-2006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65400" y="6442200"/>
            <a:ext cx="98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A80F-CE8E-4C20-A1EE-270207B387FF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7858" b="112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338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400B-F1FE-42B2-87A1-AD49DBF0B614}" type="datetime2">
              <a:rPr b="0" lang="en-US" sz="800" spc="-1" strike="noStrike">
                <a:solidFill>
                  <a:srgbClr val="000066"/>
                </a:solidFill>
                <a:latin typeface="Arial"/>
              </a:rPr>
              <a:t>Thursday, July 30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orking with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Klocwor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Models – K7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orting a Model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50880" y="947880"/>
            <a:ext cx="6112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vide a name for the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26880" y="1744560"/>
            <a:ext cx="8487000" cy="3368880"/>
            <a:chOff x="326880" y="1744560"/>
            <a:chExt cx="8487000" cy="336888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26880" y="1744560"/>
              <a:ext cx="8487000" cy="3368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3295800" y="2847960"/>
              <a:ext cx="2552400" cy="1162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orting a Model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69960" y="1057320"/>
            <a:ext cx="605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en the imported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480" y="1658880"/>
            <a:ext cx="7616880" cy="399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el XML Files - Overvie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Model XML File is the vehicle for creating a Model outside of the inSight Architect based on structural organizations that exist, for example, during loadbuild, during packaging, during loading or in the political organizatio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new Model XML File can be loaded into the project either using inSight Architect or outside of inSight Architect using a command line utility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Model XML file is a text file that describes a desired containment hierarchy using XML tag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el XML File –Comme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Model XML File comment can occur between any two XML element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rmat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&lt;!–- ... --&gt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&lt;!–- Copyright Klocwork@2004 --&gt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el XML File – Tags </a:t>
            </a:r>
            <a:r>
              <a:rPr b="1" i="1" lang="en-US" sz="2400" spc="-1" strike="noStrike">
                <a:solidFill>
                  <a:srgbClr val="000066"/>
                </a:solidFill>
                <a:latin typeface="Courier New"/>
              </a:rPr>
              <a:t>HEADE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2800" y="971640"/>
            <a:ext cx="873756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re must always be an XML header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rmat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&lt;?xml version="1.0" encoding="UTF-8"?&gt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&lt;!DOCTYPE structure SYSTEM "structure.dtd"&gt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ption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n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Document Type Definition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tructure.dt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s available in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nfi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directory of the installed Klocwork releas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el XML File – Tags </a:t>
            </a:r>
            <a:r>
              <a:rPr b="1" i="1" lang="en-US" sz="2400" spc="-1" strike="noStrike">
                <a:solidFill>
                  <a:srgbClr val="000066"/>
                </a:solidFill>
                <a:latin typeface="Courier New"/>
              </a:rPr>
              <a:t>STRUCTUR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84924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ontainment structure must be contained in a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tructur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tag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rmat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&lt;structure&gt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...Contents of structure .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&lt;/structure&gt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ption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published=“yes”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“no”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defaul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“no”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dicates that the model should be shared after it is import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&lt;structure published=“yes”&gt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...Contents of structure .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&lt;/structure&gt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el XML File – Tags </a:t>
            </a:r>
            <a:r>
              <a:rPr b="1" i="1" lang="en-US" sz="2400" spc="-1" strike="noStrike">
                <a:solidFill>
                  <a:srgbClr val="000066"/>
                </a:solidFill>
                <a:latin typeface="Courier New"/>
              </a:rPr>
              <a:t>ENTITY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49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ach entity has an entity tag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rmat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&lt;entity id=“</a:t>
            </a:r>
            <a:r>
              <a:rPr b="0" i="1" lang="en-US" sz="1600" spc="-1" strike="noStrike">
                <a:solidFill>
                  <a:srgbClr val="000066"/>
                </a:solidFill>
                <a:latin typeface="Courier New"/>
              </a:rPr>
              <a:t>ENTITY-ID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“ name=“</a:t>
            </a:r>
            <a:r>
              <a:rPr b="0" i="1" lang="en-US" sz="1600" spc="-1" strike="noStrike">
                <a:solidFill>
                  <a:srgbClr val="000066"/>
                </a:solidFill>
                <a:latin typeface="Courier New"/>
              </a:rPr>
              <a:t>ENTITY-NAME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“ kind=“ENTITY-KIND“&gt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... Contents of Block ..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&lt;/entity&gt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hen it contains other blocks, o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&lt;entity id=“</a:t>
            </a:r>
            <a:r>
              <a:rPr b="0" i="1" lang="en-US" sz="1600" spc="-1" strike="noStrike">
                <a:solidFill>
                  <a:srgbClr val="000066"/>
                </a:solidFill>
                <a:latin typeface="Courier New"/>
              </a:rPr>
              <a:t>ENTITY-ID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“ name=“</a:t>
            </a:r>
            <a:r>
              <a:rPr b="0" i="1" lang="en-US" sz="1600" spc="-1" strike="noStrike">
                <a:solidFill>
                  <a:srgbClr val="000066"/>
                </a:solidFill>
                <a:latin typeface="Courier New"/>
              </a:rPr>
              <a:t>ENTITY-NAME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“ kind=“ENTITY-KIND“/&gt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hen it does no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Option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user_defined=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” or “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no”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default is “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Indicates whether the entity is not found in the 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System_model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deleted=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” or “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default is “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Indicates that this entity was in the 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System_model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 but is remove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el XML File –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Courier New"/>
              </a:rPr>
              <a:t>ENTITY-I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9000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n </a:t>
            </a:r>
            <a:r>
              <a:rPr b="0" i="1" lang="en-US" sz="1800" spc="-1" strike="noStrike">
                <a:solidFill>
                  <a:srgbClr val="000066"/>
                </a:solidFill>
                <a:latin typeface="Courier New"/>
              </a:rPr>
              <a:t>ENTITY-I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s a text string that is unique over all entities in the structure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t is composed of any sequence of characters allowed by XM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tter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a-z A-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umber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-9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separators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. - _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escaped 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&amp;#nnn;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 where 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nnn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 is the numerical character code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e.g. 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&amp;#32;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 is spa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special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~!@#$%^*()+={}[];|\`,.?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&amp;amp;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for 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&amp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&amp;gt;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for 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&amp;lt;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for 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&lt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&amp;quot;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for 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“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&amp;apos;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for 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‘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Examples,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aVar, 00001, (hello, world!), &amp;#48;&amp;#49;&amp;#50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el XML File – </a:t>
            </a:r>
            <a:r>
              <a:rPr b="1" i="1" lang="en-US" sz="2400" spc="-1" strike="noStrike">
                <a:solidFill>
                  <a:srgbClr val="000066"/>
                </a:solidFill>
                <a:latin typeface="Courier New"/>
              </a:rPr>
              <a:t>ENTITY-NAM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 ENTITY-NAME is the name to appear in the block in inSight Architec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t is a name acceptable to inSight Architec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egins with a letter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llowed by a sequence of letters, digits or underscore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el XML File –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ARCHITECTURE-BLOCK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6560" y="779040"/>
            <a:ext cx="875196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089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mat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089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entity id=“</a:t>
            </a:r>
            <a:r>
              <a:rPr b="0" i="1" lang="en-US" sz="1400" spc="-1" strike="noStrike">
                <a:solidFill>
                  <a:srgbClr val="000066"/>
                </a:solidFill>
                <a:latin typeface="Courier New"/>
              </a:rPr>
              <a:t>ENTITY-ID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“ name=“</a:t>
            </a:r>
            <a:r>
              <a:rPr b="0" i="1" lang="en-US" sz="1400" spc="-1" strike="noStrike">
                <a:solidFill>
                  <a:srgbClr val="000066"/>
                </a:solidFill>
                <a:latin typeface="Courier New"/>
              </a:rPr>
              <a:t>ENTITY-NAME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“ kind=“ARCHITECTURE-BLOCK“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089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... Contents of Block ..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089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/entity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089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089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089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089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?xml version="1.0" encoding="UTF-8"?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089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!DOCTYPE structure SYSTEM "structure.dtd"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089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structure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089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entity id=“</a:t>
            </a:r>
            <a:r>
              <a:rPr b="0" i="1" lang="en-US" sz="1400" spc="-1" strike="noStrike">
                <a:solidFill>
                  <a:srgbClr val="000066"/>
                </a:solidFill>
                <a:latin typeface="Courier New"/>
              </a:rPr>
              <a:t>E00001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“ name=“</a:t>
            </a:r>
            <a:r>
              <a:rPr b="0" i="1" lang="en-US" sz="1400" spc="-1" strike="noStrike">
                <a:solidFill>
                  <a:srgbClr val="000066"/>
                </a:solidFill>
                <a:latin typeface="Courier New"/>
              </a:rPr>
              <a:t>aBlock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“ kind=“ARCHITECTURE-BLOCK“ user_defined=“yes”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089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/entity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089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&lt;/structure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orking With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Klocwor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Model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dvanced usage of the model prepared by th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locwork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nSight Architect is present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export, import and propagation of models is discuss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use of models to create different versions of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ystem Mode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s present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practical exercise in the export and import of models and the use of the model to create an alternat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ystem Mode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 the architecture of a sample software system is provid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pon completion of this module, the student will have an understanding of how to work with models to export, import, propagate and build new view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el XML File –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ARCHITECTURE-BLOCK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25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re must be an anonymous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ARCHITECTURE-BLOCK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containing the entire mode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?xml version="1.0" encoding="UTF-8"?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!DOCTYPE structure SYSTEM "structure.dtd"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structure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entity id=“</a:t>
            </a:r>
            <a:r>
              <a:rPr b="0" i="1" lang="en-US" sz="1400" spc="-1" strike="noStrike">
                <a:solidFill>
                  <a:srgbClr val="000066"/>
                </a:solidFill>
                <a:latin typeface="Courier New"/>
              </a:rPr>
              <a:t>E00000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“ name=““ kind=“ARCHITECTURE-BLOCK“ user_defined=“yes”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... Contents of Model ..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/entity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&lt;/structure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el XML File –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DIRECTORY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764640"/>
            <a:ext cx="8229600" cy="51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908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mat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908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&lt;entity id=“</a:t>
            </a:r>
            <a:r>
              <a:rPr b="0" i="1" lang="en-US" sz="1600" spc="-1" strike="noStrike">
                <a:solidFill>
                  <a:srgbClr val="000066"/>
                </a:solidFill>
                <a:latin typeface="Courier New"/>
              </a:rPr>
              <a:t>ENTITY-ID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“ name=“</a:t>
            </a:r>
            <a:r>
              <a:rPr b="0" i="1" lang="en-US" sz="1600" spc="-1" strike="noStrike">
                <a:solidFill>
                  <a:srgbClr val="000066"/>
                </a:solidFill>
                <a:latin typeface="Courier New"/>
              </a:rPr>
              <a:t>ENTITY-NAME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“ kind=“DIRECTORY“&gt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908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... Contents of Directory ..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908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&lt;/entity&gt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3908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908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908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&lt;?xml version="1.0" encoding="UTF-8"?&gt;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908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&lt;!DOCTYPE structure SYSTEM "structure.dtd"&gt;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908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&lt;structure&gt;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908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&lt;entity id=“</a:t>
            </a:r>
            <a:r>
              <a:rPr b="0" i="1" lang="en-US" sz="1300" spc="-1" strike="noStrike">
                <a:solidFill>
                  <a:srgbClr val="000066"/>
                </a:solidFill>
                <a:latin typeface="Courier New"/>
              </a:rPr>
              <a:t>E00000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“ name=““ kind=“ARCHITECTURE-BLOCK“ user_defined=“yes”&gt;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908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&lt;entity id=“</a:t>
            </a:r>
            <a:r>
              <a:rPr b="0" i="1" lang="en-US" sz="1300" spc="-1" strike="noStrike">
                <a:solidFill>
                  <a:srgbClr val="000066"/>
                </a:solidFill>
                <a:latin typeface="Courier New"/>
              </a:rPr>
              <a:t>E00001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“ name=“</a:t>
            </a:r>
            <a:r>
              <a:rPr b="0" i="1" lang="en-US" sz="1300" spc="-1" strike="noStrike">
                <a:solidFill>
                  <a:srgbClr val="000066"/>
                </a:solidFill>
                <a:latin typeface="Courier New"/>
              </a:rPr>
              <a:t>aBlock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“ kind=“ARCHITECTURE-BLOCK“ user_defined=“yes”&gt;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908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&lt;entity id=“</a:t>
            </a:r>
            <a:r>
              <a:rPr b="0" i="1" lang="en-US" sz="1300" spc="-1" strike="noStrike">
                <a:solidFill>
                  <a:srgbClr val="000066"/>
                </a:solidFill>
                <a:latin typeface="Courier New"/>
              </a:rPr>
              <a:t>E00002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“ name=“</a:t>
            </a:r>
            <a:r>
              <a:rPr b="0" i="1" lang="en-US" sz="1300" spc="-1" strike="noStrike">
                <a:solidFill>
                  <a:srgbClr val="000066"/>
                </a:solidFill>
                <a:latin typeface="Courier New"/>
              </a:rPr>
              <a:t>aDirectory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“ kind=“DIRECTORY“ user_defined=“yes”&gt;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908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&lt;/entity&gt;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908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&lt;/entity&gt;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908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&lt;/entity&gt;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908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66"/>
                </a:solidFill>
                <a:latin typeface="Courier New"/>
              </a:rPr>
              <a:t>&lt;/structure&gt;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el XML File –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FI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764640"/>
            <a:ext cx="8229600" cy="51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908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mat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908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&lt;entity id=“</a:t>
            </a:r>
            <a:r>
              <a:rPr b="0" i="1" lang="en-US" sz="1800" spc="-1" strike="noStrike">
                <a:solidFill>
                  <a:srgbClr val="000066"/>
                </a:solidFill>
                <a:latin typeface="Courier New"/>
              </a:rPr>
              <a:t>ENTITY-ID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“ name=“</a:t>
            </a:r>
            <a:r>
              <a:rPr b="0" i="1" lang="en-US" sz="1800" spc="-1" strike="noStrike">
                <a:solidFill>
                  <a:srgbClr val="000066"/>
                </a:solidFill>
                <a:latin typeface="Courier New"/>
              </a:rPr>
              <a:t>ENTITY-NAM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“ kind=“FILE“/&gt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908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908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908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&lt;?xml version="1.0" encoding="UTF-8"?&gt;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908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&lt;!DOCTYPE structure SYSTEM "structure.dtd"&gt;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908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&lt;structure&gt;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908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&lt;entity id=“</a:t>
            </a:r>
            <a:r>
              <a:rPr b="0" i="1" lang="en-US" sz="1300" spc="-1" strike="noStrike">
                <a:solidFill>
                  <a:srgbClr val="000066"/>
                </a:solidFill>
                <a:latin typeface="Courier New"/>
              </a:rPr>
              <a:t>E00000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“ name=““ kind=“ARCHITECTURE-BLOCK“ user_defined=“yes”&gt;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908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&lt;entity id=“</a:t>
            </a:r>
            <a:r>
              <a:rPr b="0" i="1" lang="en-US" sz="1300" spc="-1" strike="noStrike">
                <a:solidFill>
                  <a:srgbClr val="000066"/>
                </a:solidFill>
                <a:latin typeface="Courier New"/>
              </a:rPr>
              <a:t>E00001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“ name=“</a:t>
            </a:r>
            <a:r>
              <a:rPr b="0" i="1" lang="en-US" sz="1300" spc="-1" strike="noStrike">
                <a:solidFill>
                  <a:srgbClr val="000066"/>
                </a:solidFill>
                <a:latin typeface="Courier New"/>
              </a:rPr>
              <a:t>aBlock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“ kind=“ARCHITECTURE-BLOCK“ user_defined=“yes”&gt;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908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&lt;entity id=“</a:t>
            </a:r>
            <a:r>
              <a:rPr b="0" i="1" lang="en-US" sz="1300" spc="-1" strike="noStrike">
                <a:solidFill>
                  <a:srgbClr val="000066"/>
                </a:solidFill>
                <a:latin typeface="Courier New"/>
              </a:rPr>
              <a:t>E00002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“ name=“</a:t>
            </a:r>
            <a:r>
              <a:rPr b="0" i="1" lang="en-US" sz="1300" spc="-1" strike="noStrike">
                <a:solidFill>
                  <a:srgbClr val="000066"/>
                </a:solidFill>
                <a:latin typeface="Courier New"/>
              </a:rPr>
              <a:t>aDirectory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“ kind=“DIRECTORY“ user_defined=“yes”&gt;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908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&lt;entity id=“E00003” name=“</a:t>
            </a:r>
            <a:r>
              <a:rPr b="0" i="1" lang="en-US" sz="1300" spc="-1" strike="noStrike">
                <a:solidFill>
                  <a:srgbClr val="000066"/>
                </a:solidFill>
                <a:latin typeface="Courier New"/>
              </a:rPr>
              <a:t>sqlcmd.c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” kind=“FILE”/&gt;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908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&lt;/entity&gt;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908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&lt;/entity&gt;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908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</a:rPr>
              <a:t>&lt;/entity&gt;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908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66"/>
                </a:solidFill>
                <a:latin typeface="Courier New"/>
              </a:rPr>
              <a:t>&lt;/structure&gt;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el XML File - Examp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packaging structure for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pplication has been defined in terms of component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t is required to create a Model XML File to be used to write usage rules for use by Klocwork inSpec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_packag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_compon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.c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ifc_compon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ifc.c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ifc.h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mysql_packag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mysql_compon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mysql/*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el XML File – Example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Model XML File that would represent this structure i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&lt;?xml version="1.0" encoding="UTF-8"?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&lt;!DOCTYPE structure SYSTEM "structure.dtd"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&lt;structure published=“yes" 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&lt;!-- </a:t>
            </a:r>
            <a:r>
              <a:rPr b="1" lang="en-CA" sz="1400" spc="-1" strike="noStrike">
                <a:solidFill>
                  <a:srgbClr val="000066"/>
                </a:solidFill>
                <a:latin typeface="Courier New"/>
              </a:rPr>
              <a:t>MODEL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 --&gt;&lt;entity id=                                        "E00000"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kind="ARCHITECTURE-BLOCK" name="" user_defined="yes"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el XML File – Example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!--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ACKAGE sqlcmd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--&gt;&lt;entity id=                               "E00001"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kind="ARCHITECTURE-BLOCK" name="sqlcmd_package"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user_defined="yes"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!--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MPONENT sqlcmd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--&gt;&lt;entity id=                             "E00002"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kind="ARCHITECTURE-BLOCK" name="sqlcmd_component"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user_defined="yes"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!--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ILE sqlcmd.c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--&gt;&lt;entity id=                                "E00003"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kind="FILE" name="sqlcmd.c"/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!--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ND COMPONENT sqlcmd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--&gt;&lt;/entity&gt;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!--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MPONENT sqlifc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--&gt;&lt;entity id=                             "E00004"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kind="ARCHITECTURE-BLOCK" name="sqlifc_component"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user_defined="yes"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!--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ILE sqlifc.c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--&gt;&lt;entity id=                                "E00005"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kind="FILE" name="sqlifc.c"/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!--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ILE sqlifc.h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--&gt;&lt;entity id=                                "E00006"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kind="FILE" name="sqlifc.h"/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!--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ND COMPONENT sqlifc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--&gt;&lt;/entity&gt;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!--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ND PACKAGE sqlcmd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--&gt;&lt;/entity&gt;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el XML File – Example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!--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ACKAGE mysql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--&gt;&lt;entity id=                                "E00007"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kind="ARCHITECTURE-BLOCK" name="mysql_package"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user_defined="yes"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!--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MPONENT mysql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--&gt;&lt;entity id=                              "E00008"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kind="ARCHITECTURE-BLOCK" name="mysql_component"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user_defined="yes"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!--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DIRECTORY mysql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--&gt;&lt;entity id=                              "E00009"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kind="DIRECTORY" name="mysql"/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!--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ND COMPONENT mysql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--&gt;&lt;/entity&gt;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!--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ND PACKAGE mysql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--&gt;&lt;/entity&gt;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el XML File – Example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!--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DELETE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unnecessary blocks from System_model --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entity id=                                                      "E00010"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deleted="yes" kind="DIRECTORY" name="C:"/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entity id=                                                      "E00011"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deleted="yes" kind="DIRECTORY" name="sqlcmd"/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entity id=                                                      "E00012"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deleted="yes" kind="DIRECTORY" name="src"/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entity id=                                                      "E00013"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deleted="yes" kind="DIRECTORY" name="inc"/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!--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ND DELETE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--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!--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ND MODEL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--&gt;&lt;/entity&gt;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&lt;/structure&g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71560" y="1766880"/>
            <a:ext cx="7399440" cy="332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el XML File – Importing Using inSight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58960" y="830160"/>
            <a:ext cx="7483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en the File menu and select Import from XML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866880" y="2203560"/>
            <a:ext cx="23144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el XML File – Importing Using inSight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lect the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.xml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filename that contains the model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871560" y="1631880"/>
            <a:ext cx="7399440" cy="3594240"/>
            <a:chOff x="871560" y="1631880"/>
            <a:chExt cx="7399440" cy="359424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871560" y="1766880"/>
              <a:ext cx="7399440" cy="3324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2220840" y="1631880"/>
              <a:ext cx="4702320" cy="3594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orking with Model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oftware analyzed by the Software Intelligence Engine is saved in the Software Intelligence Database as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ystem_mode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dels can be created from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ystem_mode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by the inSight Architec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odels can be saved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odels can be exported to .xml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odels can be shared with other users and published to Project Central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Model can be created outside of inSight Architect and added to the Projec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71560" y="1766880"/>
            <a:ext cx="7399440" cy="332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el XML File – Importing Using inSight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vide a name for the model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290760" y="2838600"/>
            <a:ext cx="2562480" cy="118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el XML File – Importing Using inSight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en the imported model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28720" y="1790640"/>
            <a:ext cx="748512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el XML File – Importing From Command Lin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en a Model XML File has been created, it can be imported into the Project without having to use the inSight Architec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This is useful in loadbuild scripts, or report generation script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66"/>
                </a:solidFill>
                <a:latin typeface="Courier New"/>
              </a:rPr>
              <a:t>kwcreatemodel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 OPTIONS PROJECT BUILD MODEL_NAME MODEL_XML_FI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The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 OPTIONS </a:t>
            </a: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a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-h hostnam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The name of the machine running the rmimanag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Default is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 localhos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-p por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The port number for the rmimanager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Default is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 1100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el XML File – Importing From Command Line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kwcreatemodel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sqlcmd build_1 SQLCMD_PACKAGED_MODEL C:\sqlcmd_packaged_model.xm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The model is now available for use by Klocwork inSpec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published=“yes”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 option must be set on the 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&lt;structure&gt;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 ta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ercise 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ing the inSight Architect open your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projec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port the SQLCMD_MODEL. to an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.xm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file called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_MODEL.xm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mpose a Model XML Fil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ifc_study_model.xm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to represent a separation of the SQL interface from the other file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YSTEM_UNDER_STUD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ifc.c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ifc.h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REST_OF_SYSTE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.c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mysql/*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mport the Model XML File into your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project as SQLIFC_STUDY_MODEL using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kwcreatemode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heck the model in Klocwork inSight Architec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d of Module – K7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porting a Model - Overvie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model can be exported to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.xm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to version control it, or to transfer it to another system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model can be imported from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.xm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to restore the mode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dels in the database will be automatically propagated after every buil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porting a Mod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81040" y="847800"/>
            <a:ext cx="6167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en the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nu and select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Export to XML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880400" cy="387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92" name=""/>
          <p:cNvGrpSpPr/>
          <p:nvPr/>
        </p:nvGrpSpPr>
        <p:grpSpPr>
          <a:xfrm>
            <a:off x="633240" y="2108160"/>
            <a:ext cx="2419560" cy="2847960"/>
            <a:chOff x="633240" y="2108160"/>
            <a:chExt cx="2419560" cy="284796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681120" y="2108160"/>
              <a:ext cx="2324160" cy="28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33240" y="3981600"/>
              <a:ext cx="2419560" cy="1965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porting a Model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95440" y="835200"/>
            <a:ext cx="66499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vide a filename for the exported model, with the extension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.xml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press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Expor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85800" y="1901880"/>
            <a:ext cx="7829640" cy="3848040"/>
            <a:chOff x="685800" y="1901880"/>
            <a:chExt cx="7829640" cy="384804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685800" y="1901880"/>
              <a:ext cx="7829640" cy="3848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2841480" y="2357280"/>
              <a:ext cx="4010040" cy="3057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orting A Model - Overvie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model can be recovered from an exported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.xm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fil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ld models can be restored if th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.xml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file has been preserve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.xml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files can be transferred between systems and imported to place the model in the database on the new system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.xml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model file can be created outside of inSight Architect and importe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orting a Mod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50880" y="820800"/>
            <a:ext cx="6112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en the File menu and select Import from XML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1680" y="2127240"/>
            <a:ext cx="8521560" cy="33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90520" y="2614680"/>
            <a:ext cx="23144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orting a Model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49320" y="846000"/>
            <a:ext cx="7250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lect the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.xml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filename that contains the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57120" y="1881360"/>
            <a:ext cx="8487000" cy="3635280"/>
            <a:chOff x="357120" y="1881360"/>
            <a:chExt cx="8487000" cy="363528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357120" y="1881360"/>
              <a:ext cx="8487000" cy="3368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2289240" y="1982880"/>
              <a:ext cx="4629240" cy="3533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17:38:06Z</dcterms:created>
  <dc:creator>tmackenzie</dc:creator>
  <dc:description/>
  <dc:language>en-US</dc:language>
  <cp:lastModifiedBy>Mark Grice</cp:lastModifiedBy>
  <dcterms:modified xsi:type="dcterms:W3CDTF">2006-10-16T01:39:12Z</dcterms:modified>
  <cp:revision>200</cp:revision>
  <dc:subject/>
  <dc:title>PowerPoint Presentation</dc:title>
</cp:coreProperties>
</file>