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4B68-C52C-4EBA-8E98-52DCE5A77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9B1E-A0CF-4376-B804-7B746E600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F6EA-BD96-489A-A9B0-34F1DBFC2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DB60-97B2-447F-8206-BF0B4124C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2754-EC82-4CC7-84B5-8AF092660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7A08-C2BE-460A-82ED-083A107CC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F298-ED99-4AFB-ABAE-19D7F8814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0F78-1D71-4BC8-A1CF-3282AE7C1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8971-9CCE-42D3-88DC-FABDC1B56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1AA3-9B10-4D26-9042-782826E5F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0EAD-92F0-40A6-A482-207CC19AE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139D-A66B-4F9A-9B8D-9BD236714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FF34-E50B-49FB-8497-610B235E237B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EA3-AFE3-48FB-9F7F-689C49FAF329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1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ic Modeling with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Sight Architect -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8000" y="3591000"/>
            <a:ext cx="431784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– Drag and Dro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ook for files that share common names or apparent functionality that are far apart in the hierarchy. For example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151000"/>
            <a:ext cx="42685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ocate the module in the tree vie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rag the module from the tree view and drop it, either in the tree view or on the diagram. Also works from relationship viewer or search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0000" y="3664080"/>
            <a:ext cx="8070840" cy="2286000"/>
            <a:chOff x="900000" y="3664080"/>
            <a:chExt cx="8070840" cy="2286000"/>
          </a:xfrm>
        </p:grpSpPr>
        <p:sp>
          <p:nvSpPr>
            <p:cNvPr id="172" name=""/>
            <p:cNvSpPr/>
            <p:nvPr/>
          </p:nvSpPr>
          <p:spPr>
            <a:xfrm>
              <a:off x="900000" y="4959360"/>
              <a:ext cx="470160" cy="46980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43280" y="3664080"/>
              <a:ext cx="432756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1403280" y="5162400"/>
              <a:ext cx="5832720" cy="30168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03524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- Mov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Look for files that share common names or apparent functionality.</a:t>
            </a:r>
            <a:br>
              <a:rPr sz="1700"/>
            </a:b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For example,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sqlifc.h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2640" y="2170080"/>
            <a:ext cx="347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ve the blocks to visually group them by selecting and dragging th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419640" y="3284640"/>
            <a:ext cx="5395320" cy="2209680"/>
            <a:chOff x="3419640" y="3284640"/>
            <a:chExt cx="5395320" cy="220968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4643280" y="3284640"/>
              <a:ext cx="4171680" cy="220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"/>
            <p:cNvSpPr/>
            <p:nvPr/>
          </p:nvSpPr>
          <p:spPr>
            <a:xfrm flipV="1">
              <a:off x="3419640" y="4723920"/>
              <a:ext cx="4248000" cy="36036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3680" y="4102200"/>
            <a:ext cx="3273480" cy="172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- Gro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a new hierarchical leve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2138400"/>
            <a:ext cx="3878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lti-select the group, right-button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Group, and enter the name for the group. Press O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8960" y="4516560"/>
            <a:ext cx="1359000" cy="1282680"/>
          </a:xfrm>
          <a:prstGeom prst="rect">
            <a:avLst/>
          </a:prstGeom>
          <a:noFill/>
          <a:ln cap="sq"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74920" y="2735280"/>
            <a:ext cx="1992240" cy="2158920"/>
            <a:chOff x="3274920" y="2735280"/>
            <a:chExt cx="1992240" cy="2158920"/>
          </a:xfrm>
        </p:grpSpPr>
        <p:sp>
          <p:nvSpPr>
            <p:cNvPr id="188" name=""/>
            <p:cNvSpPr/>
            <p:nvPr/>
          </p:nvSpPr>
          <p:spPr>
            <a:xfrm flipV="1">
              <a:off x="3274920" y="3855960"/>
              <a:ext cx="634680" cy="67248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3879720" y="2735280"/>
              <a:ext cx="138744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5411880" y="3094200"/>
            <a:ext cx="3552840" cy="3071160"/>
            <a:chOff x="5411880" y="3094200"/>
            <a:chExt cx="3552840" cy="307116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5411880" y="4200480"/>
              <a:ext cx="3552840" cy="196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2" name=""/>
            <p:cNvSpPr/>
            <p:nvPr/>
          </p:nvSpPr>
          <p:spPr>
            <a:xfrm>
              <a:off x="6635880" y="3094200"/>
              <a:ext cx="1008000" cy="230472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475160" y="2374920"/>
            <a:ext cx="3560760" cy="1439640"/>
            <a:chOff x="4475160" y="2374920"/>
            <a:chExt cx="3560760" cy="143964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5483160" y="2374920"/>
              <a:ext cx="255276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V="1">
              <a:off x="4475160" y="3238200"/>
              <a:ext cx="1008000" cy="57636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- Expl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move unnecessary hierarchical level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360520"/>
            <a:ext cx="39560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the unnecessary container, right-button men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Explo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3727440"/>
            <a:ext cx="4381200" cy="17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0" name=""/>
          <p:cNvGrpSpPr/>
          <p:nvPr/>
        </p:nvGrpSpPr>
        <p:grpSpPr>
          <a:xfrm>
            <a:off x="3492360" y="1566720"/>
            <a:ext cx="3556080" cy="3168360"/>
            <a:chOff x="3492360" y="1566720"/>
            <a:chExt cx="3556080" cy="3168360"/>
          </a:xfrm>
        </p:grpSpPr>
        <p:sp>
          <p:nvSpPr>
            <p:cNvPr id="201" name=""/>
            <p:cNvSpPr/>
            <p:nvPr/>
          </p:nvSpPr>
          <p:spPr>
            <a:xfrm flipV="1">
              <a:off x="3492360" y="2723760"/>
              <a:ext cx="2425680" cy="201132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5867280" y="1566720"/>
              <a:ext cx="1181160" cy="186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5219640" y="2862360"/>
            <a:ext cx="3616560" cy="3230640"/>
            <a:chOff x="5219640" y="2862360"/>
            <a:chExt cx="3616560" cy="3230640"/>
          </a:xfrm>
        </p:grpSpPr>
        <p:sp>
          <p:nvSpPr>
            <p:cNvPr id="204" name=""/>
            <p:cNvSpPr/>
            <p:nvPr/>
          </p:nvSpPr>
          <p:spPr>
            <a:xfrm>
              <a:off x="6443640" y="2862360"/>
              <a:ext cx="73080" cy="86544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5219640" y="3727800"/>
              <a:ext cx="3616560" cy="236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– Promo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6040" y="993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tility packages have many relationships with other packages. You need to un-clutter the model diagram to make it more understandable. This is done by promoting the utility block to the parent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5680" y="2192400"/>
            <a:ext cx="37875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the utility package, right-button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cut to remove it from the current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4360" y="3470400"/>
            <a:ext cx="2736720" cy="262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0" name=""/>
          <p:cNvGrpSpPr/>
          <p:nvPr/>
        </p:nvGrpSpPr>
        <p:grpSpPr>
          <a:xfrm>
            <a:off x="3276720" y="2246400"/>
            <a:ext cx="2307960" cy="2160000"/>
            <a:chOff x="3276720" y="2246400"/>
            <a:chExt cx="2307960" cy="216000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572000" y="2246400"/>
              <a:ext cx="101268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flipV="1">
              <a:off x="3276720" y="2822400"/>
              <a:ext cx="1295280" cy="158400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219640" y="2822400"/>
            <a:ext cx="3616560" cy="3168720"/>
            <a:chOff x="5219640" y="2822400"/>
            <a:chExt cx="3616560" cy="3168720"/>
          </a:xfrm>
        </p:grpSpPr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6156360" y="2822400"/>
              <a:ext cx="267984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5" name=""/>
            <p:cNvSpPr/>
            <p:nvPr/>
          </p:nvSpPr>
          <p:spPr>
            <a:xfrm>
              <a:off x="5219640" y="2822400"/>
              <a:ext cx="936720" cy="79236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– Promot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" y="1512720"/>
            <a:ext cx="4016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vigate to the parent diagram, right-cli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aste the utility b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813120" cy="18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2195640" y="1628640"/>
            <a:ext cx="4211640" cy="2460240"/>
            <a:chOff x="2195640" y="1628640"/>
            <a:chExt cx="4211640" cy="246024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572000" y="1628640"/>
              <a:ext cx="18352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flipV="1">
              <a:off x="2195640" y="2060280"/>
              <a:ext cx="2447640" cy="202860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292720" y="2060640"/>
            <a:ext cx="3600360" cy="3701880"/>
            <a:chOff x="5292720" y="2060640"/>
            <a:chExt cx="3600360" cy="370188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867280" y="2924280"/>
              <a:ext cx="3025800" cy="2838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5" name=""/>
            <p:cNvSpPr/>
            <p:nvPr/>
          </p:nvSpPr>
          <p:spPr>
            <a:xfrm>
              <a:off x="5292720" y="2060640"/>
              <a:ext cx="1008000" cy="136836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7800" cy="40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ation – Promote 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0840" y="981000"/>
            <a:ext cx="397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turn to the previous child and notice that the relations have been re-directed to the environ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16160" y="1920960"/>
            <a:ext cx="4773600" cy="609480"/>
            <a:chOff x="2216160" y="1920960"/>
            <a:chExt cx="4773600" cy="609480"/>
          </a:xfrm>
        </p:grpSpPr>
        <p:sp>
          <p:nvSpPr>
            <p:cNvPr id="231" name=""/>
            <p:cNvSpPr/>
            <p:nvPr/>
          </p:nvSpPr>
          <p:spPr>
            <a:xfrm>
              <a:off x="5435640" y="1952640"/>
              <a:ext cx="546120" cy="546120"/>
            </a:xfrm>
            <a:prstGeom prst="ellipse">
              <a:avLst/>
            </a:prstGeom>
            <a:noFill/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3640" y="1952640"/>
              <a:ext cx="546120" cy="546120"/>
            </a:xfrm>
            <a:prstGeom prst="ellipse">
              <a:avLst/>
            </a:prstGeom>
            <a:noFill/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7640" y="1920960"/>
              <a:ext cx="596880" cy="609480"/>
            </a:xfrm>
            <a:prstGeom prst="ellipse">
              <a:avLst/>
            </a:prstGeom>
            <a:noFill/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16160" y="1952640"/>
              <a:ext cx="546120" cy="546120"/>
            </a:xfrm>
            <a:prstGeom prst="ellipse">
              <a:avLst/>
            </a:prstGeom>
            <a:noFill/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3675240"/>
            <a:ext cx="4032000" cy="23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loration – Uses and User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investigate what a block uses, e.g.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 The diagram shows a clutter of dependencies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2232000"/>
            <a:ext cx="450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ight-click on the modul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ghlight Us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to see all the relationship arrows from the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an also selec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ghlight User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to see all relationship arrows to the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340000" y="3570120"/>
            <a:ext cx="1936800" cy="2019240"/>
            <a:chOff x="2340000" y="3570120"/>
            <a:chExt cx="1936800" cy="201924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2987640" y="3570120"/>
              <a:ext cx="128916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flipV="1">
              <a:off x="2340000" y="3786120"/>
              <a:ext cx="719280" cy="126216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08360" y="3627360"/>
            <a:ext cx="5256360" cy="2394000"/>
            <a:chOff x="3708360" y="3627360"/>
            <a:chExt cx="5256360" cy="239400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4643280" y="3627360"/>
              <a:ext cx="4321440" cy="2394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3708360" y="3741840"/>
              <a:ext cx="1079640" cy="58104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3705120"/>
            <a:ext cx="3889080" cy="224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loration – Uses and User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investigate the interface of a block, e.g.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ifc.c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 The diagram shows a clutter of dependencies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2960" y="2233440"/>
            <a:ext cx="408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ight-click on the modul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qlifc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c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s Detai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to see all the relationships from the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an also selec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s Detai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to see all relationships to the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340000" y="3992400"/>
            <a:ext cx="1589040" cy="1584360"/>
            <a:chOff x="2340000" y="3992400"/>
            <a:chExt cx="1589040" cy="158436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2916360" y="3992400"/>
              <a:ext cx="10126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flipV="1">
              <a:off x="2340000" y="4496760"/>
              <a:ext cx="647640" cy="42228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419640" y="3705120"/>
            <a:ext cx="5724360" cy="958680"/>
            <a:chOff x="3419640" y="3705120"/>
            <a:chExt cx="5724360" cy="95868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4464000" y="3705120"/>
              <a:ext cx="468000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V="1">
              <a:off x="3419640" y="4166640"/>
              <a:ext cx="1241280" cy="40140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 7.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ic Modeling – Overview Chang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 patterns for using the inSight Architec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avigation Patter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lative Dow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lative 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l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Relationshi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ormation Patter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plod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– Relative Dow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move into a child of the current block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1087560"/>
            <a:ext cx="81234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760" y="1905120"/>
            <a:ext cx="419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hift-click on the block that is to be ente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733920" cy="15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3564000" y="3645000"/>
            <a:ext cx="5246640" cy="2128680"/>
            <a:chOff x="3564000" y="3645000"/>
            <a:chExt cx="5246640" cy="212868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076720" y="4221000"/>
              <a:ext cx="3733920" cy="155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3564000" y="3645000"/>
              <a:ext cx="1512720" cy="57600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– Relative 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move to the parent of the current block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3040" y="1901880"/>
            <a:ext cx="417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lick the parent button to reach the par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924280"/>
            <a:ext cx="3524400" cy="1348920"/>
            <a:chOff x="395280" y="2924280"/>
            <a:chExt cx="3524400" cy="13489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95280" y="2924280"/>
              <a:ext cx="35244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flipV="1">
              <a:off x="2044800" y="3650760"/>
              <a:ext cx="25200" cy="622440"/>
            </a:xfrm>
            <a:prstGeom prst="line">
              <a:avLst/>
            </a:prstGeom>
            <a:ln cap="rnd" w="381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73392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9" name=""/>
          <p:cNvGrpSpPr/>
          <p:nvPr/>
        </p:nvGrpSpPr>
        <p:grpSpPr>
          <a:xfrm>
            <a:off x="1866960" y="3193920"/>
            <a:ext cx="6870600" cy="1984680"/>
            <a:chOff x="1866960" y="3193920"/>
            <a:chExt cx="6870600" cy="1984680"/>
          </a:xfrm>
        </p:grpSpPr>
        <p:sp>
          <p:nvSpPr>
            <p:cNvPr id="100" name=""/>
            <p:cNvSpPr/>
            <p:nvPr/>
          </p:nvSpPr>
          <p:spPr>
            <a:xfrm>
              <a:off x="1866960" y="3193920"/>
              <a:ext cx="469800" cy="47016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0000" y="3429000"/>
              <a:ext cx="2663640" cy="431640"/>
            </a:xfrm>
            <a:prstGeom prst="line">
              <a:avLst/>
            </a:prstGeom>
            <a:ln cap="rnd" w="381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5003640" y="3645000"/>
              <a:ext cx="3733920" cy="1533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6800" y="4397400"/>
            <a:ext cx="373392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– Relativ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6040" y="977760"/>
            <a:ext cx="84470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move between two blocks.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ou kno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here the block is located relative to the current block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400" y="2835360"/>
            <a:ext cx="36874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hift-click on blocks to go down levels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ntil you reach the target blo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0520" y="2301840"/>
            <a:ext cx="39340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lick the parent button a few times until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you reach the parent of both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76320" y="3333600"/>
            <a:ext cx="3235320" cy="1247400"/>
            <a:chOff x="976320" y="3333600"/>
            <a:chExt cx="3235320" cy="12474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976320" y="3333600"/>
              <a:ext cx="323532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2481480" y="3958560"/>
              <a:ext cx="25200" cy="622440"/>
            </a:xfrm>
            <a:prstGeom prst="line">
              <a:avLst/>
            </a:prstGeom>
            <a:ln cap="rnd" w="381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46440" y="1700280"/>
            <a:ext cx="7046640" cy="2341080"/>
            <a:chOff x="1846440" y="1700280"/>
            <a:chExt cx="7046640" cy="2341080"/>
          </a:xfrm>
        </p:grpSpPr>
        <p:sp>
          <p:nvSpPr>
            <p:cNvPr id="112" name=""/>
            <p:cNvSpPr/>
            <p:nvPr/>
          </p:nvSpPr>
          <p:spPr>
            <a:xfrm>
              <a:off x="1846440" y="3571560"/>
              <a:ext cx="469800" cy="46980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279520" y="3258720"/>
              <a:ext cx="2900520" cy="528120"/>
            </a:xfrm>
            <a:prstGeom prst="line">
              <a:avLst/>
            </a:prstGeom>
            <a:ln cap="rnd" w="381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159520" y="1700280"/>
              <a:ext cx="3733560" cy="1533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076720" y="2708280"/>
            <a:ext cx="3753000" cy="3117960"/>
            <a:chOff x="5076720" y="2708280"/>
            <a:chExt cx="3753000" cy="3117960"/>
          </a:xfrm>
        </p:grpSpPr>
        <p:sp>
          <p:nvSpPr>
            <p:cNvPr id="116" name=""/>
            <p:cNvSpPr/>
            <p:nvPr/>
          </p:nvSpPr>
          <p:spPr>
            <a:xfrm>
              <a:off x="6372360" y="2708280"/>
              <a:ext cx="431640" cy="1584360"/>
            </a:xfrm>
            <a:prstGeom prst="line">
              <a:avLst/>
            </a:prstGeom>
            <a:ln cap="rnd" w="381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5076720" y="4292640"/>
              <a:ext cx="3753000" cy="1533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74004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- Dir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move between two diagrams which are far apart in the system hierarchy.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ou kno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here the target diagram is locat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3880" y="2108160"/>
            <a:ext cx="4162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se the tree view (in which all blocks are liste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ocate the target block by expanding tree nodes and scroll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ouble-click the target bloc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1640" y="3141720"/>
            <a:ext cx="7846920" cy="2660760"/>
            <a:chOff x="971640" y="3141720"/>
            <a:chExt cx="7846920" cy="26607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932360" y="3141720"/>
              <a:ext cx="3886200" cy="2660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971640" y="4471920"/>
              <a:ext cx="469800" cy="469800"/>
            </a:xfrm>
            <a:prstGeom prst="ellipse">
              <a:avLst/>
            </a:prstGeom>
            <a:noFill/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476360" y="4437000"/>
              <a:ext cx="3456000" cy="27000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4317840" cy="295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- Histor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have navigated away from a diagram during the process of investigating a dependency and you want to return to it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34560" y="2243160"/>
            <a:ext cx="45712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lick the history button forward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ackward until you reach the 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16400" y="2205000"/>
            <a:ext cx="4755960" cy="1927080"/>
            <a:chOff x="3416400" y="2205000"/>
            <a:chExt cx="4755960" cy="19270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651200" y="2205000"/>
              <a:ext cx="35211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V="1">
              <a:off x="3416400" y="2874600"/>
              <a:ext cx="3073320" cy="125748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59280" y="2455920"/>
            <a:ext cx="4035600" cy="3435120"/>
            <a:chOff x="4859280" y="2455920"/>
            <a:chExt cx="4035600" cy="343512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4859280" y="3357720"/>
              <a:ext cx="4035600" cy="2533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"/>
            <p:cNvSpPr/>
            <p:nvPr/>
          </p:nvSpPr>
          <p:spPr>
            <a:xfrm>
              <a:off x="6362640" y="2455920"/>
              <a:ext cx="685800" cy="469800"/>
            </a:xfrm>
            <a:prstGeom prst="ellipse">
              <a:avLst/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4000" y="2924280"/>
              <a:ext cx="73080" cy="360360"/>
            </a:xfrm>
            <a:prstGeom prst="line">
              <a:avLst/>
            </a:prstGeom>
            <a:ln cap="rnd" w="3816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– By Relationshi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need to move between two diagrams which are far apart in the system hierarchy. Relative to the current diagram you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y not kno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here it is located, but you do know there is a relation to it from the current diagra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338560"/>
            <a:ext cx="457200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Right-click on the relation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 the pop-up select the desired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 the relationship viewer select the row corresponding to target bloc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Right-click on the 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 the pop-up select “Show Architecture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4457880"/>
            <a:ext cx="3733920" cy="155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4889520"/>
            <a:ext cx="127620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370240"/>
            <a:ext cx="5182920" cy="2662920"/>
            <a:chOff x="3276720" y="2370240"/>
            <a:chExt cx="5182920" cy="266292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046840" y="2370240"/>
              <a:ext cx="3412800" cy="24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V="1">
              <a:off x="3276720" y="4314240"/>
              <a:ext cx="1726920" cy="718920"/>
            </a:xfrm>
            <a:prstGeom prst="line">
              <a:avLst/>
            </a:prstGeom>
            <a:ln cap="rnd" w="284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889520" y="4254480"/>
            <a:ext cx="3670200" cy="13176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667640" y="3305160"/>
            <a:ext cx="942840" cy="141624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003640" y="3522600"/>
            <a:ext cx="3892680" cy="2498760"/>
            <a:chOff x="5003640" y="3522600"/>
            <a:chExt cx="3892680" cy="2498760"/>
          </a:xfrm>
        </p:grpSpPr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5003640" y="5033880"/>
              <a:ext cx="3892680" cy="98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8028000" y="3522600"/>
              <a:ext cx="144360" cy="1942920"/>
            </a:xfrm>
            <a:prstGeom prst="line">
              <a:avLst/>
            </a:prstGeom>
            <a:ln cap="rnd" w="284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257720"/>
            <a:ext cx="3524040" cy="71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63640" y="4545000"/>
            <a:ext cx="1400400" cy="77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vigation – By Searc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know the name of the block you want to visit but you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o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know where this block is located, and you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o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know if there is a dependency to this block from the current diagra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260440"/>
            <a:ext cx="33670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elect “Search”, “Search…” and input the name of the block. Press 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Right click on the line corresponding to the required blo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elect “Show Architecture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98000" y="5516640"/>
            <a:ext cx="19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here are the sql fil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68360" y="1952640"/>
            <a:ext cx="4902480" cy="3239640"/>
            <a:chOff x="2268360" y="1952640"/>
            <a:chExt cx="4902480" cy="3239640"/>
          </a:xfrm>
        </p:grpSpPr>
        <p:sp>
          <p:nvSpPr>
            <p:cNvPr id="157" name=""/>
            <p:cNvSpPr/>
            <p:nvPr/>
          </p:nvSpPr>
          <p:spPr>
            <a:xfrm flipV="1">
              <a:off x="2268360" y="2600280"/>
              <a:ext cx="1943280" cy="2592000"/>
            </a:xfrm>
            <a:prstGeom prst="line">
              <a:avLst/>
            </a:prstGeom>
            <a:ln cap="rnd" w="284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4211640" y="1952640"/>
              <a:ext cx="29592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3995640" y="2448000"/>
            <a:ext cx="5111640" cy="1665000"/>
            <a:chOff x="3995640" y="2448000"/>
            <a:chExt cx="5111640" cy="166500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995640" y="3382920"/>
              <a:ext cx="511164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flipH="1">
              <a:off x="5146200" y="2448000"/>
              <a:ext cx="647640" cy="934920"/>
            </a:xfrm>
            <a:prstGeom prst="line">
              <a:avLst/>
            </a:prstGeom>
            <a:ln cap="rnd" w="284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968640" y="3697200"/>
            <a:ext cx="5175360" cy="1270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164360" y="2889360"/>
            <a:ext cx="87948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643280" y="3176640"/>
            <a:ext cx="4086360" cy="2916360"/>
            <a:chOff x="4643280" y="3176640"/>
            <a:chExt cx="4086360" cy="29163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643280" y="4616640"/>
              <a:ext cx="4086360" cy="1476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"/>
            <p:cNvSpPr/>
            <p:nvPr/>
          </p:nvSpPr>
          <p:spPr>
            <a:xfrm flipH="1">
              <a:off x="6129360" y="3176640"/>
              <a:ext cx="1179360" cy="2051280"/>
            </a:xfrm>
            <a:prstGeom prst="line">
              <a:avLst/>
            </a:prstGeom>
            <a:ln cap="rnd" w="284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21:25:14Z</dcterms:created>
  <dc:creator>Tom MacKenzie</dc:creator>
  <dc:description/>
  <dc:language>en-US</dc:language>
  <cp:lastModifiedBy>Mark Grice</cp:lastModifiedBy>
  <dcterms:modified xsi:type="dcterms:W3CDTF">2006-10-16T01:33:27Z</dcterms:modified>
  <cp:revision>46</cp:revision>
  <dc:subject/>
  <dc:title>Basic Modeling with Klocwork inSight Architect</dc:title>
</cp:coreProperties>
</file>