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88560" y="76644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FFE7A7-6798-4B55-AB11-96DB9AB8A4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196278-54B4-467E-8DB7-D32F6BB779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1B9CDD-06EF-48C5-838E-46DD06A1ED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DB0D02-E294-4502-B97E-B9FC2E283A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82642D-19EB-4307-8D00-97B15D2262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1A60CE6-F7CE-406A-83A0-AFB3A36201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AC9A14A-FC04-457B-ABA3-A2192A825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90212F-035E-4FCD-8EF0-479C33B451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368902-9688-4735-BC4F-3044A109AE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07A9A1-E157-4934-95F3-41ED5540FB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DF2CF4-0E90-45B3-B741-C4658091F3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681088-0753-4884-BE79-600F976F6B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8C7673-CCFB-45A6-A798-7481FCA74C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E69FEF-0E08-4063-9715-26EB4F145F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BDE6D1-75F9-4708-BD8F-16A904DDBC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330AA5D-AE1E-4BE7-8C9B-BF1A7D8D51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8CCAAB-7545-4002-9561-17F842FDFF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84873CB-71F7-465A-B9AB-9726C83308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39EEA3-57AB-409B-A48D-33846CFD2C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77527FA-9F3C-47A2-8757-8C3719C15E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CAC1A60-7900-43FF-8885-F7E78BAE9B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6D53B9-35A4-4E08-886C-15AA009A2A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8E3D28-6720-462F-A36D-3642DE0D3B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9985D84-C6BF-4663-B34D-1E373E4CEE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A068E2-55A5-48A6-93B4-A5AE5B9203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5DCA38C-A773-4D04-BF2F-2F80BC5A87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BEA0B2-A7AD-40EC-99BE-22A9B13C20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494FF1-B4B3-4F04-83CF-8F08B09864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F9CA36-3E9E-46E5-BC84-D37FFC25FF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96830D1-32C0-439C-AA61-9B11AE9FFF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71F1A0-F3F5-445A-B743-C80908592A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B6BC7E-B5D1-4415-83FF-50EAA66E28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922A77-DA05-41C7-9D50-2A0527D25A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1B0EBFE-87FA-4948-AD5D-4FAB4F03CF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39CD8D-413C-43D8-8BBB-81033589B1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EA0D95-73B7-4B8E-95C4-C1E10BF0FE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3C4F59-8255-47FB-81BC-7FD22B0CB3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C0C3B4F-9B7C-48A3-9F09-2196868893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3099-0934-49EF-892C-1DAE73A50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EBB2-C7C2-4CB1-9574-5A4802811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E254-A69C-447C-B51F-63106FF94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D2AC7-171F-490C-842E-1C0D04ECAC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01FE4-383F-45BB-B26D-D50A0E1AE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11BBC-2895-4C93-B95D-36163EE49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64C9A-9F9C-44F1-8EA8-0BD2ED757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0236-4706-43C5-8351-F634DCCA6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D339-F8FB-4DBE-B9DA-84596DCA4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C0768-B58A-41B7-B344-89D6A9E83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6AF6-E61F-48AF-A5BE-2807129B3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B099-BA8A-4955-85E1-395CB4E25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-1440"/>
            <a:ext cx="915984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77320" y="669240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9275-4C71-44F3-97DC-0117E349818D}" type="slidenum">
              <a:rPr b="0" lang="en-US" sz="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32240" y="6553080"/>
            <a:ext cx="3810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Klocwork Inc. Confidential © 1998-200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17858" b="112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338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37F1-AB74-49AB-A0BA-408D650490A4}" type="datetime2">
              <a:rPr b="0" lang="en-US" sz="800" spc="-1" strike="noStrike">
                <a:solidFill>
                  <a:srgbClr val="000066"/>
                </a:solidFill>
                <a:latin typeface="Arial"/>
              </a:rPr>
              <a:t>Thursday, July 30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s://my.klocwork.com/index.php" TargetMode="External"/><Relationship Id="rId2" Type="http://schemas.openxmlformats.org/officeDocument/2006/relationships/hyperlink" Target="https://my.klocwork.com/index.php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mailto:/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7240" y="480024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locwork inSight Self Guided Tour – K7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Window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 – inSight Architect – Promoting and Re-order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8280" y="761760"/>
            <a:ext cx="8593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ight click on the block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otice that a pop-up menu appears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lect the menu item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Explode (Ctrl-Shift-K)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otice that the block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C: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is replaced with its contents and the hierarchical tree on the left hand side is automatically expanded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otice that the blocks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mysq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appears and are pre-selected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ave the blocks selected and explode the blocks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mysql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lect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r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nd then hold down th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trl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key and select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in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o multi-select the blocks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rc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in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nd then Explode them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s can also be done by lassoing the blocks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cate th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Tool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menu on the tool bar at the top of the window and left click, and choos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Grid Layou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o arrange the blocks in alphabetical order at the top of the scree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D2F6-3DF3-4B81-B8F4-CFB3EEE05E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 – inSight Architect – Grouping Multiple Block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8280" y="939600"/>
            <a:ext cx="8593200" cy="49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lti-select the blocks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ifc.h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ifc.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s can also be done in the tre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ight click over a selected block on the right hand side and choos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Group..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the Group Blocks dialog appear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nter the tex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_INTERFAC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then left click on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“OK”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a new block is add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sition the pointer over the right end of the new block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it will turn into a double headed arrow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eft click and drag the right end of the block so that the entire name is visibl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AF57-9E27-4896-B77E-DD9245ABB2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 – inSight Architect – Grouping One Block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8280" y="939600"/>
            <a:ext cx="8593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lect block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.c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nly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ight click over the selected block and choos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Group..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the Group Blocks dialog appear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nter the tex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_COMMAN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then left click on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“OK”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a new block is add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ize the new block, if necessary, so that the entire name is visibl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705FF-717E-4D53-A798-9CC37AE5DB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 – inSight Architect – Rename a Block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8280" y="685440"/>
            <a:ext cx="85932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lect the block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include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ly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ight click over the selected block and choos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Rename.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otice that the Rename dialog appear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nter the text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MY_SQL_API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, then left click on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“OK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otice that the block assumes the new name but remains a DIRECTORY block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hift left click on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MY_SQL_API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, then select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&lt;library&gt;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, and promote i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ight click on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&lt;library&gt;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, select “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Cu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eft Click up arrow icon in the tool bar on top of the window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ight click, and select “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Past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cate th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Tool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menu on the tool bar at the top of the window and left click, and choos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Hierarchical Layou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o arrange the blocks in hierarchical order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-arrange and re-size the blocks so that all of the arrows are visible between each block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A61A-B502-4AFB-8873-ED4AAB94F0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 – inSight Architect – Save the Mod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8280" y="939600"/>
            <a:ext cx="8593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cate the floppy disk icon in the tool bar at the top of the window and left click it to save the model under its current nam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model will look something like thi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5896080" cy="325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6B776-2097-4DA5-B22D-8765EAD544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 – inSight Architect – Basic Relationships Selec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593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cate the menu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Vie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menu on the tool bar at the top of the window and left click, and choos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Edit Relationships Profiles.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otice the Relationships Profiles Editor dialog appears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cate th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No relationship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entry in the list of default relationships and select i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cate th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Include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relation and left click the box beside i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cate th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Ne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utton and left click i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otice that a dialog appears requesting you to Enter a profile name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nter the name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INCLUDES COUPLING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and click the OK button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ick on the Close button and the Relationships Profiles Editor disappears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cate the menu box at the top of the window that contains the text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“All relationships”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lect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INCLUDES COUPLING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lationship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include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relationship lines are drawn between blocks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_COMMAN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_INTERFAC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MY_SQL_API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0275-4E30-4B21-B5C6-1429D8CDEC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 – inSight Architect – Advanced Relationships Selec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8280" y="939600"/>
            <a:ext cx="8593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w open the Relationships Profiles Editor again and create relationship profiles f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INTERFACE DISCOVERY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Declared b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INTERFACE USAGE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Referenc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TYPE COUPLING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Typ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DATA COUPLING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Variab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FUNCTIONAL COUPLING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Func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ose the Relationships Profiles Editor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lect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FUNCTIONAL COUPLIN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lationships profil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6C0DB-FCA8-414C-8C45-E7F732FB53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 – inSight Architect – Directional Relationship Brows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68280" y="939600"/>
            <a:ext cx="8593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cate the directed arrow between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_COMMAN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_INTERFAC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sition the pointer on this line and right click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re is only one direction on this arrow, left-click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_COMMAN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_INTERFAC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274B-18D7-4761-986D-BB8FED5E10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 – inSight Architect – Show All Users of a Symbo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68280" y="939600"/>
            <a:ext cx="8593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 the Relationship Viewer dialog that appears, position over the identifier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_print_error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n the “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Uses identifier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” colum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ight click, and selec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how Usag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the Cross Reference dialog appears with a list of all users of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_print_error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sition the pointer over the Entity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process_result_se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n the Cross Reference Dialog and right click and selec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how Source Fil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the  source code for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process_result_se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s display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D51F-A271-4ACF-8567-8FCA62C701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6 – inSight Architect – Show Symbol Defini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5932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ft click on Search tab and close Search window by clicking on “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” on the right sid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otice that the Relationship Viewer dialog stays at the bottom of the screen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osition the pointer over the identifier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_print_error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n the “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Uses identifier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” colum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ight click, and select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how Definiti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the Cross Reference dialog appears with the location of the definition of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_print_error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, followed shortly by the Flowchart Viewer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the location of definition of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_print_error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s highlighted in the Flowchart Viewer dialog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might have to use Zoom-in located in the tool bar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ose the Flowchart Viewer panel for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ifc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ose the Source Code Viewer panels for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cmd.c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ose the Relationship Viewer pane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6F79E-210D-4088-B817-5FED604392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Sight Self Guided Tou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tudent is led through a series of steps to explore Klocwork inSight Architect and inSight Developer on Window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Developer, Architect, Cross Reference, and Flow Chart tools are covered to a sufficient level to familiarize the student with the important aspects of the tools and how they can be us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tudent will apply the basic modeling scenarios to develop a simple model of an example system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pon completion of this module the student will have a practical understanding of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locwork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nSight Architect and Developer on Windows and will have developed a simple model of an example system using basic modeling scenario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BFC27-C770-4D34-903A-1CA5F66B16D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7 – inSight Architect – Search Using Pattern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8280" y="939600"/>
            <a:ext cx="8593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ft-click th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earch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menu in the toolbar on the top of the scree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lect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earch.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otice that the search dialog appears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ft click on the text selector box beside the word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Entity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pop-up the selections, scroll down and select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FUNCTI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cate the text selector box beside the word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Model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o pop-up the selections, scroll down and select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CMD_MODEL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cate the Text Entry box beside the Entity Selector and enter the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_*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ft click on th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OK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utt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otice that all functions beginning with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ql_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are listed in the Search window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CA305-FB62-4BAC-9ECD-9B347F9213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 – inSight Architect – Show All Used Symbol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68280" y="939600"/>
            <a:ext cx="8593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cate FUNCTION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_print_error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n the list, right click on it,  and selec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how Forwar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tice that a list of all symbols used by FUNCTION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_print_error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re listed, with the file that they were used from and the line number in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ifc.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t which they were us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4CF3-7694-4EB2-8F47-17E7017570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9 – inSight Architect – Show Architectur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68280" y="837720"/>
            <a:ext cx="85932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cate the “X” on the right border of the Search window, and left click on i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you are returned to the previous search resul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sition the pointer over the FUNCTION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_print_error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right click, and selec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how Architectur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the Architect block diagram appears with the block FUNCTION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_print_error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highlight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cate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Tool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menu on the tool bar at the top of the window and left click, and choos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Hierarchical Layou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to arrange the blocks in hierarchical order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ose the Search pane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ave the Mode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5513A-AA15-4304-9980-40A891C3AF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 – inSight Architect – Locating Cluster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8280" y="939600"/>
            <a:ext cx="8593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cate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_MODE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n the tree and double left click on it to return to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_MODE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block diagram, if it not already displaye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lect the relationship profil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“All relationships”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nter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MY_SQL_API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block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cate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Tool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menu on the tool bar at the top of the window and left click, and choos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Find Cluster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Find Cluster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dialog appears with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luster 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utomatically select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ft click on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Highligh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files in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luster 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re automatically selected and the relationship that creates the cluster is highlighted in r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843B-9F06-4321-8FA5-D7489E065D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1 – inSight Architect – Viewing Relationships/Interfac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8280" y="939600"/>
            <a:ext cx="8593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ring up the Relationship Viewer to analyze the relationships between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mysql_com.h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mysql.h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ight click on the highlighted relationship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oos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mysql_com.h -&gt; mysql.h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relationship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all the relationships are display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cate and click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Interface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button on the left border of the Relationship view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only 3 interfaces are responsible for all the relationships between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mysql_com.h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mysql.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hift left click on the block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mysql_com.h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n the architecture diagram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tice the symbols insid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mysql_com.h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re displayed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2DF2-BF4A-46AE-9B96-6229D7F0F3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2 – inSight Architect – Refactor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sition the pointer over the identifier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my_socket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 the Relationship Viewer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old down the left button and drag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my_socke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symbol on the architecture diagram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my_socke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macro is now located in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mysql_com.h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lock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peat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Drag and Drop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perations for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my_boo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dentifier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peat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Drag and Drop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perations for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gptr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dentifier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529F-92CD-4AB3-94CC-954CD059C8D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2 – inSight Architect – Refactoring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8280" y="939600"/>
            <a:ext cx="8593200" cy="49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on up arrow to display the 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MY_SQL_API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directory in the architecture diagram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cate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Tool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menu on the tool bar at the top of the window and left click, and choos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Find Cluster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ere are no clusters foun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ose the Relationship Viewer pane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ave the mode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44B4A-7FB2-4037-A6E7-AA686267B1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 – inSight Architect – Model Comparis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cate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menu on the tool bar at the top of the window and left click, and choose 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los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to close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_MODE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ight-click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ystem Model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d selec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mpare With…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th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Generate Difference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dialog appears with the 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CMD_MODEL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utomatically select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OK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th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Progres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dialog appears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en the comparison is finished observe the differences between two models summarized at the bottom of the scree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these are the operations that would be performed to transform th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ystem Model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nto th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CMD_MODEL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Close the 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Differences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 pane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5C5F9-E05E-47C7-88ED-4E91A19DD13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4 – inSight Architect – Publish the Mod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ight-click on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_MODE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n the tree on the left-hand side and selec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har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Notice that the Progress dialog appear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The model is being published to the Klocwork Project Centra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BC238-66B8-4757-9407-F34C1014DCC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 – inSight Architect – Export the Mod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eft-click on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_MODE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n the tree on the left-hand side to select i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cate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menu on the tool bar at the top of the window and left click, and choose 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Export to X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Notice that a File Browser dialog appear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Choose a suitable location to place the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XML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 file and call it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SQLCMD_MODEL.xml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Press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Expo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When the export completes return to the directory that it was placed in and open the 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SQLCMD_MODEL.xml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 file in an editor of your choic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Browse through the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XML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The DTD is located in </a:t>
            </a:r>
            <a:r>
              <a:rPr b="0" i="1" lang="en-CA" sz="1800" spc="-1" strike="noStrike">
                <a:solidFill>
                  <a:srgbClr val="000066"/>
                </a:solidFill>
                <a:latin typeface="Courier New"/>
              </a:rPr>
              <a:t>KWINSTALL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\config\structure.dt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Close the editor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7B969-B574-4D4E-AA8A-04CC3B89F67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Sight Self Guided Tou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You requi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indows XP, 2000 or 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ternet Explorer 5.0 or greater, Netscape 7.0 or greater, or Mozilla 1.0 or great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inSight Client must have already been install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68240" indent="-2854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ource code is installed under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:\sqlcm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:\mysq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form each step thoughtfully and with awareness as you follow i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394D4-6BDF-409B-B556-FEC431A5B3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6 – inSight Architect – Close and Exit Architec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8280" y="939600"/>
            <a:ext cx="8593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File-&gt;Exit Al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to close the Architec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a Confirmation dialog appears to save the model, left click on Ye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unch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km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nd start a new build of SQLCMD.  When it has completed, close the window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s concludes the self guided tour for inSight Architec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5A7B-7381-4C31-88C8-F5955D472EA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7 – Klocwork Portal – Launch Project Central &amp; Open Projec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8280" y="939600"/>
            <a:ext cx="8593200" cy="49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unch your default web browser and point it to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http://localhost:806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otice that the Klocwork Portal Home page is displaye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ype in “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tes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” for user name and “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tes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” for password and left click “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&gt;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ft click on the “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tart inSight Developer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” ic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cat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project in the left panel and left click on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“+”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next to i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otice that build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build_1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build_2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are displayed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ft click on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build_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lect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CMD_MODEL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from the drop down box in the left pan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otice that the right panel is updated with the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ARCHITECTURE-BLOCK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, and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DIRECTORY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QLCMD_MODE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5413-DB10-4575-A2A8-61FB7127B1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 – inSight Developer – Navigation Up and Dow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8280" y="939600"/>
            <a:ext cx="8593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eft click on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_COMMAN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n the right pane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CMD_MODEL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n the left panel is automatically expand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th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IL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cmd.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s display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eft click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.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nnotation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CR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RIABL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ntities that are used by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.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re display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ly those that exist are display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llowing that are the Uses relations for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MACR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ly those that exist are display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7D7E-AA68-4C17-8C1B-8A1DEA5EC86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9 – inSight Developer – Navigation Forward and Back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8280" y="939600"/>
            <a:ext cx="8593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t the top left of the right screen notice the “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Up arro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” ico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ft click this icon twice to go to th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p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gai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information in the right panel is updated accordingly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 the right panel, left click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_INTERFAC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ifc.h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how the path to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CMD_MODEL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can be used to go to any container in the containment hierarchy and that navigation can re-commence from there from either pane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eft click several times on the Back button of the web browser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how previous screens can be revisit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eft click on the Back button of the web browser to return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sqlcmd.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6EF5F-5005-43F5-8860-5AAF8E0783B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 – inSight Developer – Navigation By Symbo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8280" y="939600"/>
            <a:ext cx="8593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eft click 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croll down to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Uses VARIABL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it uses a variable called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on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from several different location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eft click on any of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n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n the Entity colum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it is only used by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it uses a TYP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MYSQL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eft click on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MYSQ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n the Entity colum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croll down to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Used by VARIABL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on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s the only variable that is of typ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MYSQL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824F-FFE8-4975-A046-C4C035E4219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1 – inSight Developer – Search for Fil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8280" y="939600"/>
            <a:ext cx="8593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t the top of the left panel locate th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earch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con (binoculars) and left click on i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otice that there is an entity and attribute selectors in the upper left hand corner containing the text 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All entitie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and 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No attributes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s is the inSight Developer cross reference query panel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ft click on the arrow button of the entity selector and selec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IL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 the text box beneath the item selector enter the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*.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ft click on the Search butt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otice that two files are displayed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ft click on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cmd.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otice you are taken to the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ILE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sqlcmd.c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screen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4E46-89F6-4108-B4C6-35D802A351B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2 – inSight Developer – Search for Variable and Func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68280" y="939600"/>
            <a:ext cx="8593200" cy="50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turn to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earch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panel and left click on the arrow button of the entity selector and selec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RIABL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 the text entry box beneath the item selector enter the 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n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eft click on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earch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butto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ere is only one variabl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on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n the lis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eft click on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n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e screen for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VARIABLE con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s display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avigate back to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earch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panel and try a search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_*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8329D-4774-47D0-84B3-9AA9ED99FE4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3 – inSight Developer – Source Browsing Defini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8280" y="939600"/>
            <a:ext cx="8593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ft-click on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_quick_quer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n the search result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the right panel is updated with information for this func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ft-click on th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ource Viewer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con located near the top of the right panel (magnifying glass over a document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right side of the inSight Developer window now shows the source code for the implementation of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_quick_quer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entire line on which the symbol is found is colored blu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ake some time to read over the cod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D3AB6-1891-40FD-A734-7313DAF1B2C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4 – inSight Developer – Return to Develope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68280" y="939600"/>
            <a:ext cx="8593200" cy="49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the symbol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MYSQL_RE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s used on line 103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ft-click on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MYSQL_R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a pop-up appears containing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how Declarati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how Implementati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inSight Developer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lect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how Declar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the right side of inSight Developer now displays the header file that contains the declaration of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MYSQL_R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the symbol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MYSQL_FIEL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ppears on line 207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ft-click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MYSQL_FIEL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lect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inSight Develop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the right side of inSight Developer now displays the information about the symbol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MYSQL_FIEL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ake some time to explore other symbols using the Source Browser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FB6D-49F3-478A-928C-82C38C85D59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5 – inSight Developer – Defect Analysi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8280" y="939600"/>
            <a:ext cx="8593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ing hierarchical path in the left panel of the screen find th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.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90000"/>
              </a:lnSpc>
              <a:spcBef>
                <a:spcPts val="476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Select the file and notice that the right-side shifts to display the sqlcmd.c file information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on the Defects Analysis Icon above the right-side to view the defects for this fi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103F4-9263-4148-A931-7AE91F0448D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 – Launch the inSight Architec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cate the         icon on the desktop, and double click on i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inSight Architect will be launch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next window to appear is the Klocwork branding window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next window to appear is the Project selection dialog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581040" cy="60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EA28-5266-4636-B799-5EDBCB5595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6 – inSight Developer – Header Analysi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68280" y="939600"/>
            <a:ext cx="8593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ing hierarchical path in the left panel of the screen find th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ifc.h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90000"/>
              </a:lnSpc>
              <a:spcBef>
                <a:spcPts val="476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Notice that the path to this file is fully present by default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lect the inSight Header Analysis Icon above the right-side pan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90000"/>
              </a:lnSpc>
              <a:spcBef>
                <a:spcPts val="476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Notice a header include diagram for sqlifc.c is displayed, along with information on what symbols the file uses and what symbols are used from the file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CB151-D9B0-4F94-BE43-C2752DC8B2F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7 – inSight Developer – Adding Annotation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68280" y="939600"/>
            <a:ext cx="8593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ing hierarchical path in the left panel of the screen find th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ifc.h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nd left click on i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90000"/>
              </a:lnSpc>
              <a:spcBef>
                <a:spcPts val="476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Notice the New button on the Annotations horizontal line in the right panel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eft click on the New butto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90000"/>
              </a:lnSpc>
              <a:spcBef>
                <a:spcPts val="476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Notice the Edit Annotation box appears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nter the tex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Courier New"/>
              </a:rPr>
              <a:t>The declarations for the interface of sqlifc.c.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Courier New"/>
              </a:rPr>
              <a:t>Problems can be reported to: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Courier New"/>
                <a:hlinkClick r:id="rId1"/>
              </a:rPr>
              <a:t>https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Courier New"/>
                <a:hlinkClick r:id="rId2"/>
              </a:rPr>
              <a:t>my.klocwork.com/index.php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1E9A-DC63-412F-AF0B-75D562301C7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8 – inSight Developer – Adding Annotations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68280" y="939600"/>
            <a:ext cx="8593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eft click on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ave Annotatio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butto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edit the annotation left click on the pencil icon butt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delete the annotation left click on the X butt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tice the annotation appears in the Annotations list of th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ifc.h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Any number of annotations can be added.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For very lengthy annotations use URLs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http://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or 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https://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r 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ftp://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urier New"/>
                <a:hlinkClick r:id="rId1"/>
              </a:rPr>
              <a:t>mailto:/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Annotations could be used at any level of 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SQLCMD_MODEL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552F-A80C-43A4-82FB-1F6F9BE36CC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9 – inSight Developer – Exi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8280" y="939600"/>
            <a:ext cx="8593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it the brows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s concludes the Self-Guided Tour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C00B-CD7D-4912-B9EA-8FD58136BB8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 of Module – K7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 – Select a projec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You will see one or more projects listed in the Projects selection dialog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pand the project “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” by left clicking on the “+”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lect “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build_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OK”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utton will become active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eft click on the “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OK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” butto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Projects selection dialog will clos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E70E-3E24-4859-8416-D6D34698E8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 – Help and Abou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eft click on the “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Help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” butto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eft click on 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“About inSight Architect”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t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dialog will appear stating the name of the tool and it’s version number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eft click on “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OK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” to close the “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Abou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” dialog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eft click on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“Help”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button agai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eft click on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“inSight Architect Help”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utto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lect the index tab and typ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“help menu”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d press retur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ad about the help menu and how to use i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ose the window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1E159-2502-4B66-8277-DF1C21D434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 – inSight Architect – Create a New Mod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rchitect window becomes active displaying 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ystem mode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ystem model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s the default containment hierarchy extracted from the project as it was buil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ystem mode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s read-only so we need to create a model that can be modifie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ight click on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ystem mode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, and selec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New ..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et Model Nam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dialog appear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nter the text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QLCMD_MOD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eft-click on the “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OK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” butto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e second model appears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: SQLCMD_MOD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97BE-E6B1-4E6B-BE08-8346CA0844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 – inSight Architect – Navigation Up and Dow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8280" y="939600"/>
            <a:ext cx="8593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tice that a block diagram appears on the right hand side and that on the left hand side the tree is expanded to show the blocks “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hift left click on the block labeled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n the block diagram on the right hand sid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the contents of the block are expanded in the tree and displayed in the block diagram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eft click on the up arrow icon in the tool bar on the top of the window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the parent block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diagram is re-display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07FF-1474-442B-91EF-F17B3ADB37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 – inSight Architect – Navigation Forward and Back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8280" y="939600"/>
            <a:ext cx="8593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hift left click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r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n the hierarchical tree on the left hand sid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the block is displayed in the block diagram on the right hand side and the left hand side tree is expanded to show the contents of the block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eft click on the left arrow icon in the tool bar on the top of the window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ice that the previous diagram in the history list is display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s will be the block labeled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QLCMD_MOD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E9B3-1148-4E29-81B9-E1404B479B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20:42:19Z</dcterms:created>
  <dc:creator>Norm Rajala</dc:creator>
  <dc:description/>
  <dc:language>en-US</dc:language>
  <cp:lastModifiedBy>Neil Lillemark</cp:lastModifiedBy>
  <cp:lastPrinted>2004-04-07T16:09:40Z</cp:lastPrinted>
  <dcterms:modified xsi:type="dcterms:W3CDTF">2006-08-15T18:32:42Z</dcterms:modified>
  <cp:revision>344</cp:revision>
  <dc:subject/>
  <dc:title>PowerPoint Presentation</dc:title>
</cp:coreProperties>
</file>