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540C4-549A-4A0C-A98C-61BAA89DBB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272FF-72B9-484E-875C-0414D0101A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308DA-FFFB-4BE6-BFDA-BA78270935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CFFEA-6324-480B-97B3-D191353E08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3352680"/>
            <a:ext cx="80024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3E396-661D-4E5E-8574-5FC8507F60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989A8-085D-4752-8F21-128F88582D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CAA55-6C80-41E7-B827-C525F57F33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38D1D-7D13-4B2D-935D-89120B2492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3352680"/>
            <a:ext cx="80024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FF7B0-8D72-4F3D-9548-673C4A90E8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02D8B-0E70-4D69-AE20-527C511F6A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11DB3-83A2-415A-9E90-304BFF03F9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B0A00-D410-40AF-8A76-B6F5C7ADD5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7920" y="-1440"/>
            <a:ext cx="9159840" cy="6860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077320" y="669240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1A79-6B8E-4829-919E-95BF37EB6200}" type="slidenum">
              <a:rPr b="0" lang="en-US" sz="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232240" y="6553080"/>
            <a:ext cx="3810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Klocwork Inc. Confidential © 1998-2006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962520" y="6445080"/>
            <a:ext cx="9302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8EAB-FA10-4581-A773-C4BFA5D70C09}" type="slidenum">
              <a:rPr b="1" i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7858" b="112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633888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BE41-4B7C-4C8B-8424-FB6930D6F28E}" type="datetime2">
              <a:rPr b="0" lang="en-US" sz="800" spc="-1" strike="noStrike">
                <a:solidFill>
                  <a:srgbClr val="000066"/>
                </a:solidFill>
                <a:latin typeface="Arial"/>
              </a:rPr>
              <a:t>Thursday, July 30, 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800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orking with the 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Klocwor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Relationships – K7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amining Relation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Opaquely-us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39560" y="1122480"/>
            <a:ext cx="822960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PAQUELY-USE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relation i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type definition using a pointer to a type defini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type defini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1: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/* FILE: opaquely_uses_relation.c */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0002:</a:t>
            </a: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typedef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struct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aStructType {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0003:</a:t>
            </a: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struct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aStructType *aField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0004:</a:t>
            </a: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} aType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0005:</a:t>
            </a: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void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main() {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Result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CLASS-DATA-MEMBER aField 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from file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opaquely_uses_relation.c 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at line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3 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has a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OPAQUELY-USES 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relation to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TYPE aStructType 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defined in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opaquely_uses_relation.c 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at line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2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85356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DECLARED-BY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lation is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definition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declara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hen the implementation is not found in the source code under study it will be shown to be in the the fil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@__UNDEFINED__@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808080"/>
                </a:solidFill>
                <a:latin typeface="Courier New"/>
              </a:rPr>
              <a:t>0001:</a:t>
            </a:r>
            <a:r>
              <a:rPr b="1" lang="en-CA" sz="14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/* FILE: declared-by_relation.c */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808080"/>
                </a:solidFill>
                <a:latin typeface="Courier New"/>
              </a:rPr>
              <a:t>0002:</a:t>
            </a:r>
            <a:r>
              <a:rPr b="1" lang="en-CA" sz="14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CA" sz="1400" spc="-1" strike="noStrike">
                <a:solidFill>
                  <a:srgbClr val="000066"/>
                </a:solidFill>
                <a:latin typeface="Courier New"/>
              </a:rPr>
              <a:t>#include</a:t>
            </a: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 "aHeaderFile.h"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808080"/>
                </a:solidFill>
                <a:latin typeface="Courier New"/>
              </a:rPr>
              <a:t>0003:</a:t>
            </a:r>
            <a:r>
              <a:rPr b="1" lang="en-CA" sz="14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CA" sz="14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 main() {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808080"/>
                </a:solidFill>
                <a:latin typeface="Courier New"/>
              </a:rPr>
              <a:t>0004:</a:t>
            </a:r>
            <a:r>
              <a:rPr b="1" lang="en-CA" sz="14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    aFunction()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808080"/>
                </a:solidFill>
                <a:latin typeface="Courier New"/>
              </a:rPr>
              <a:t>0005:</a:t>
            </a:r>
            <a:r>
              <a:rPr b="1" lang="en-CA" sz="14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808080"/>
                </a:solidFill>
                <a:latin typeface="Courier New"/>
              </a:rPr>
              <a:t>0006:</a:t>
            </a:r>
            <a:r>
              <a:rPr b="1" lang="en-CA" sz="14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CA" sz="1400" spc="-1" strike="noStrike">
                <a:solidFill>
                  <a:srgbClr val="000066"/>
                </a:solidFill>
                <a:latin typeface="Courier New"/>
              </a:rPr>
              <a:t>void</a:t>
            </a: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 aFunction() {}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808080"/>
                </a:solidFill>
                <a:latin typeface="Courier New"/>
              </a:rPr>
              <a:t>0001:</a:t>
            </a:r>
            <a:r>
              <a:rPr b="1" lang="en-CA" sz="14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/* FILE: aHeaderFile.h */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808080"/>
                </a:solidFill>
                <a:latin typeface="Courier New"/>
              </a:rPr>
              <a:t>0002:</a:t>
            </a:r>
            <a:r>
              <a:rPr b="1" lang="en-CA" sz="14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CA" sz="1400" spc="-1" strike="noStrike">
                <a:solidFill>
                  <a:srgbClr val="000066"/>
                </a:solidFill>
                <a:latin typeface="Courier New"/>
              </a:rPr>
              <a:t>extern void</a:t>
            </a: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 aFunction()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sult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FUNCTION aFunction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from file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declared_by_relation.c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at line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6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as a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DECLARED-BY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relation to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FUNCTION-DECLARATION aFunction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defined in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aHeaderFile.h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at line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amining C and C++ Relation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Declared-by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amining C and C++ Relation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Referenc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23720" y="1033560"/>
            <a:ext cx="8506080" cy="48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FERENCE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relation is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definition that references a declaration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declara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808080"/>
                </a:solidFill>
                <a:latin typeface="Courier New"/>
              </a:rPr>
              <a:t>0001:</a:t>
            </a:r>
            <a:r>
              <a:rPr b="1" lang="en-CA" sz="14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/* FILE: references_relation.c */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808080"/>
                </a:solidFill>
                <a:latin typeface="Courier New"/>
              </a:rPr>
              <a:t>0002:</a:t>
            </a:r>
            <a:r>
              <a:rPr b="1" lang="en-CA" sz="14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#include "aHeaderFile.h"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808080"/>
                </a:solidFill>
                <a:latin typeface="Courier New"/>
              </a:rPr>
              <a:t>0003:</a:t>
            </a:r>
            <a:r>
              <a:rPr b="1" lang="en-CA" sz="14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int main() {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808080"/>
                </a:solidFill>
                <a:latin typeface="Courier New"/>
              </a:rPr>
              <a:t>0004:</a:t>
            </a:r>
            <a:r>
              <a:rPr b="1" lang="en-CA" sz="14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    aFunction()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808080"/>
                </a:solidFill>
                <a:latin typeface="Courier New"/>
              </a:rPr>
              <a:t>0005:</a:t>
            </a:r>
            <a:r>
              <a:rPr b="1" lang="en-CA" sz="14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808080"/>
                </a:solidFill>
                <a:latin typeface="Courier New"/>
              </a:rPr>
              <a:t>0006:</a:t>
            </a:r>
            <a:r>
              <a:rPr b="1" lang="en-CA" sz="14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void aFunction() {}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808080"/>
                </a:solidFill>
                <a:latin typeface="Courier New"/>
              </a:rPr>
              <a:t>0001:</a:t>
            </a:r>
            <a:r>
              <a:rPr b="1" lang="en-CA" sz="14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/* FILE: aHeaderFile.h */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808080"/>
                </a:solidFill>
                <a:latin typeface="Courier New"/>
              </a:rPr>
              <a:t>0002:</a:t>
            </a:r>
            <a:r>
              <a:rPr b="1" lang="en-CA" sz="14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extern void aFunction()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Result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FUNCTION main</a:t>
            </a: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 from file 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references_relation.c</a:t>
            </a: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 at line 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4 </a:t>
            </a: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has a 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REFERENCES </a:t>
            </a: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relation to 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FUNCTION-DECLARATION aFunction</a:t>
            </a: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 defined in 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aHeaderFile.h</a:t>
            </a: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 at line 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amining C and C++ Relation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Needs-declaration-of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6000" y="1093320"/>
            <a:ext cx="85503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NEEDS-DECLARATION-OF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relation i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definition using a pointer to a type definition (needs name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type defini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1: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/* FILE: needs_declaration_of_relation.c */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2: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aStruct {}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3: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aFunction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aStruct *aParameter) {}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sults: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FUNCTION aFunction 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from file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needs_declaration_of_relation.c 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at line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3 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has a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NEEDS-DECLARATION-OF 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relation to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TYPE aStruct 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defined in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needs_declaration_of_relation.c 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at line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2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amining Relation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Needs-definition-of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064880"/>
            <a:ext cx="8404200" cy="48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NEEDS-DEFINITION-OF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relation i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type definition using a type definition (needs size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type defini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1: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/* FILE: needs_definition_of_relation.c */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2: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aType {}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3: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aStructType {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4: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aType aField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5: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sults: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CLASS-DATA-MEMBER aField 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from file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needs_definition_of_relation.c 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at line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4 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has a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NEEDS-DEFINITION-OF 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relation to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TYPE aType 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defined in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needs_definition_of_relation.c 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at line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2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8680" y="0"/>
            <a:ext cx="83804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amining C and C++ Relation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Includ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15440" y="945720"/>
            <a:ext cx="839484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CLUDE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relation is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IL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n include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IL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ll references to a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IL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or from a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IL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re from line 1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ample: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1: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/* FILE: includes_relation.c */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2: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include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"included_file_entity.h"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1: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/* FILE: included_file_entity.h */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sults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FILE includes_relation.c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rom file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includes_relation.c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t line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2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as a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INCLUDES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lation to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FILE included_file_entity.h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efined in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included_file_entity.h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t line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1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amining C and C++ Relation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Expand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85640" y="82836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AND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relation is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ROM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I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ACRO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finition that is used by th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IL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ll references from a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IL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will be from line 1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ample: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ands_relation.c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1: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/* FILE: expands_relation.c */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2: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define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macro_entity 1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3: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main() {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4: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macro_entity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5: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sult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FILE expands_relation.c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rom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ile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expands_relation.c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t line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4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as a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EXPANDS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lation to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MACRO macro_entity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efined in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expands_relation.c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t line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2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itional C++ Language Relation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77920"/>
            <a:ext cx="8229600" cy="43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relations specific to C++ a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IMPLICITLY-CALL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IMPOR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INHERI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INSTANTIAT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SPECIALIZ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OVERRID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REDEFIN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amining C++ Relation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Implicitly-Call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9800" y="917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MPLICITLY-CALL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relation is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ROM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definition calling a constructor or destructo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definition of a constructor or destructo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Courier New"/>
              </a:rPr>
              <a:t>0001:</a:t>
            </a:r>
            <a:r>
              <a:rPr b="1" lang="en-US" sz="16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/* FILE: implicitly_calls_relation.C */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Courier New"/>
              </a:rPr>
              <a:t>0002:</a:t>
            </a:r>
            <a:r>
              <a:rPr b="1" lang="en-US" sz="16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ass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 aClass {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Courier New"/>
              </a:rPr>
              <a:t>0003:</a:t>
            </a:r>
            <a:r>
              <a:rPr b="1" lang="en-US" sz="16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ublic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: aClass() {};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Courier New"/>
              </a:rPr>
              <a:t>0004:</a:t>
            </a:r>
            <a:r>
              <a:rPr b="1" lang="en-US" sz="16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Courier New"/>
              </a:rPr>
              <a:t>0005:</a:t>
            </a:r>
            <a:r>
              <a:rPr b="1" lang="en-US" sz="16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 main() {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Courier New"/>
              </a:rPr>
              <a:t>0006:</a:t>
            </a:r>
            <a:r>
              <a:rPr b="1" lang="en-US" sz="16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    aClass aVariable;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Courier New"/>
              </a:rPr>
              <a:t>0007:</a:t>
            </a:r>
            <a:r>
              <a:rPr b="1" lang="en-US" sz="16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sult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FUNCTION main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from file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implicitly_calls_relation.C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at line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has a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FUNCTION_IMPLICITLY-CALLS_CLASS-METHOD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relation to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CLASS-METHOD aClas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defined in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implicitly_calls_relation.C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at line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amining C++ Relation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Impor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15440" y="1179360"/>
            <a:ext cx="8394840" cy="49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IMPORT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relation is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PORT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ntity, i.e. th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sing namespac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AMESPAC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cal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PORT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entities are ignored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0001:</a:t>
            </a: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/* FILE: imports_relation.C */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0002:</a:t>
            </a: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namespace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aNamespace {}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0003:</a:t>
            </a: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using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namespace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aNamespace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Result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IMPORT aNamespace 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from file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imports_relation.C 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at line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3 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has a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IMPORTS 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relation to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NAMESPACE aNamespace 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defined in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imports_relation.C 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at line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2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vervie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locwork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Software Intelligence Database contains information for a number of different kind of relations between program code entitie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s module cover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Examination and description of each kind of relation in C, C++ and Java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Emphasis is on the program code that corresponds to each relation kind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Upon completion of this module the student will have a detailed practical understanding of the relationships between entities in the </a:t>
            </a:r>
            <a:r>
              <a:rPr b="1" lang="en-CA" sz="2000" spc="-1" strike="noStrike">
                <a:solidFill>
                  <a:srgbClr val="000066"/>
                </a:solidFill>
                <a:latin typeface="Arial"/>
              </a:rPr>
              <a:t>Klocwork</a:t>
            </a: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 databas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This information is essential to the informed use of the inSight Architect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amining C++ Relation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Inheri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8440" y="917640"/>
            <a:ext cx="84171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HERIT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relation i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LASS, CLASS-TEMPLATE, CLASS-INSTANTIA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LASS, CLASS-TEMPLATE, CLASS-INSTANTIA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808080"/>
                </a:solidFill>
                <a:latin typeface="Courier New"/>
              </a:rPr>
              <a:t>0001:</a:t>
            </a:r>
            <a:r>
              <a:rPr b="1" lang="en-CA" sz="16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/* FILE: inherits_relation.C */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808080"/>
                </a:solidFill>
                <a:latin typeface="Courier New"/>
              </a:rPr>
              <a:t>0002:</a:t>
            </a:r>
            <a:r>
              <a:rPr b="1" lang="en-CA" sz="16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class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aSuperClass {};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808080"/>
                </a:solidFill>
                <a:latin typeface="Courier New"/>
              </a:rPr>
              <a:t>0003:</a:t>
            </a:r>
            <a:r>
              <a:rPr b="1" lang="en-CA" sz="16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class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aSubClas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808080"/>
                </a:solidFill>
                <a:latin typeface="Courier New"/>
              </a:rPr>
              <a:t>0004:</a:t>
            </a:r>
            <a:r>
              <a:rPr b="1" lang="en-CA" sz="16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     : </a:t>
            </a: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public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aSuperClass {};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808080"/>
                </a:solidFill>
                <a:latin typeface="Courier New"/>
              </a:rPr>
              <a:t>0005:</a:t>
            </a:r>
            <a:r>
              <a:rPr b="1" lang="en-CA" sz="16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template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&lt;</a:t>
            </a: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class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aClass&gt; </a:t>
            </a: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class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aClassTemplate {};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808080"/>
                </a:solidFill>
                <a:latin typeface="Courier New"/>
              </a:rPr>
              <a:t>0006:</a:t>
            </a:r>
            <a:r>
              <a:rPr b="1" lang="en-CA" sz="16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template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&lt;</a:t>
            </a: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class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aClass&gt; </a:t>
            </a: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class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aSubClassTemplat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808080"/>
                </a:solidFill>
                <a:latin typeface="Courier New"/>
              </a:rPr>
              <a:t>0007:</a:t>
            </a:r>
            <a:r>
              <a:rPr b="1" lang="en-CA" sz="16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        : </a:t>
            </a: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public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aClassTemplate&lt;aClass&gt; {};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808080"/>
                </a:solidFill>
                <a:latin typeface="Courier New"/>
              </a:rPr>
              <a:t>0008:</a:t>
            </a:r>
            <a:r>
              <a:rPr b="1" lang="en-CA" sz="16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main() {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808080"/>
                </a:solidFill>
                <a:latin typeface="Courier New"/>
              </a:rPr>
              <a:t>0009:</a:t>
            </a:r>
            <a:r>
              <a:rPr b="1" lang="en-CA" sz="16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class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aInstantiatedClas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808080"/>
                </a:solidFill>
                <a:latin typeface="Courier New"/>
              </a:rPr>
              <a:t>0010:</a:t>
            </a:r>
            <a:r>
              <a:rPr b="1" lang="en-CA" sz="16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             : </a:t>
            </a: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public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aClassTemplate&lt;</a:t>
            </a: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void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&gt; {};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808080"/>
                </a:solidFill>
                <a:latin typeface="Courier New"/>
              </a:rPr>
              <a:t>0011:</a:t>
            </a:r>
            <a:r>
              <a:rPr b="1" lang="en-CA" sz="16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       aSubClassTemplate&lt;</a:t>
            </a: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void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&gt; aSubClassVariable;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808080"/>
                </a:solidFill>
                <a:latin typeface="Courier New"/>
              </a:rPr>
              <a:t>0012:</a:t>
            </a:r>
            <a:r>
              <a:rPr b="1" lang="en-CA" sz="16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ining C++ Relatio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herits ..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44704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sult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CLASS aSubClass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rom file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inherits_relation.C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t line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4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as a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INHERITS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lation to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CLASS aSuperClass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efined in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inherits_relation.C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t line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2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CLASS-TEMPLATE aSubClassTemplat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rom file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inherits_relation.C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t line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7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as a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INHERITS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lation to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CLASS-TEMPLATE aClassTemplat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efined in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inherits_relation.C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t line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5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CLASS-INSTANTIATION aSubClassTemplate&lt;void&gt;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rom file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inherits_relation.C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t line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11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as a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INHERITS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lation to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CLASS-INSTANTIATION aClassTemplate&lt;void&gt;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efined in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inherits_relation.C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t line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9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ining C++ Relatio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stantia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4600" y="914400"/>
            <a:ext cx="866448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STANTIATE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relation is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ROM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ASS-INSTANTIATION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ASS-TEMPLATE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elations between local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ASS-INSTANTIATION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ASS-TEMPLATE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are </a:t>
            </a:r>
            <a:r>
              <a:rPr b="0" lang="en-US" sz="1600" spc="-1" strike="noStrike" u="sng">
                <a:solidFill>
                  <a:srgbClr val="000066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ignored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808080"/>
                </a:solidFill>
                <a:latin typeface="Courier New"/>
              </a:rPr>
              <a:t>0001:</a:t>
            </a:r>
            <a:r>
              <a:rPr b="1" lang="en-CA" sz="16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/* FILE: instantiates_relation.C */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808080"/>
                </a:solidFill>
                <a:latin typeface="Courier New"/>
              </a:rPr>
              <a:t>0002:</a:t>
            </a:r>
            <a:r>
              <a:rPr b="1" lang="en-CA" sz="16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template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&lt;</a:t>
            </a: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class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aClass&gt; </a:t>
            </a: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class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aClassTemplate {};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808080"/>
                </a:solidFill>
                <a:latin typeface="Courier New"/>
              </a:rPr>
              <a:t>0003:</a:t>
            </a:r>
            <a:r>
              <a:rPr b="1" lang="en-CA" sz="16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main() {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808080"/>
                </a:solidFill>
                <a:latin typeface="Courier New"/>
              </a:rPr>
              <a:t>0004:</a:t>
            </a:r>
            <a:r>
              <a:rPr b="1" lang="en-CA" sz="16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class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aInstantiatedClas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808080"/>
                </a:solidFill>
                <a:latin typeface="Courier New"/>
              </a:rPr>
              <a:t>0005:</a:t>
            </a:r>
            <a:r>
              <a:rPr b="1" lang="en-CA" sz="16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         : </a:t>
            </a: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public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 aClassTemplate&lt;</a:t>
            </a:r>
            <a:r>
              <a:rPr b="1" lang="en-CA" sz="1600" spc="-1" strike="noStrike">
                <a:solidFill>
                  <a:srgbClr val="000066"/>
                </a:solidFill>
                <a:latin typeface="Courier New"/>
              </a:rPr>
              <a:t>void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&gt; {};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808080"/>
                </a:solidFill>
                <a:latin typeface="Courier New"/>
              </a:rPr>
              <a:t>0006:</a:t>
            </a:r>
            <a:r>
              <a:rPr b="1" lang="en-CA" sz="16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CA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Result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CLASS-INSTANTIATION aClassTemplate&lt;void&gt; 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from file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instantiates_relation.C 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at line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4 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has a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INSTANTIATES 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relation to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CLASS-TEMPLATE aClassTemplate 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defined in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instantiates_relation.C 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at line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2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ining C++ Relatio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pecializ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43000" y="1177920"/>
            <a:ext cx="8664480" cy="44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SPECIALIZE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relation is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PECIALIZA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LASS-TEMPLAT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0001:</a:t>
            </a: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/* FILE: specializes_relation.C */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0002:</a:t>
            </a: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template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&lt;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class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aClass&gt; 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class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aClassTemplate {}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0003:</a:t>
            </a: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template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&lt;&gt; 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class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aClassTemplate&lt;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void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&gt; {}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Result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SPECIALIZATION aClassTemplate 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from file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specializes_relation.C 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at line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3 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has a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SPECIALIZES 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relation to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CLASS-TEMPLATE aClassTemplate 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defined in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specializes_relation.C 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at line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2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ining C++ Relatio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verrid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46240" y="1060560"/>
            <a:ext cx="8664480" cy="47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VERRIDE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relation is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ROM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 virtual class method in a derived clas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e original method the base class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ampl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1: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/* FILE: overrides_relation.C */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2: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lass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aBaseClass {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3: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4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irtual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aMethod() {}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5: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};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6: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lass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aDerivedClass: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aBaseClass {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7: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8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irtual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aMethod() {}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9: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}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Results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CLASS-METHOD aMethod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t line 8 has an OVERRIDES relationship to the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CLASS-METHOD aMethod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t line 4.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amining C++ Relation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Redefin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39560" y="1020240"/>
            <a:ext cx="8229600" cy="48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DEFINE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relation is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00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ROM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 non-virtual class method in a derived clas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900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e original method the base class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900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ampl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1: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/* FILE: redefines_relation.C */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2: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lass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aBaseClass {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3: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4: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aMethod() {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5: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}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6: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lass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aDerivedClass :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aBaseClass {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7: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8: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aMethod() {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9: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};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Results</a:t>
            </a: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00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CLASS-METHOD aMethod at line 8 has a REDEFINES relationship to the CLASS-METHOD aMethod at line 3.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Java Language Relation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relations specific to Java a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66"/>
                </a:solidFill>
                <a:latin typeface="Courier New"/>
              </a:rPr>
              <a:t>CALL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66"/>
                </a:solidFill>
                <a:latin typeface="Courier New"/>
              </a:rPr>
              <a:t>IMPLEME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66"/>
                </a:solidFill>
                <a:latin typeface="Courier New"/>
              </a:rPr>
              <a:t>IMPOR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66"/>
                </a:solidFill>
                <a:latin typeface="Courier New"/>
              </a:rPr>
              <a:t>INHERI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66"/>
                </a:solidFill>
                <a:latin typeface="Courier New"/>
              </a:rPr>
              <a:t>OVERRID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66"/>
                </a:solidFill>
                <a:latin typeface="Courier New"/>
              </a:rPr>
              <a:t>REA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66"/>
                </a:solidFill>
                <a:latin typeface="Courier New"/>
              </a:rPr>
              <a:t>WRIT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66"/>
                </a:solidFill>
                <a:latin typeface="Courier New"/>
              </a:rPr>
              <a:t>US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ow Java Language Relations Will Be Examine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71600" y="917280"/>
            <a:ext cx="82296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n example will be shown to explain each language relation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example will be compiled and linked with the command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wjava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d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.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classpath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“</a:t>
            </a:r>
            <a:r>
              <a:rPr b="0" i="1" lang="en-US" sz="1800" spc="-1" strike="noStrike">
                <a:solidFill>
                  <a:srgbClr val="000066"/>
                </a:solidFill>
                <a:latin typeface="Courier New"/>
              </a:rPr>
              <a:t>KWINSTALL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\_jvm\lib\rt.jar“ NAME.java ..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wlinker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–o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66"/>
                </a:solidFill>
                <a:latin typeface="Courier New"/>
              </a:rPr>
              <a:t>NAME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–D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example project is created using the command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wadmin create-project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66"/>
                </a:solidFill>
                <a:latin typeface="Courier New"/>
              </a:rPr>
              <a:t>NA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example database is loaded with the command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wadmin build-project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66"/>
                </a:solidFill>
                <a:latin typeface="Courier New"/>
              </a:rPr>
              <a:t>NAME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\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-name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LATEST \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-using-tables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66"/>
                </a:solidFill>
                <a:latin typeface="Courier New"/>
              </a:rPr>
              <a:t>NAME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\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-no-repo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The database can then be browsed with inSight Architect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ining Java Relatio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al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46240" y="944640"/>
            <a:ext cx="866448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CALL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relation is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LASS-METHO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LASS-METHOD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1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: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/* FILE: aCallsRelation.java */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2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: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lass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aCallsRelation {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3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: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aFunction () {}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4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: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aNotherFunction () {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5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: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     aFunction()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6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: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 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7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: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Result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CLASS-METHOD aNotherFunction from file aCallsRelation.java at line 5 has a CLASS-METHOD_CALLS_CLASS-METHOD relation to CLASS-METHOD aFunction defined in aCallsRelation.java at line 3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ining Java Relatio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mple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1400" y="1046160"/>
            <a:ext cx="889812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IMPLEMENT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relation is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LAS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n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0001:</a:t>
            </a: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/* FILE: aImplementsRelation.java */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0002:</a:t>
            </a: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public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class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aImplementsRelation 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implements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aInterface</a:t>
            </a: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 {}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0001:</a:t>
            </a: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/* FILE: aInterface.java */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0002:</a:t>
            </a: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public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interface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aInterface {}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Result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CLASS aImplementsRelation 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from file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aImplementsRelation.java 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at line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2 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has a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IMPLEMENTS 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relation to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INTERFACE aInterface 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defined in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aInterface.java 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at line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2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ow C and C++ Language Relations Are Examine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71600" y="1063800"/>
            <a:ext cx="82296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1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n example will be shown to explain each language relation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1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1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example will be compiled with the command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wcc –o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66"/>
                </a:solidFill>
                <a:latin typeface="Courier New"/>
              </a:rPr>
              <a:t>NAME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-print-errors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66"/>
                </a:solidFill>
                <a:latin typeface="Courier New"/>
              </a:rPr>
              <a:t>NAME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.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5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1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example project is created using the command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wadmin create-project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66"/>
                </a:solidFill>
                <a:latin typeface="Courier New"/>
              </a:rPr>
              <a:t>NA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5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1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example database is loaded with the command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wadmin build-project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66"/>
                </a:solidFill>
                <a:latin typeface="Courier New"/>
              </a:rPr>
              <a:t>NAME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\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5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-name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LATEST \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5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-using-tables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66"/>
                </a:solidFill>
                <a:latin typeface="Courier New"/>
              </a:rPr>
              <a:t>NAME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\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5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-no-repo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1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The database can then be browsed with inSight Architect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ining Java Relatio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her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46240" y="928800"/>
            <a:ext cx="8664480" cy="48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INHERIT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relation is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LASS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ERFAC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LASS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ERFAC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1: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/* FILE: aInheritsRelation.java */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2: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lass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aInheritsRelation {}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1: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/* FILE: aDerivedClass.java */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2: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lass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aDerivedClass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tends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aInheritsRelation {}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Result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CLASS aDerivedClass from file aDerivedClass.java at line 2 has a INHERITS relation to CLASS aInheritsRelation defined in aInheritsRelation.java at line 2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ining Java Relatio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verrid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6240" y="928800"/>
            <a:ext cx="8664480" cy="48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OVERRIDE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relation is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LASS-METHO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LASS-METHO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1: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/* FILE: aOverridesRelation.java */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2: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lass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aOverridesRelation {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3: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void aMethod() { 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4: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1: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/* FILE: aDerivedClass.java */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2: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lass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aDerivedClass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tends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aOverridesRelation {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3: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aMethod() { 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4: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Result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CLASS-METHOD aMethod from file aDerivedClass.java at line 3 has a OVERRIDES relation to CLASS-METHOD aMethod defined in aOverridesRelation.java at line 3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ining Java Relatio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a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46240" y="871560"/>
            <a:ext cx="8664480" cy="50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READ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relation is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36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LASS-METHO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36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LASS-DATA-MEMB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0001:</a:t>
            </a: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/* FILE: aReadsRelation.java */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0002:</a:t>
            </a: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public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class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aReadsRelation {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0003:</a:t>
            </a: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aClassDataMember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0004:</a:t>
            </a: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void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aMethod() {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0005:</a:t>
            </a: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               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x=aClassDataMember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0006:</a:t>
            </a: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       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0007:</a:t>
            </a: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Result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36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CLASS-METHOD aMethod from file aReadsRelation.java at line 5 has a CLASS-METHOD_READS_CLASS-DATA-MEMBER relation to CLASS-DATA-MEMBER aClassDataMember defined in aReadsRelation.java at line 3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ining Java Relatio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6240" y="1017360"/>
            <a:ext cx="866448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USE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relation is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22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LASS-DATA-MEMB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22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LAS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22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0001:</a:t>
            </a: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/* FILE: aUsesRelation.java */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0002:</a:t>
            </a: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public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class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aUsesRelation {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0003:</a:t>
            </a: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       aClass aClassDataMember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0004:</a:t>
            </a: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0001:</a:t>
            </a: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/* FILE: aClass.java */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0002:</a:t>
            </a: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public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class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aClass {}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Result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22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CLASS-DATA-MEMBER aClassDataMember from file aUsesRelation.java at line 3 has a CLASS-DATA-MEMBER_USES_CLASS relation to CLASS aClass defined in aClass.java at line 2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ining Java Relatio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Wri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46240" y="871560"/>
            <a:ext cx="8664480" cy="50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WRITE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relation is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22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LASS-METHO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22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LASS-DATA-MEMB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22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0001:</a:t>
            </a: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/* FILE: aWritesRelation.java */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0002:</a:t>
            </a: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public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class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aWritesRelation {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0003:</a:t>
            </a: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aClassDataMember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0004:</a:t>
            </a: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void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aMethod() {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0005:</a:t>
            </a: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               aClassDataMember=0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0006:</a:t>
            </a: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       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0007:</a:t>
            </a: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Result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22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CLASS-METHOD aMethod from file aWritesRelation.java at line 5 has a CLASS-METHOD_WRITES_CLASS-DATA-MEMBER relation to CLASS-DATA-MEMBER aClassDataMember defined in aWritesRelation.java at line 3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rtitioning the Relation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39560" y="1123560"/>
            <a:ext cx="822960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language relations can be partitioned to assist in analyzing anomalies at different times of interest using inSight Architect or inSpect usage rule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etween Files at Pre-process Tim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EXPANDS, INCLUDES, FILE_USES_MACRO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etween Components at Compile Tim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DECLARED-BY, IMPLEMENTS, IMPORTS, INHERITS, INSTANTIATES, NEEDS-DECLARATION-OF, NEEDS-DEFINITION-OF, OPAQUELY-USES, OVERRIDES, REDEFINES, REFERENCES, SPECIALIZES, US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etween Functionality at Link tim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CALLS, IMPLICITLY-CALLS, READS, WRIT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nd of Module – K7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 and C++ Language Relation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14360" y="110484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relations for C ar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CALL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DECLARED-BY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EXPAND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INCLUD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NEEDS-DECLARATION-OF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NEEDS-DEFINITION-OF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OPAQUELY-US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READ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REFERENC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US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Courier New"/>
              </a:rPr>
              <a:t>WRIT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amining C and C++ Relation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Call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23804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ALLS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lation is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ROM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 definition that contains a cal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 definition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0001:</a:t>
            </a: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/* FILE: calls_relation.c */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0002:</a:t>
            </a: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void aFunction() {}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0003:</a:t>
            </a: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int main() {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0004:</a:t>
            </a: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        aFunction()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0005:</a:t>
            </a:r>
            <a:r>
              <a:rPr b="1" lang="en-CA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Arial"/>
              </a:rPr>
              <a:t>Result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FUNCTION main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 from file 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calls_relation.c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 at line 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4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 has a 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FUNCTION_CALLS_FUNCTION relation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 to 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FUNCTION aFunction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 defined in 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calls_relation.c</a:t>
            </a:r>
            <a:r>
              <a:rPr b="1" lang="en-CA" sz="1800" spc="-1" strike="noStrike">
                <a:solidFill>
                  <a:srgbClr val="000066"/>
                </a:solidFill>
                <a:latin typeface="Courier New"/>
              </a:rPr>
              <a:t> at line </a:t>
            </a:r>
            <a:r>
              <a:rPr b="0" lang="en-CA" sz="1800" spc="-1" strike="noStrike">
                <a:solidFill>
                  <a:srgbClr val="000066"/>
                </a:solidFill>
                <a:latin typeface="Courier New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amining C and C++ Relation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Calls ..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CALLS relationship applies to definitions for the program code entitie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LASS-METHOD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FUNCTI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FUNCTION-INSTANTIATI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FUNCTION-POINTE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METHOD-INSTANTIATI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 Java, a class may have a static initialization block from which other methods are called, therefore, CLASS_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_CLASS-METHOD may appear in Java-based project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3240" y="70920"/>
            <a:ext cx="84186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amining C and C++ Relation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Read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31840" y="945720"/>
            <a:ext cx="8717040" cy="50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AD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relation is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definition that reads a global variable, class-data-member, or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acro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global variable, class-data-member or macro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eads from local variables are ignored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1: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/* FILE: reads_relation.c */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2: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aVariable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3: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main () {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4: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aLocalVariable=aVariable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5: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sult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FUNCTION main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rom file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reads_relation.c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t line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4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as a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FUNCTION_READS_VARIABL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lation to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VARIABLE aVariabl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efined in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reads_relation.c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t line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2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63240" y="70920"/>
            <a:ext cx="84186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amining C and C++ Relation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Writ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5920" y="945720"/>
            <a:ext cx="8229600" cy="50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WRITE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relation is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definition that writes a global variable or class-data-member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global variable or class-data-member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rites to local variables are ignored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1: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/* FILE: writes_relation.c */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2: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aVariable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3: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main () {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4: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aVariable=0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5: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sult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FUNCTION main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rom file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writes_relation.c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t line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4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as a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FUNCTION_WRITES_VARIABL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lation to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VARIABLE aVariabl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efined in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writes_relation.c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t line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2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3240" y="70920"/>
            <a:ext cx="84186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amining C and C++ Relation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Us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1200" y="1001880"/>
            <a:ext cx="866304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SE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relation is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definition that uses a global symbol that is not read or written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global symbol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s from local symbols are ignored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1: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/* FILE: uses_relation.c */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2: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ypedef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aType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3: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main () {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4: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  aType aVariable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0005: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sult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FUNCTION main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rom file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uses_relation.c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t line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4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as a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FUNCTION_USES_TYP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lation to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TYPE aTyp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efined in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uses_relation.c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t line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2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2T13:15:24Z</dcterms:created>
  <dc:creator>tmackenzie</dc:creator>
  <dc:description/>
  <dc:language>en-US</dc:language>
  <cp:lastModifiedBy>Mark Grice</cp:lastModifiedBy>
  <dcterms:modified xsi:type="dcterms:W3CDTF">2006-10-16T01:31:23Z</dcterms:modified>
  <cp:revision>1124</cp:revision>
  <dc:subject/>
  <dc:title>Metric Analysis</dc:title>
</cp:coreProperties>
</file>