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E4A59E-E44B-43F4-9E2E-C1EA73C0DD3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83C5B8-787B-4482-B324-E063465D7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inspect where the cabe settings are (mcon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forward to more indepth details on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d are not counted in file ch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6D9F12-9344-4341-9714-E64CE6BA8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020BFE-798B-442E-8B94-1F9084DD11F9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31800" y="5203800"/>
            <a:ext cx="58356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FEB2A-ECF7-4790-991B-C35EB6A7B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858C4-15F6-432B-91C3-2D69F5D9F9E8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C31AAF-42A6-4422-9FD2-A96EB3EB8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7034E2-6587-438C-9580-F2952167583D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6B30-EF6A-439B-A628-CFC7ECC02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34A3-9502-4B86-90F4-D70581328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32BB-F037-4350-B073-DEF6C1F4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7F05-9A9C-44BF-A3F2-B4FA685F5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DB11-CB35-4F58-82E7-F9274C946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6870-C612-4F3B-91F7-72E545F1C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51FE-88E9-4A63-8859-E68D3F34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C81F-88D0-405D-B3A7-AAED466CA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C6C7-6AF7-4211-830C-22DD4BE39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1FD2-85D0-46A2-94C3-0305C4286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26B9-1564-4270-BC2C-55A7CFE32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885C-FB49-418F-BE2E-225A9814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21A1-9318-4042-9AD3-62225A54D2A0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69276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EB2-DD20-4268-BCD9-1CB5FFFB8F8A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9280" y="21351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E1C-6B8A-4124-9EFE-A3E607430683}" type="datetime2">
              <a:rPr b="0" lang="en-US" sz="8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Overview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the ETL and Loading the</a:t>
            </a:r>
            <a:r>
              <a:rPr b="0" i="1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Databas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n launching kwintellectdb.exe to load data, the ETL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L = Extract ,Transform and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nds and loads all builds and shared models that exist in the inSight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s pertinent Klocwork build data into inTellect Dat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es inTellect database with newly transform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loading an existing build will ignore existing models but will load any new 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581280"/>
            <a:ext cx="6400800" cy="1143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3809880"/>
            <a:ext cx="17398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Loa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kwadm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809880"/>
            <a:ext cx="1779840" cy="77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inTellect Extract Transformation and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kwloadintelld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800600"/>
            <a:ext cx="6400800" cy="1109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5cd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5029200"/>
            <a:ext cx="1351080" cy="596880"/>
          </a:xfrm>
          <a:prstGeom prst="can">
            <a:avLst>
              <a:gd name="adj" fmla="val 25000"/>
            </a:avLst>
          </a:prstGeom>
          <a:solidFill>
            <a:srgbClr val="65a2a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inTellect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4"/>
            <a:endCxn id="178" idx="3"/>
          </p:cNvCxnSpPr>
          <p:nvPr/>
        </p:nvCxnSpPr>
        <p:spPr>
          <a:xfrm flipV="1">
            <a:off x="6989760" y="4199760"/>
            <a:ext cx="658080" cy="1127880"/>
          </a:xfrm>
          <a:prstGeom prst="bentConnector3">
            <a:avLst>
              <a:gd name="adj1" fmla="val 134756"/>
            </a:avLst>
          </a:prstGeom>
          <a:ln w="28440">
            <a:solidFill>
              <a:srgbClr val="009900"/>
            </a:solidFill>
            <a:miter/>
            <a:head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2971800" y="4876920"/>
            <a:ext cx="1645560" cy="921960"/>
            <a:chOff x="2971800" y="4876920"/>
            <a:chExt cx="1645560" cy="921960"/>
          </a:xfrm>
        </p:grpSpPr>
        <p:sp>
          <p:nvSpPr>
            <p:cNvPr id="183" name=""/>
            <p:cNvSpPr/>
            <p:nvPr/>
          </p:nvSpPr>
          <p:spPr>
            <a:xfrm>
              <a:off x="2971800" y="4876920"/>
              <a:ext cx="1643760" cy="92196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985120" y="4940640"/>
              <a:ext cx="1632240" cy="587880"/>
              <a:chOff x="2985120" y="4940640"/>
              <a:chExt cx="1632240" cy="58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2985120" y="4940640"/>
                <a:ext cx="894240" cy="573480"/>
              </a:xfrm>
              <a:prstGeom prst="can">
                <a:avLst>
                  <a:gd name="adj" fmla="val 25000"/>
                </a:avLst>
              </a:prstGeom>
              <a:solidFill>
                <a:srgbClr val="6f689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odel (R/O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77560" y="4955040"/>
                <a:ext cx="739800" cy="573480"/>
              </a:xfrm>
              <a:prstGeom prst="can">
                <a:avLst>
                  <a:gd name="adj" fmla="val 25000"/>
                </a:avLst>
              </a:prstGeom>
              <a:solidFill>
                <a:srgbClr val="6f689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Us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Mode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7" name=""/>
          <p:cNvCxnSpPr>
            <a:stCxn id="178" idx="1"/>
            <a:endCxn id="186" idx="4"/>
          </p:cNvCxnSpPr>
          <p:nvPr/>
        </p:nvCxnSpPr>
        <p:spPr>
          <a:xfrm flipV="1" rot="10800000">
            <a:off x="4617360" y="4199400"/>
            <a:ext cx="1249920" cy="1042200"/>
          </a:xfrm>
          <a:prstGeom prst="bentConnector3">
            <a:avLst>
              <a:gd name="adj1" fmla="val 49927"/>
            </a:avLst>
          </a:prstGeom>
          <a:ln w="28440">
            <a:solidFill>
              <a:srgbClr val="009900"/>
            </a:solidFill>
            <a:miter/>
            <a:head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6B7D-EAF2-40C9-A3C7-AA84EA9E1B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ading inTellect Database – Command Line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ocwork inTellect ET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ine form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wintellectd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–project &lt;project&gt; [op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project&gt; is the Klocwork project, for exampl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e “*” to load in all projects and bui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- - p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see a list of projects, look at KMC projects tab or type the following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wadmin list-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build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pecific build of the project, for example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T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see a list of builds for a specified project, look at KMC projects tab or type the following comm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wadmin list-builds &lt;pro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e “*” to load in all builds of a given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- - b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8018-259B-4949-A55E-558CB905A5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to specify project and server typ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host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host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kwh] Specify the Klocwork Admin server host name (localho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port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port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kwp] Specify the Klocwork Admin server port number (1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build-name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bn] Specify the build name ( * selects all buil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build-date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bd] Override build date from database (YYYY-MM-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build-time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bt] Override build time from database (HH:MM: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database-host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th] Specify the host name of the inTellec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database-port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tp] Specify the port number of the inTellec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282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database-name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26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tn] Specify the name of the database to u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F539-974E-4AE1-821D-1950CC7606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 – Delete op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when attempting to dele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delete-project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kwdprj] Specify a request to remove a project (no wildc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delete-build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arg&gt;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kwdbld] Specify a request to remove a build (no wildc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945F-7E8F-42E9-B3B6-22E0AB0C1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 – Loadonlysta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to specify load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loadonlystate &lt;arg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state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ly defects with the state you enter will be loa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ptions a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ur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ou do not use this command switch, the default states are entered. Default: new/existing/re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8BC7-F4CD-421C-91E0-7A348B55E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 – Loadonlystatu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to specify load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loadonlystatus &lt;ar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statu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ly defects with the status you enter will be loa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ptions a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_a_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x_in_next_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x_in_last_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ou do not use command switch, default statuses are entered. Default: analyze/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5712-7914-4D7D-AC04-2AF23942D8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 – Loadextendedli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to specify load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loadextendedlist &lt;ar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--extlist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es, the full list of code problems that match all other criteria regardless of whether they are ranked high will be loaded. Default i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0F83-CBDD-4367-ACB7-65E0C5E8B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Options – Utility Func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these options for miscellaneous purp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hel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ow a help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versi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 version 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lock-database &lt;arg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Courier New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--ulk] unlock an inTellect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13D1-5C64-42F1-B2FE-DA9C894A6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TL Command Line – Examp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comm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all builds under 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loadintellectdb.exe --project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loadintelectdb.exe  --project Moda --build-nam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a single build under 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loadintellectdb.exe --project Moda --build-name buil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oad a build overriding data 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loadintellectdb.exe --project Moda --build-name build_1 --build-date 1972-01-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-build-time 10:10: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oad a project specifying a differ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loadintellectdb.exe --project Moda --database-host notlocalhost --database-port 33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-database-name intellect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7934-9B1F-4443-968B-B3DDD5273A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xecutive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development VPs or dire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anager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development, verification, quality, or project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rchit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ending over bu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rill-down analysis to explore trend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etric 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tegration with Klocwork tools (inSight, inSpect) for automatic metric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arting, scoping, reporting and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corecard, correlation, and in-depth 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aring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DE2B-46BA-4C39-9698-EBEF859F30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Understanding the Scorecar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standing the Scorecar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671400"/>
            <a:ext cx="777240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E9ED-E8A0-49EC-AECC-0F779A0CF0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standing the Scorecar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Main Scorecar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tal of all defects discovered when running the 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Klocwork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Spect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is is the count of functions that exceed the McCabe Cyclomatic Complexity threshold as set in in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le chur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les that have add changed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is is a count of lines of code that are non blank non commented lines of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urrent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evious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9A76-10B9-4D27-9A6F-CB9E3004D7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standing the Scorecar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in point of entry into inTe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plays all the projects in the inTellect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plays colours based on threshold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plays directional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plays current and previous bu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able architectur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e click grap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53CC-A981-47AA-B3C0-C4C3D83A78D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Trending of Scorecard Info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nding of  Scorecard inf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TL and chur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e-calculated by 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ways against a previous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s defined by --build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inserting a build between existing builds, churn is recalculated for the previous and next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971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ild_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ild_2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ild_3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ild_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294560" y="3657600"/>
            <a:ext cx="1676520" cy="22860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199680" y="3657600"/>
            <a:ext cx="1676520" cy="22860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952160" y="3657600"/>
            <a:ext cx="1676520" cy="22860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79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327672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5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4688-AFB7-4876-8EDF-2180850B30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urn Calcul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3600" indent="-93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urn is potentially calculated for 6 differ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le (C/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unction (C/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ass (C++/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ass Method (C++/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lobal Variable (C/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764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lobal Type (C/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81280" y="1622520"/>
            <a:ext cx="545940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2B69-D104-4D9C-9D48-C3E8FBB5BE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Working with Thresholds Module 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Working with Threshol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 inTel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resholds can be set for each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resholds can be applied to one, all or a set of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corecard automatically updates when thresholds are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14400" y="2286000"/>
          <a:ext cx="708660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708660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25A7-EA6D-4467-9902-8C19FEE8AF1F}" type="slidenum">
              <a:t>28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Selecting Threshol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 inTel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rom Scorecard, Select Menu – TOOLS-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ist of available projects is shown along with a pull-down menu for all available thres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2333520"/>
          <a:ext cx="701028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33520"/>
                    <a:ext cx="70102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87E-699E-4A20-B478-D48781D2EC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Arial"/>
              </a:rPr>
              <a:t>The Klocwork Product Suite Overview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3840" y="974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breadth and depth of the extended develop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9440" y="1438200"/>
            <a:ext cx="1590840" cy="3800520"/>
          </a:xfrm>
          <a:custGeom>
            <a:avLst/>
            <a:gdLst/>
            <a:ahLst/>
            <a:rect l="l" t="t" r="r" b="b"/>
            <a:pathLst>
              <a:path w="167" h="399">
                <a:moveTo>
                  <a:pt x="13" y="0"/>
                </a:moveTo>
                <a:lnTo>
                  <a:pt x="154" y="0"/>
                </a:lnTo>
                <a:cubicBezTo>
                  <a:pt x="161" y="0"/>
                  <a:pt x="167" y="6"/>
                  <a:pt x="167" y="13"/>
                </a:cubicBezTo>
                <a:lnTo>
                  <a:pt x="167" y="386"/>
                </a:lnTo>
                <a:cubicBezTo>
                  <a:pt x="167" y="393"/>
                  <a:pt x="161" y="399"/>
                  <a:pt x="154" y="399"/>
                </a:cubicBezTo>
                <a:lnTo>
                  <a:pt x="13" y="399"/>
                </a:lnTo>
                <a:cubicBezTo>
                  <a:pt x="6" y="399"/>
                  <a:pt x="0" y="393"/>
                  <a:pt x="0" y="386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lose/>
              </a:path>
            </a:pathLst>
          </a:custGeom>
          <a:solidFill>
            <a:srgbClr val="d7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99040" y="150480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Arial"/>
              </a:rPr>
              <a:t>Execu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8440" y="1438200"/>
            <a:ext cx="1581120" cy="3800520"/>
          </a:xfrm>
          <a:custGeom>
            <a:avLst/>
            <a:gdLst/>
            <a:ahLst/>
            <a:rect l="l" t="t" r="r" b="b"/>
            <a:pathLst>
              <a:path w="166" h="399">
                <a:moveTo>
                  <a:pt x="12" y="0"/>
                </a:moveTo>
                <a:lnTo>
                  <a:pt x="154" y="0"/>
                </a:lnTo>
                <a:cubicBezTo>
                  <a:pt x="160" y="0"/>
                  <a:pt x="166" y="6"/>
                  <a:pt x="166" y="13"/>
                </a:cubicBezTo>
                <a:lnTo>
                  <a:pt x="166" y="386"/>
                </a:lnTo>
                <a:cubicBezTo>
                  <a:pt x="166" y="393"/>
                  <a:pt x="160" y="399"/>
                  <a:pt x="154" y="399"/>
                </a:cubicBezTo>
                <a:lnTo>
                  <a:pt x="12" y="399"/>
                </a:lnTo>
                <a:cubicBezTo>
                  <a:pt x="5" y="399"/>
                  <a:pt x="0" y="393"/>
                  <a:pt x="0" y="386"/>
                </a:cubicBezTo>
                <a:lnTo>
                  <a:pt x="0" y="13"/>
                </a:lnTo>
                <a:cubicBezTo>
                  <a:pt x="0" y="6"/>
                  <a:pt x="5" y="0"/>
                  <a:pt x="12" y="0"/>
                </a:cubicBezTo>
                <a:close/>
              </a:path>
            </a:pathLst>
          </a:cu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04560" y="15048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7720" y="1438200"/>
            <a:ext cx="1581120" cy="3800520"/>
          </a:xfrm>
          <a:custGeom>
            <a:avLst/>
            <a:gdLst/>
            <a:ahLst/>
            <a:rect l="l" t="t" r="r" b="b"/>
            <a:pathLst>
              <a:path w="166" h="399">
                <a:moveTo>
                  <a:pt x="12" y="0"/>
                </a:moveTo>
                <a:lnTo>
                  <a:pt x="154" y="0"/>
                </a:lnTo>
                <a:cubicBezTo>
                  <a:pt x="161" y="0"/>
                  <a:pt x="166" y="6"/>
                  <a:pt x="166" y="13"/>
                </a:cubicBezTo>
                <a:lnTo>
                  <a:pt x="166" y="386"/>
                </a:lnTo>
                <a:cubicBezTo>
                  <a:pt x="166" y="393"/>
                  <a:pt x="161" y="399"/>
                  <a:pt x="154" y="399"/>
                </a:cubicBezTo>
                <a:lnTo>
                  <a:pt x="12" y="399"/>
                </a:lnTo>
                <a:cubicBezTo>
                  <a:pt x="6" y="399"/>
                  <a:pt x="0" y="393"/>
                  <a:pt x="0" y="386"/>
                </a:cubicBezTo>
                <a:lnTo>
                  <a:pt x="0" y="13"/>
                </a:lnTo>
                <a:cubicBezTo>
                  <a:pt x="0" y="6"/>
                  <a:pt x="6" y="0"/>
                  <a:pt x="12" y="0"/>
                </a:cubicBezTo>
                <a:close/>
              </a:path>
            </a:pathLst>
          </a:custGeom>
          <a:solidFill>
            <a:srgbClr val="a4c3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3200" y="1504800"/>
            <a:ext cx="10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Arial"/>
              </a:rPr>
              <a:t>Archit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6640" y="1438200"/>
            <a:ext cx="1590840" cy="3800520"/>
          </a:xfrm>
          <a:custGeom>
            <a:avLst/>
            <a:gdLst/>
            <a:ahLst/>
            <a:rect l="l" t="t" r="r" b="b"/>
            <a:pathLst>
              <a:path w="167" h="399">
                <a:moveTo>
                  <a:pt x="13" y="0"/>
                </a:moveTo>
                <a:lnTo>
                  <a:pt x="154" y="0"/>
                </a:lnTo>
                <a:cubicBezTo>
                  <a:pt x="161" y="0"/>
                  <a:pt x="167" y="6"/>
                  <a:pt x="167" y="13"/>
                </a:cubicBezTo>
                <a:lnTo>
                  <a:pt x="167" y="386"/>
                </a:lnTo>
                <a:cubicBezTo>
                  <a:pt x="167" y="393"/>
                  <a:pt x="161" y="399"/>
                  <a:pt x="154" y="399"/>
                </a:cubicBezTo>
                <a:lnTo>
                  <a:pt x="13" y="399"/>
                </a:lnTo>
                <a:cubicBezTo>
                  <a:pt x="6" y="399"/>
                  <a:pt x="0" y="393"/>
                  <a:pt x="0" y="386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lose/>
              </a:path>
            </a:pathLst>
          </a:custGeom>
          <a:solidFill>
            <a:srgbClr val="89b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5920" y="150480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Arial"/>
              </a:rPr>
              <a:t>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2038320"/>
            <a:ext cx="6105600" cy="609480"/>
          </a:xfrm>
          <a:prstGeom prst="rect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8680" y="2019240"/>
            <a:ext cx="6095880" cy="609840"/>
          </a:xfrm>
          <a:prstGeom prst="rect">
            <a:avLst/>
          </a:prstGeom>
          <a:solidFill>
            <a:srgbClr val="dd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2200" y="2200320"/>
            <a:ext cx="84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4211d"/>
                </a:solidFill>
                <a:latin typeface="Microsoft Sans Serif"/>
              </a:rPr>
              <a:t>inTell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43440" y="216216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828180"/>
                </a:solidFill>
                <a:latin typeface="Microsoft Sans Serif"/>
              </a:rPr>
              <a:t>Klocwor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4040" y="2247840"/>
            <a:ext cx="133200" cy="15264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0"/>
                </a:moveTo>
                <a:lnTo>
                  <a:pt x="8" y="0"/>
                </a:lnTo>
                <a:lnTo>
                  <a:pt x="14" y="8"/>
                </a:lnTo>
                <a:lnTo>
                  <a:pt x="9" y="16"/>
                </a:lnTo>
                <a:lnTo>
                  <a:pt x="1" y="15"/>
                </a:lnTo>
                <a:lnTo>
                  <a:pt x="7" y="9"/>
                </a:lnTo>
                <a:lnTo>
                  <a:pt x="0" y="0"/>
                </a:lnTo>
                <a:close/>
              </a:path>
            </a:pathLst>
          </a:custGeom>
          <a:solidFill>
            <a:srgbClr val="56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94320" y="2238480"/>
            <a:ext cx="152640" cy="162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" y="0"/>
                </a:moveTo>
                <a:lnTo>
                  <a:pt x="9" y="0"/>
                </a:lnTo>
                <a:lnTo>
                  <a:pt x="9" y="1"/>
                </a:lnTo>
                <a:lnTo>
                  <a:pt x="1" y="1"/>
                </a:lnTo>
                <a:lnTo>
                  <a:pt x="1" y="0"/>
                </a:lnTo>
                <a:close/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0"/>
                </a:lnTo>
                <a:close/>
                <a:moveTo>
                  <a:pt x="9" y="0"/>
                </a:moveTo>
                <a:lnTo>
                  <a:pt x="15" y="9"/>
                </a:lnTo>
                <a:lnTo>
                  <a:pt x="14" y="9"/>
                </a:lnTo>
                <a:lnTo>
                  <a:pt x="8" y="1"/>
                </a:lnTo>
                <a:lnTo>
                  <a:pt x="9" y="0"/>
                </a:lnTo>
                <a:close/>
                <a:moveTo>
                  <a:pt x="15" y="9"/>
                </a:moveTo>
                <a:lnTo>
                  <a:pt x="16" y="9"/>
                </a:lnTo>
                <a:lnTo>
                  <a:pt x="15" y="9"/>
                </a:lnTo>
                <a:lnTo>
                  <a:pt x="15" y="9"/>
                </a:lnTo>
                <a:close/>
                <a:moveTo>
                  <a:pt x="15" y="9"/>
                </a:moveTo>
                <a:lnTo>
                  <a:pt x="10" y="17"/>
                </a:lnTo>
                <a:lnTo>
                  <a:pt x="9" y="16"/>
                </a:lnTo>
                <a:lnTo>
                  <a:pt x="14" y="9"/>
                </a:lnTo>
                <a:lnTo>
                  <a:pt x="15" y="9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0" y="17"/>
                </a:lnTo>
                <a:lnTo>
                  <a:pt x="10" y="17"/>
                </a:lnTo>
                <a:close/>
                <a:moveTo>
                  <a:pt x="10" y="17"/>
                </a:moveTo>
                <a:lnTo>
                  <a:pt x="2" y="17"/>
                </a:lnTo>
                <a:lnTo>
                  <a:pt x="2" y="16"/>
                </a:lnTo>
                <a:lnTo>
                  <a:pt x="10" y="16"/>
                </a:lnTo>
                <a:lnTo>
                  <a:pt x="10" y="17"/>
                </a:lnTo>
                <a:close/>
                <a:moveTo>
                  <a:pt x="2" y="17"/>
                </a:moveTo>
                <a:lnTo>
                  <a:pt x="1" y="17"/>
                </a:lnTo>
                <a:lnTo>
                  <a:pt x="2" y="16"/>
                </a:lnTo>
                <a:lnTo>
                  <a:pt x="2" y="16"/>
                </a:lnTo>
                <a:lnTo>
                  <a:pt x="2" y="17"/>
                </a:lnTo>
                <a:close/>
                <a:moveTo>
                  <a:pt x="2" y="16"/>
                </a:moveTo>
                <a:lnTo>
                  <a:pt x="7" y="9"/>
                </a:lnTo>
                <a:lnTo>
                  <a:pt x="8" y="10"/>
                </a:lnTo>
                <a:lnTo>
                  <a:pt x="2" y="17"/>
                </a:lnTo>
                <a:lnTo>
                  <a:pt x="2" y="16"/>
                </a:lnTo>
                <a:close/>
                <a:moveTo>
                  <a:pt x="8" y="9"/>
                </a:moveTo>
                <a:lnTo>
                  <a:pt x="9" y="10"/>
                </a:lnTo>
                <a:lnTo>
                  <a:pt x="8" y="10"/>
                </a:lnTo>
                <a:lnTo>
                  <a:pt x="8" y="10"/>
                </a:lnTo>
                <a:lnTo>
                  <a:pt x="8" y="9"/>
                </a:lnTo>
                <a:close/>
                <a:moveTo>
                  <a:pt x="7" y="10"/>
                </a:moveTo>
                <a:lnTo>
                  <a:pt x="1" y="1"/>
                </a:lnTo>
                <a:lnTo>
                  <a:pt x="2" y="0"/>
                </a:lnTo>
                <a:lnTo>
                  <a:pt x="8" y="9"/>
                </a:lnTo>
                <a:lnTo>
                  <a:pt x="7" y="10"/>
                </a:lnTo>
                <a:close/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85120" y="2171880"/>
            <a:ext cx="9360" cy="304560"/>
          </a:xfrm>
          <a:prstGeom prst="rect">
            <a:avLst/>
          </a:prstGeom>
          <a:solidFill>
            <a:srgbClr val="828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41520" y="2838600"/>
            <a:ext cx="5172120" cy="609480"/>
          </a:xfrm>
          <a:prstGeom prst="rect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2160" y="2819520"/>
            <a:ext cx="5162400" cy="609480"/>
          </a:xfrm>
          <a:prstGeom prst="rect">
            <a:avLst/>
          </a:prstGeom>
          <a:solidFill>
            <a:srgbClr val="dd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40920" y="2990880"/>
            <a:ext cx="74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4211d"/>
                </a:solidFill>
                <a:latin typeface="Microsoft Sans Serif"/>
              </a:rPr>
              <a:t>inSp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3160" y="295272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828180"/>
                </a:solidFill>
                <a:latin typeface="Microsoft Sans Serif"/>
              </a:rPr>
              <a:t>Klocwor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3400" y="3038400"/>
            <a:ext cx="133560" cy="15264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0"/>
                </a:moveTo>
                <a:lnTo>
                  <a:pt x="8" y="0"/>
                </a:lnTo>
                <a:lnTo>
                  <a:pt x="14" y="8"/>
                </a:lnTo>
                <a:lnTo>
                  <a:pt x="9" y="16"/>
                </a:lnTo>
                <a:lnTo>
                  <a:pt x="1" y="16"/>
                </a:lnTo>
                <a:lnTo>
                  <a:pt x="7" y="9"/>
                </a:lnTo>
                <a:lnTo>
                  <a:pt x="0" y="0"/>
                </a:lnTo>
                <a:close/>
              </a:path>
            </a:pathLst>
          </a:custGeom>
          <a:solidFill>
            <a:srgbClr val="c0c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4040" y="3029040"/>
            <a:ext cx="152280" cy="171360"/>
          </a:xfrm>
          <a:custGeom>
            <a:avLst/>
            <a:gdLst/>
            <a:ahLst/>
            <a:rect l="l" t="t" r="r" b="b"/>
            <a:pathLst>
              <a:path w="16" h="18">
                <a:moveTo>
                  <a:pt x="1" y="0"/>
                </a:moveTo>
                <a:lnTo>
                  <a:pt x="9" y="0"/>
                </a:lnTo>
                <a:lnTo>
                  <a:pt x="9" y="2"/>
                </a:lnTo>
                <a:lnTo>
                  <a:pt x="1" y="2"/>
                </a:lnTo>
                <a:lnTo>
                  <a:pt x="1" y="0"/>
                </a:lnTo>
                <a:close/>
                <a:moveTo>
                  <a:pt x="9" y="0"/>
                </a:move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0"/>
                </a:lnTo>
                <a:close/>
                <a:moveTo>
                  <a:pt x="9" y="1"/>
                </a:moveTo>
                <a:lnTo>
                  <a:pt x="15" y="9"/>
                </a:lnTo>
                <a:lnTo>
                  <a:pt x="14" y="10"/>
                </a:lnTo>
                <a:lnTo>
                  <a:pt x="8" y="1"/>
                </a:lnTo>
                <a:lnTo>
                  <a:pt x="9" y="1"/>
                </a:lnTo>
                <a:close/>
                <a:moveTo>
                  <a:pt x="15" y="9"/>
                </a:moveTo>
                <a:lnTo>
                  <a:pt x="16" y="9"/>
                </a:lnTo>
                <a:lnTo>
                  <a:pt x="15" y="10"/>
                </a:lnTo>
                <a:lnTo>
                  <a:pt x="15" y="9"/>
                </a:lnTo>
                <a:close/>
                <a:moveTo>
                  <a:pt x="15" y="10"/>
                </a:moveTo>
                <a:lnTo>
                  <a:pt x="10" y="17"/>
                </a:lnTo>
                <a:lnTo>
                  <a:pt x="9" y="17"/>
                </a:lnTo>
                <a:lnTo>
                  <a:pt x="14" y="9"/>
                </a:lnTo>
                <a:lnTo>
                  <a:pt x="15" y="10"/>
                </a:lnTo>
                <a:close/>
                <a:moveTo>
                  <a:pt x="10" y="17"/>
                </a:moveTo>
                <a:lnTo>
                  <a:pt x="10" y="18"/>
                </a:lnTo>
                <a:lnTo>
                  <a:pt x="10" y="18"/>
                </a:lnTo>
                <a:lnTo>
                  <a:pt x="10" y="17"/>
                </a:lnTo>
                <a:close/>
                <a:moveTo>
                  <a:pt x="10" y="18"/>
                </a:moveTo>
                <a:lnTo>
                  <a:pt x="2" y="18"/>
                </a:lnTo>
                <a:lnTo>
                  <a:pt x="2" y="16"/>
                </a:lnTo>
                <a:lnTo>
                  <a:pt x="10" y="16"/>
                </a:lnTo>
                <a:lnTo>
                  <a:pt x="10" y="18"/>
                </a:lnTo>
                <a:close/>
                <a:moveTo>
                  <a:pt x="2" y="18"/>
                </a:moveTo>
                <a:lnTo>
                  <a:pt x="0" y="18"/>
                </a:lnTo>
                <a:lnTo>
                  <a:pt x="1" y="17"/>
                </a:lnTo>
                <a:lnTo>
                  <a:pt x="2" y="17"/>
                </a:lnTo>
                <a:lnTo>
                  <a:pt x="2" y="18"/>
                </a:lnTo>
                <a:close/>
                <a:moveTo>
                  <a:pt x="1" y="17"/>
                </a:moveTo>
                <a:lnTo>
                  <a:pt x="7" y="10"/>
                </a:lnTo>
                <a:lnTo>
                  <a:pt x="8" y="10"/>
                </a:lnTo>
                <a:lnTo>
                  <a:pt x="2" y="17"/>
                </a:lnTo>
                <a:lnTo>
                  <a:pt x="1" y="17"/>
                </a:lnTo>
                <a:close/>
                <a:moveTo>
                  <a:pt x="8" y="10"/>
                </a:move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close/>
                <a:moveTo>
                  <a:pt x="7" y="10"/>
                </a:moveTo>
                <a:lnTo>
                  <a:pt x="0" y="1"/>
                </a:lnTo>
                <a:lnTo>
                  <a:pt x="1" y="1"/>
                </a:lnTo>
                <a:lnTo>
                  <a:pt x="8" y="10"/>
                </a:lnTo>
                <a:lnTo>
                  <a:pt x="7" y="10"/>
                </a:lnTo>
                <a:close/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4480" y="2971800"/>
            <a:ext cx="9360" cy="304920"/>
          </a:xfrm>
          <a:prstGeom prst="rect">
            <a:avLst/>
          </a:prstGeom>
          <a:solidFill>
            <a:srgbClr val="828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1720" y="3638520"/>
            <a:ext cx="3571920" cy="609480"/>
          </a:xfrm>
          <a:prstGeom prst="rect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2360" y="3619440"/>
            <a:ext cx="3571920" cy="609840"/>
          </a:xfrm>
          <a:prstGeom prst="rect">
            <a:avLst/>
          </a:prstGeom>
          <a:solidFill>
            <a:srgbClr val="dd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240" y="380052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Microsoft Sans Serif"/>
              </a:rPr>
              <a:t>inS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2520" y="376236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828180"/>
                </a:solidFill>
                <a:latin typeface="Microsoft Sans Serif"/>
              </a:rPr>
              <a:t>Klocwor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94320" y="3848040"/>
            <a:ext cx="142920" cy="171360"/>
          </a:xfrm>
          <a:custGeom>
            <a:avLst/>
            <a:gdLst/>
            <a:ahLst/>
            <a:rect l="l" t="t" r="r" b="b"/>
            <a:pathLst>
              <a:path w="15" h="18">
                <a:moveTo>
                  <a:pt x="0" y="0"/>
                </a:moveTo>
                <a:lnTo>
                  <a:pt x="9" y="0"/>
                </a:lnTo>
                <a:lnTo>
                  <a:pt x="15" y="9"/>
                </a:lnTo>
                <a:lnTo>
                  <a:pt x="10" y="18"/>
                </a:lnTo>
                <a:lnTo>
                  <a:pt x="1" y="18"/>
                </a:lnTo>
                <a:lnTo>
                  <a:pt x="7" y="10"/>
                </a:lnTo>
                <a:lnTo>
                  <a:pt x="0" y="0"/>
                </a:lnTo>
                <a:close/>
              </a:path>
            </a:pathLst>
          </a:custGeom>
          <a:solidFill>
            <a:srgbClr val="64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84960" y="3848040"/>
            <a:ext cx="162000" cy="171360"/>
          </a:xfrm>
          <a:custGeom>
            <a:avLst/>
            <a:gdLst/>
            <a:ahLst/>
            <a:rect l="l" t="t" r="r" b="b"/>
            <a:pathLst>
              <a:path w="17" h="18">
                <a:moveTo>
                  <a:pt x="1" y="0"/>
                </a:moveTo>
                <a:lnTo>
                  <a:pt x="10" y="0"/>
                </a:lnTo>
                <a:lnTo>
                  <a:pt x="10" y="1"/>
                </a:lnTo>
                <a:lnTo>
                  <a:pt x="1" y="1"/>
                </a:lnTo>
                <a:lnTo>
                  <a:pt x="1" y="0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10" y="0"/>
                </a:moveTo>
                <a:lnTo>
                  <a:pt x="17" y="9"/>
                </a:lnTo>
                <a:lnTo>
                  <a:pt x="16" y="10"/>
                </a:lnTo>
                <a:lnTo>
                  <a:pt x="9" y="1"/>
                </a:lnTo>
                <a:lnTo>
                  <a:pt x="10" y="0"/>
                </a:lnTo>
                <a:close/>
                <a:moveTo>
                  <a:pt x="17" y="9"/>
                </a:moveTo>
                <a:lnTo>
                  <a:pt x="17" y="9"/>
                </a:lnTo>
                <a:lnTo>
                  <a:pt x="17" y="10"/>
                </a:lnTo>
                <a:lnTo>
                  <a:pt x="16" y="9"/>
                </a:lnTo>
                <a:lnTo>
                  <a:pt x="17" y="9"/>
                </a:lnTo>
                <a:close/>
                <a:moveTo>
                  <a:pt x="17" y="10"/>
                </a:moveTo>
                <a:lnTo>
                  <a:pt x="11" y="18"/>
                </a:lnTo>
                <a:lnTo>
                  <a:pt x="10" y="17"/>
                </a:lnTo>
                <a:lnTo>
                  <a:pt x="16" y="9"/>
                </a:lnTo>
                <a:lnTo>
                  <a:pt x="17" y="10"/>
                </a:lnTo>
                <a:close/>
                <a:moveTo>
                  <a:pt x="11" y="18"/>
                </a:moveTo>
                <a:lnTo>
                  <a:pt x="11" y="18"/>
                </a:lnTo>
                <a:lnTo>
                  <a:pt x="11" y="18"/>
                </a:lnTo>
                <a:lnTo>
                  <a:pt x="11" y="18"/>
                </a:lnTo>
                <a:close/>
                <a:moveTo>
                  <a:pt x="11" y="18"/>
                </a:moveTo>
                <a:lnTo>
                  <a:pt x="2" y="18"/>
                </a:lnTo>
                <a:lnTo>
                  <a:pt x="2" y="17"/>
                </a:lnTo>
                <a:lnTo>
                  <a:pt x="11" y="17"/>
                </a:lnTo>
                <a:lnTo>
                  <a:pt x="11" y="18"/>
                </a:lnTo>
                <a:close/>
                <a:moveTo>
                  <a:pt x="2" y="18"/>
                </a:moveTo>
                <a:lnTo>
                  <a:pt x="1" y="18"/>
                </a:lnTo>
                <a:lnTo>
                  <a:pt x="2" y="17"/>
                </a:lnTo>
                <a:lnTo>
                  <a:pt x="2" y="18"/>
                </a:lnTo>
                <a:close/>
                <a:moveTo>
                  <a:pt x="2" y="17"/>
                </a:moveTo>
                <a:lnTo>
                  <a:pt x="8" y="10"/>
                </a:lnTo>
                <a:lnTo>
                  <a:pt x="9" y="11"/>
                </a:lnTo>
                <a:lnTo>
                  <a:pt x="3" y="18"/>
                </a:lnTo>
                <a:lnTo>
                  <a:pt x="2" y="17"/>
                </a:lnTo>
                <a:close/>
                <a:moveTo>
                  <a:pt x="9" y="10"/>
                </a:moveTo>
                <a:lnTo>
                  <a:pt x="9" y="10"/>
                </a:lnTo>
                <a:lnTo>
                  <a:pt x="9" y="11"/>
                </a:lnTo>
                <a:lnTo>
                  <a:pt x="8" y="10"/>
                </a:lnTo>
                <a:lnTo>
                  <a:pt x="9" y="10"/>
                </a:lnTo>
                <a:close/>
                <a:moveTo>
                  <a:pt x="8" y="11"/>
                </a:moveTo>
                <a:lnTo>
                  <a:pt x="1" y="1"/>
                </a:lnTo>
                <a:lnTo>
                  <a:pt x="2" y="0"/>
                </a:lnTo>
                <a:lnTo>
                  <a:pt x="9" y="10"/>
                </a:lnTo>
                <a:lnTo>
                  <a:pt x="8" y="11"/>
                </a:lnTo>
                <a:close/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94480" y="3781440"/>
            <a:ext cx="9360" cy="324000"/>
          </a:xfrm>
          <a:prstGeom prst="rect">
            <a:avLst/>
          </a:prstGeom>
          <a:solidFill>
            <a:srgbClr val="828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70480" y="4429080"/>
            <a:ext cx="1352520" cy="609480"/>
          </a:xfrm>
          <a:prstGeom prst="rect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70480" y="4419720"/>
            <a:ext cx="1333800" cy="609480"/>
          </a:xfrm>
          <a:prstGeom prst="rect">
            <a:avLst/>
          </a:prstGeom>
          <a:solidFill>
            <a:srgbClr val="ddd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36960" y="4591080"/>
            <a:ext cx="7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4211d"/>
                </a:solidFill>
                <a:latin typeface="Microsoft Sans Serif"/>
              </a:rPr>
              <a:t>in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62520" y="454356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828180"/>
                </a:solidFill>
                <a:latin typeface="Microsoft Sans Serif"/>
              </a:rPr>
              <a:t>Klocwor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94320" y="4629240"/>
            <a:ext cx="142920" cy="171360"/>
          </a:xfrm>
          <a:custGeom>
            <a:avLst/>
            <a:gdLst/>
            <a:ahLst/>
            <a:rect l="l" t="t" r="r" b="b"/>
            <a:pathLst>
              <a:path w="15" h="18">
                <a:moveTo>
                  <a:pt x="0" y="0"/>
                </a:moveTo>
                <a:lnTo>
                  <a:pt x="8" y="0"/>
                </a:lnTo>
                <a:lnTo>
                  <a:pt x="15" y="10"/>
                </a:lnTo>
                <a:lnTo>
                  <a:pt x="9" y="18"/>
                </a:lnTo>
                <a:lnTo>
                  <a:pt x="1" y="18"/>
                </a:lnTo>
                <a:lnTo>
                  <a:pt x="7" y="10"/>
                </a:lnTo>
                <a:lnTo>
                  <a:pt x="0" y="0"/>
                </a:lnTo>
                <a:close/>
              </a:path>
            </a:pathLst>
          </a:custGeom>
          <a:solidFill>
            <a:srgbClr val="c1c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4960" y="4629240"/>
            <a:ext cx="162000" cy="171360"/>
          </a:xfrm>
          <a:custGeom>
            <a:avLst/>
            <a:gdLst/>
            <a:ahLst/>
            <a:rect l="l" t="t" r="r" b="b"/>
            <a:pathLst>
              <a:path w="17" h="18">
                <a:moveTo>
                  <a:pt x="1" y="0"/>
                </a:moveTo>
                <a:lnTo>
                  <a:pt x="9" y="0"/>
                </a:lnTo>
                <a:lnTo>
                  <a:pt x="9" y="1"/>
                </a:lnTo>
                <a:lnTo>
                  <a:pt x="1" y="1"/>
                </a:lnTo>
                <a:lnTo>
                  <a:pt x="1" y="0"/>
                </a:lnTo>
                <a:close/>
                <a:moveTo>
                  <a:pt x="9" y="0"/>
                </a:moveTo>
                <a:lnTo>
                  <a:pt x="10" y="0"/>
                </a:lnTo>
                <a:lnTo>
                  <a:pt x="10" y="0"/>
                </a:lnTo>
                <a:lnTo>
                  <a:pt x="9" y="0"/>
                </a:lnTo>
                <a:close/>
                <a:moveTo>
                  <a:pt x="10" y="0"/>
                </a:moveTo>
                <a:lnTo>
                  <a:pt x="17" y="9"/>
                </a:lnTo>
                <a:lnTo>
                  <a:pt x="16" y="10"/>
                </a:lnTo>
                <a:lnTo>
                  <a:pt x="9" y="1"/>
                </a:lnTo>
                <a:lnTo>
                  <a:pt x="10" y="0"/>
                </a:lnTo>
                <a:close/>
                <a:moveTo>
                  <a:pt x="17" y="9"/>
                </a:moveTo>
                <a:lnTo>
                  <a:pt x="17" y="10"/>
                </a:lnTo>
                <a:lnTo>
                  <a:pt x="17" y="10"/>
                </a:lnTo>
                <a:lnTo>
                  <a:pt x="16" y="10"/>
                </a:lnTo>
                <a:lnTo>
                  <a:pt x="17" y="9"/>
                </a:lnTo>
                <a:close/>
                <a:moveTo>
                  <a:pt x="17" y="10"/>
                </a:moveTo>
                <a:lnTo>
                  <a:pt x="11" y="18"/>
                </a:lnTo>
                <a:lnTo>
                  <a:pt x="10" y="17"/>
                </a:lnTo>
                <a:lnTo>
                  <a:pt x="16" y="9"/>
                </a:lnTo>
                <a:lnTo>
                  <a:pt x="17" y="10"/>
                </a:lnTo>
                <a:close/>
                <a:moveTo>
                  <a:pt x="11" y="18"/>
                </a:moveTo>
                <a:lnTo>
                  <a:pt x="11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  <a:close/>
                <a:moveTo>
                  <a:pt x="10" y="18"/>
                </a:moveTo>
                <a:lnTo>
                  <a:pt x="2" y="18"/>
                </a:lnTo>
                <a:lnTo>
                  <a:pt x="2" y="17"/>
                </a:lnTo>
                <a:lnTo>
                  <a:pt x="10" y="17"/>
                </a:lnTo>
                <a:lnTo>
                  <a:pt x="10" y="18"/>
                </a:lnTo>
                <a:close/>
                <a:moveTo>
                  <a:pt x="2" y="18"/>
                </a:moveTo>
                <a:lnTo>
                  <a:pt x="0" y="18"/>
                </a:lnTo>
                <a:lnTo>
                  <a:pt x="1" y="17"/>
                </a:lnTo>
                <a:lnTo>
                  <a:pt x="2" y="18"/>
                </a:lnTo>
                <a:close/>
                <a:moveTo>
                  <a:pt x="1" y="17"/>
                </a:moveTo>
                <a:lnTo>
                  <a:pt x="8" y="10"/>
                </a:lnTo>
                <a:lnTo>
                  <a:pt x="9" y="11"/>
                </a:lnTo>
                <a:lnTo>
                  <a:pt x="2" y="18"/>
                </a:lnTo>
                <a:lnTo>
                  <a:pt x="1" y="17"/>
                </a:lnTo>
                <a:close/>
                <a:moveTo>
                  <a:pt x="9" y="10"/>
                </a:moveTo>
                <a:lnTo>
                  <a:pt x="9" y="10"/>
                </a:lnTo>
                <a:lnTo>
                  <a:pt x="9" y="11"/>
                </a:lnTo>
                <a:lnTo>
                  <a:pt x="8" y="10"/>
                </a:lnTo>
                <a:lnTo>
                  <a:pt x="9" y="10"/>
                </a:lnTo>
                <a:close/>
                <a:moveTo>
                  <a:pt x="8" y="11"/>
                </a:moveTo>
                <a:lnTo>
                  <a:pt x="0" y="1"/>
                </a:lnTo>
                <a:lnTo>
                  <a:pt x="1" y="0"/>
                </a:lnTo>
                <a:lnTo>
                  <a:pt x="9" y="10"/>
                </a:lnTo>
                <a:lnTo>
                  <a:pt x="8" y="11"/>
                </a:lnTo>
                <a:close/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5120" y="4562640"/>
            <a:ext cx="18720" cy="323640"/>
          </a:xfrm>
          <a:prstGeom prst="rect">
            <a:avLst/>
          </a:prstGeom>
          <a:solidFill>
            <a:srgbClr val="828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2082960"/>
            <a:ext cx="43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le-based views, reporting and analysi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urn, risk, defects, complexity, clones, ad-hoc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0" y="2921040"/>
            <a:ext cx="330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-wide analysi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ects, quality metrics, architectural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7760" y="3683160"/>
            <a:ext cx="218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 reporting, discove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archit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0880" y="4406760"/>
            <a:ext cx="160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 integr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r’s De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ion Ass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F747-BCFC-4822-93E6-97D181D2843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Setting Threshol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 inTel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tyle-Manager option underneath Thres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400800" cy="43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D4A4-71FA-49AD-8F77-69159D3D6F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Scope and working with Preset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al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Types of configurable pre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ct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wo ways to access preset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cope tab and the more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hanging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drop dow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965E-3BBE-463C-8070-3F4BA5331BB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the architect models that were available at the time of loading the  inTellect database with the current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rop down on Model View to apply a new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7F76-4B5A-4A7E-867C-5EDACE0DC44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 – Build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current builds to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selec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Bu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24 Bui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efined preset group of bui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not edit defa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is possible to observe a        when selecting a builds-preset, which warns you that some builds cannot be displayed, as they may not have been present when the build was loaded into inTell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be able to add a build into your build-preset list, you must have a model selected which is used by the build in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System-View would therefore always show all possible bui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RE button to create/edit pre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284400" cy="3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258E-0C79-4EFE-8136-257FCEE642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ting Build-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re are two approaches in creating a buil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uplicate and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284400" cy="34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00400" y="1574640"/>
            <a:ext cx="5562720" cy="463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8CA8-D028-447F-9937-D8277D1A62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 – Structure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available physical model (“Whole Mode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components such as files and 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t List contains current items being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RE button to create/edit pre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not edit defa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9A56-BB14-46C0-BAEB-16680BFE79E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ting Structure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re are two approaches in creating a structure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uplicate and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4791240" cy="37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0141-3B68-4498-889A-FEEF291BBBC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 Preset  - First Level Drill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4514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Structure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01028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7F0D-DB43-44F2-9551-DFA3DC2FA39E}" type="slidenum">
              <a:t>38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Structure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 Preset -  Second Level Drill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57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13AE-F6DD-493C-B7AC-805712589EF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Courier New"/>
              </a:rPr>
              <a:t>Product Architectur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Courier New"/>
              </a:rPr>
              <a:t>Module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 – Defects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rrors you want to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fects by Seve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fects by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CONF file defining these groupings will be the one used with the most recent build inside InTell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not edit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37DA-2CF7-4EA1-B90A-1DCFD411B46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pe and working with Presets – Severity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re are two approaches in creating a structure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uplicate and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5734080" cy="3948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80880" y="3505320"/>
            <a:ext cx="2606760" cy="1465560"/>
          </a:xfrm>
          <a:prstGeom prst="rect">
            <a:avLst/>
          </a:prstGeom>
          <a:solidFill>
            <a:srgbClr val="aae8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may not select low level errors and higher-level groups for the same p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5FDD-164D-47E6-82CA-A9FBED93460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Defect Prese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F8A3-6476-4532-B54B-6A4989DA214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Graph Type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8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Working with the Grap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 Typ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66680" y="1219320"/>
          <a:ext cx="708660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708660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0501-6869-4A9E-8EEE-45ED12477D1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Working with the Grap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43000" y="1143000"/>
          <a:ext cx="70866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0866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EA4A-2A1D-4900-867E-5A9592C3BEF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Reporti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lect project metric from the proj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ick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summary data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detail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Excel 2003 (.x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 colon delimited text (.c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(.x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 file name and folder for th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1EE1-8252-4CC6-B100-2FE07BE1E65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934320" cy="448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CFC2-64FA-4423-8688-B19930D3822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Sharing the data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92200" y="341280"/>
            <a:ext cx="7548480" cy="2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Courier New"/>
              </a:rPr>
              <a:t>Product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8080" y="685800"/>
            <a:ext cx="7580520" cy="5266080"/>
            <a:chOff x="838080" y="685800"/>
            <a:chExt cx="7580520" cy="5266080"/>
          </a:xfrm>
        </p:grpSpPr>
        <p:sp>
          <p:nvSpPr>
            <p:cNvPr id="138" name=""/>
            <p:cNvSpPr/>
            <p:nvPr/>
          </p:nvSpPr>
          <p:spPr>
            <a:xfrm>
              <a:off x="838080" y="1828800"/>
              <a:ext cx="7535880" cy="144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4572000"/>
              <a:ext cx="7580520" cy="1338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505320"/>
              <a:ext cx="7566120" cy="9144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8080" y="685800"/>
              <a:ext cx="7543800" cy="10666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47960" y="208764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63480" y="878040"/>
              <a:ext cx="20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1720" y="4788000"/>
              <a:ext cx="298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30320" y="372096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30640" y="2401920"/>
              <a:ext cx="685800" cy="4921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0200" y="2386080"/>
              <a:ext cx="68580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7720" y="1282680"/>
              <a:ext cx="685800" cy="370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l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6" idx="1"/>
              <a:endCxn id="147" idx="3"/>
            </p:cNvCxnSpPr>
            <p:nvPr/>
          </p:nvCxnSpPr>
          <p:spPr>
            <a:xfrm flipV="1" rot="10800000">
              <a:off x="3455280" y="2647440"/>
              <a:ext cx="1575360" cy="5760"/>
            </a:xfrm>
            <a:prstGeom prst="curvedConnector5">
              <a:avLst>
                <a:gd name="adj1" fmla="val 49988"/>
                <a:gd name="adj2" fmla="val 46666"/>
                <a:gd name="adj3" fmla="val 49988"/>
              </a:avLst>
            </a:prstGeom>
            <a:ln w="28440">
              <a:solidFill>
                <a:srgbClr val="009900"/>
              </a:solidFill>
              <a:prstDash val="sysDot"/>
              <a:miter/>
              <a:headEnd len="med" type="triangle" w="med"/>
            </a:ln>
          </p:spPr>
        </p:cxnSp>
        <p:sp>
          <p:nvSpPr>
            <p:cNvPr id="150" name=""/>
            <p:cNvSpPr/>
            <p:nvPr/>
          </p:nvSpPr>
          <p:spPr>
            <a:xfrm>
              <a:off x="914400" y="3809880"/>
              <a:ext cx="1135080" cy="447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Load 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(kwadm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2"/>
            </p:cNvCxnSpPr>
            <p:nvPr/>
          </p:nvCxnSpPr>
          <p:spPr>
            <a:xfrm flipH="1" rot="16200000">
              <a:off x="1181160" y="4558320"/>
              <a:ext cx="1465920" cy="864360"/>
            </a:xfrm>
            <a:prstGeom prst="bentConnector3">
              <a:avLst>
                <a:gd name="adj1" fmla="val 115598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2209680" y="3581280"/>
              <a:ext cx="1295640" cy="78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inTellect Extract Transformation and 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(kwintellectd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endCxn id="152" idx="2"/>
            </p:cNvCxnSpPr>
            <p:nvPr/>
          </p:nvCxnSpPr>
          <p:spPr>
            <a:xfrm flipV="1">
              <a:off x="2346480" y="4363200"/>
              <a:ext cx="511920" cy="437400"/>
            </a:xfrm>
            <a:prstGeom prst="straightConnector1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4349880" y="5205240"/>
              <a:ext cx="1350720" cy="59724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inTellect 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2"/>
              <a:endCxn id="152" idx="3"/>
            </p:cNvCxnSpPr>
            <p:nvPr/>
          </p:nvCxnSpPr>
          <p:spPr>
            <a:xfrm rot="10800000">
              <a:off x="3504600" y="3972960"/>
              <a:ext cx="845280" cy="15310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</p:cxnSp>
        <p:cxnSp>
          <p:nvCxnSpPr>
            <p:cNvPr id="156" name=""/>
            <p:cNvCxnSpPr>
              <a:stCxn id="146" idx="0"/>
              <a:endCxn id="148" idx="2"/>
            </p:cNvCxnSpPr>
            <p:nvPr/>
          </p:nvCxnSpPr>
          <p:spPr>
            <a:xfrm flipV="1" rot="16200000">
              <a:off x="4746960" y="1774800"/>
              <a:ext cx="749880" cy="504000"/>
            </a:xfrm>
            <a:prstGeom prst="bentConnector3">
              <a:avLst>
                <a:gd name="adj1" fmla="val 26897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6" idx="2"/>
              <a:endCxn id="152" idx="0"/>
            </p:cNvCxnSpPr>
            <p:nvPr/>
          </p:nvCxnSpPr>
          <p:spPr>
            <a:xfrm rot="5400000">
              <a:off x="3771360" y="1979280"/>
              <a:ext cx="687960" cy="2516760"/>
            </a:xfrm>
            <a:prstGeom prst="bentConnector3">
              <a:avLst>
                <a:gd name="adj1" fmla="val 49842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8" idx="1"/>
              <a:endCxn id="154" idx="1"/>
            </p:cNvCxnSpPr>
            <p:nvPr/>
          </p:nvCxnSpPr>
          <p:spPr>
            <a:xfrm flipH="1" flipV="1" rot="10800000">
              <a:off x="4527360" y="1468080"/>
              <a:ext cx="498960" cy="3737520"/>
            </a:xfrm>
            <a:prstGeom prst="bentConnector4">
              <a:avLst>
                <a:gd name="adj1" fmla="val -72924"/>
                <a:gd name="adj2" fmla="val 52461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6537240" y="1227240"/>
              <a:ext cx="914400" cy="457200"/>
            </a:xfrm>
            <a:prstGeom prst="rect">
              <a:avLst/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1"/>
              <a:endCxn id="146" idx="3"/>
            </p:cNvCxnSpPr>
            <p:nvPr/>
          </p:nvCxnSpPr>
          <p:spPr>
            <a:xfrm flipV="1" rot="10800000">
              <a:off x="5715720" y="1454400"/>
              <a:ext cx="821520" cy="1192320"/>
            </a:xfrm>
            <a:prstGeom prst="bentConnector3">
              <a:avLst>
                <a:gd name="adj1" fmla="val 49890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grpSp>
          <p:nvGrpSpPr>
            <p:cNvPr id="161" name=""/>
            <p:cNvGrpSpPr/>
            <p:nvPr/>
          </p:nvGrpSpPr>
          <p:grpSpPr>
            <a:xfrm>
              <a:off x="1523880" y="4800600"/>
              <a:ext cx="1645560" cy="921960"/>
              <a:chOff x="1523880" y="4800600"/>
              <a:chExt cx="1645560" cy="921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23880" y="4800600"/>
                <a:ext cx="1643760" cy="921960"/>
              </a:xfrm>
              <a:prstGeom prst="can">
                <a:avLst>
                  <a:gd name="adj" fmla="val 25000"/>
                </a:avLst>
              </a:prstGeom>
              <a:solidFill>
                <a:srgbClr val="65a2a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0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1537200" y="4864320"/>
                <a:ext cx="1632240" cy="587880"/>
                <a:chOff x="1537200" y="4864320"/>
                <a:chExt cx="1632240" cy="587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37200" y="4864320"/>
                  <a:ext cx="894240" cy="573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6f689f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 (R/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429640" y="4878720"/>
                  <a:ext cx="739800" cy="573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6f689f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4B22-1AF4-4903-BFCE-EA1A5A5BC07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Sharing the da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x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ored as ix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ata is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m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 presets display as “imported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apply different settings from the imported view by modif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 duplicate and rename in order to load more pre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DF2F-CAF6-4434-911D-A1923BABAAB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Ti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ule 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Tips &amp; Comme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lways refer to online help available through inTellect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Automatically loading data after each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admin --set-project-properties &lt;project name&gt; intellect.host &lt;host 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admin --set-project-properties &lt;project name&gt; intellect.port &lt;port 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base is automatically created if none exists on My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amed “intell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Quick view of configur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lect help menu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lect configuration detail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ndividual inTellect sessions can connect to one inTellect datab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C7C8-CBC8-4F50-8794-9EC32C00A95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 – Database Lock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nsure the integrity of the inTellect database, you can only run one ETL process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attempt to start the command, kwintellectdb.exe process while another instance of it is still running, the first process will st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stop a kwintellectdb.exe process, either deliberately or accidentally, you must reset your database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wintellectdb.exe –unlock-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2F3B-F62C-40E9-B2A3-B8AA7085892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new toolbus proj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_inte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rst build, as done 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kwinsight and generate a new model, name 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_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de the src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all tb* c files into a block: tb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remaining cpp files into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tb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tbIO &amp; tbIOProcess into t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tbError, tbLog and tbMenu into tb_ut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the other 8 files into tb_Ex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all include files into a new block called Includes at the to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ve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peat the build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oad the data from these 2 builds into intellect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Kwintellectdb –project tb_inte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F527-2E39-400D-9AA9-D746CB7FBBC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the intellect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uilds are shown on the ScoreCard p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fects-Current Build to view the defec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iew tab, and select STRUCTURE then GEN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SCOPE tab and select BUILD-PRESET as CURRENT BUILD &amp; observe the change in th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model to use the int_model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Structure Preset, selec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grouping for the TOP level which holds the top-level Arch blocks of tb_Set, other &amp;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most defects fall under tb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evel grouping for the main blocks of tb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which block has the most errors, and create 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evel grouping for that block which will display the errors for each file in tha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 a defect-preset which contains only memory l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D3A9-85C2-409A-A1FF-6A9B2F142CB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some lines of code to a couple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an error in tbLog.cpp by adding the following lines at line 1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rtTime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a file with some simpl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ify the pconf file to activate uninitialize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build the project with this newly modifi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oad the data from the new build into intellect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Kwintellectdb –project tb_inte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turn to the inTellect client, and refresh your data to view the lates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4744-7256-4DDC-81CA-648D64726AD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o to the Scorecard in inTe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Tools –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Thresholds Block to view the Styl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vide the name “trou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ve the Metric as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“red and yell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the Red zone as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the Yellow Zone as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the tb_inTellect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pply the new trouble threshold and return to the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D0F0-7AAC-4DF3-941F-BAE695D3A6F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Courier New"/>
              </a:rPr>
              <a:t>inTellect - Product Architectur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Klocwork Server to get project properties (configuration files, projects_root directory, reports to generate, and format of re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Validates against kwserver Flexlm for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MySQ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 using default Klocwork MySQL databas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ySQL v4.0.20 or greater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L extracts from a Klocwork project database and creates the inTellect met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C6FC-F201-48D6-8BFC-FF00A2E8BC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talling and Configuring Klocwork inTellec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Courier New"/>
              </a:rPr>
              <a:t>Module 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tallation and Configuration for Administrat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 inTellect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utomatic client configuration via a properties file cal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Install.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Administrator can edit this file in one location and share it for use by all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File  needs to reside in same directory as installer when laun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Configurable 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INTELLECT_HOSTNAME=local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INTELLECT_PORT=3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INTELLEC_DATABASE_NAME=inTe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KWSERVER_HOSTNAME=local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KWSERVER_PORT=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If either Intellect or kwserver hostname are left blank default is local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2461-AB33-41B1-BF4F-A1C57D0746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tallation and Configuration for Clien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 inTellect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figuration file to the same directory the installer l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un Inst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nce complete the client is now config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2356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uto connected on the first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9CCA-B9B5-46BC-930C-98AA43EDD8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0:42:19Z</dcterms:created>
  <dc:creator>Norm Rajala</dc:creator>
  <dc:description/>
  <dc:language>en-US</dc:language>
  <cp:lastModifiedBy>Mark Grice</cp:lastModifiedBy>
  <cp:lastPrinted>2005-03-22T17:25:12Z</cp:lastPrinted>
  <dcterms:modified xsi:type="dcterms:W3CDTF">2006-10-18T03:05:16Z</dcterms:modified>
  <cp:revision>665</cp:revision>
  <dc:subject/>
  <dc:title>PowerPoint Presentation</dc:title>
</cp:coreProperties>
</file>