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B4EA9-7D75-494B-8D66-D15DBE5EBE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AC01E-16A6-4358-80D1-0245A16004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710B1-F43E-423A-86F8-112F3D1751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3F313-1A28-42B2-9806-E348E8B23D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3352680"/>
            <a:ext cx="80024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8F727-9498-439B-914D-41BBDD6516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49FB9-9F00-418D-9A02-969BA5A82B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50BB5-0F3F-4E59-8DDB-07DE9BE156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1E4F2-6E35-492F-86E9-57BC53E10C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3352680"/>
            <a:ext cx="80024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6A068-108D-4850-A497-783CC37F74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56EAF-AA46-4B6D-8296-AE1DC5EEFD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E8D58-0506-4C5C-96C3-1E337F60DF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AC90A-A058-47D9-8674-7A3B2DFA55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7920" y="-1440"/>
            <a:ext cx="9159840" cy="6860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077320" y="669240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6B35-C7DE-4125-A454-3F653BF5F6C3}" type="slidenum">
              <a:rPr b="0" lang="en-US" sz="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232240" y="6553080"/>
            <a:ext cx="3810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Klocwork Inc. Confidential © 1998-2005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477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33B1-4EB5-4F19-9352-D2831A3599B6}" type="slidenum">
              <a:rPr b="1" i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7858" b="112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3388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EC95-EBB6-403D-9A49-37DBCD36400E}" type="datetime2">
              <a:rPr b="0" lang="en-US" sz="800" spc="-1" strike="noStrike">
                <a:solidFill>
                  <a:srgbClr val="000066"/>
                </a:solidFill>
                <a:latin typeface="Arial"/>
              </a:rPr>
              <a:t>Thursday, July 30,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105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orking with Metrics Reporting – K7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UNCTION/METHOD Metrics – C and C++ Only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950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387520"/>
                <a:tab algn="l" pos="3614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These are general metrics for a function or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387520"/>
                <a:tab algn="l" pos="3614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87520"/>
                <a:tab algn="l" pos="3614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BYTESLOCDECL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 C++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bytes of local variables decl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87520"/>
                <a:tab algn="l" pos="3614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BYTESPARMS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 C++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bytes of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87520"/>
                <a:tab algn="l" pos="3614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BYTESPAROTHER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 C++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bytes of parameters passed to othe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87520"/>
                <a:tab algn="l" pos="3614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NCNBLOC_METHOD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 C++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on-comment non-blank source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87520"/>
                <a:tab algn="l" pos="3614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NOCALLSNP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 C++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umber of calls to non-prototyped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87520"/>
                <a:tab algn="l" pos="3614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NOIPCCALLS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 C++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umber of IPC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87520"/>
                <a:tab algn="l" pos="3614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NOSYSCALLS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 C++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umber of system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UNCTION/METHOD Metrics – C, C++ and Jav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5694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2400"/>
                <a:tab algn="l" pos="3522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VERLEV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C++ 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level of control n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2400"/>
                <a:tab algn="l" pos="3522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YCLOMA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C++ 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omatic 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2400"/>
                <a:tab algn="l" pos="3522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C_METHO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C++ 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 of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2400"/>
                <a:tab algn="l" pos="3522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XCONDSP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C++ 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al number of executable 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2192400"/>
                <a:tab algn="l" pos="3522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ed within a conditional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2400"/>
                <a:tab algn="l" pos="3522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XLEV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C++ 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level of control n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2400"/>
                <a:tab algn="l" pos="3522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ACCTOGLO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C++ 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accesses to global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2400"/>
                <a:tab algn="l" pos="3522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BRAN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C++ 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bra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2400"/>
                <a:tab algn="l" pos="3522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CA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C++ 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2400"/>
                <a:tab algn="l" pos="3522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CALLSO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C++ 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calls to methods from other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2400"/>
                <a:tab algn="l" pos="3522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CONDAR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C++ 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conditional arcs in the control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2400"/>
                <a:tab algn="l" pos="3522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CONTROLST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C++ 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control 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2400"/>
                <a:tab algn="l" pos="3522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DISOPRUS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C++ 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distinct operator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92400"/>
                <a:tab algn="l" pos="3522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DISOPUS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C++ 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distinct operand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UNCTION Metrics – C, C++ and Java 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082160"/>
            <a:ext cx="8611920" cy="47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28276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EXST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C++ 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expression 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28276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C++ 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conditional 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28276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INDPAT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C++ 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independent p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28276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LOCDEC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C++ 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local decla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28276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LOO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C++ 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lo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28276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MDECLST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C++ 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declarative 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28276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OPRUS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C++ 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operator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28276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OPUS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C++ 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operand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28276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PA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C++ 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28276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PARO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C++ 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parameters passed to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28276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R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C++ 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28276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ST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C++ 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28276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ADFGLOB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C++ 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reads from global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28276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TGLOB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C++ 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writes to global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upling/Cohesion Metrics – FILE Base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082160"/>
            <a:ext cx="8839080" cy="47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276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PLINGUB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C+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file level used-by coupling metr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276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PLINGU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C+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file level uses coupling met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276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PLINGUB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C+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file level used-by coupling met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276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PLINGU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C+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file level uses coupling met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276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PLINGUB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C+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file level used-by coupling met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276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PLINGU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C+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file level uses coupling met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276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PLINGUB4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C+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file level used-by coupling met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276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PLINGU4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C+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file level uses coupling met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276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HESION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C+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cohesion number of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276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HESION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C+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cohesion number of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276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HESION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C+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cohesion number of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276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HESION4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C+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cohesion number of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upling/Cohesion Metrics – CLASS Base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082160"/>
            <a:ext cx="8839080" cy="47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798560"/>
                <a:tab algn="l" pos="376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A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C++ Jav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cestor class-attribute import cou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798560"/>
                <a:tab algn="l" pos="376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M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C++ Jav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cestor class-method import cou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798560"/>
                <a:tab algn="l" pos="376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CAEC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C++ Jav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endant class-attribute export coupl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798560"/>
                <a:tab algn="l" pos="376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CME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C++ Jav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endant class-method export coupl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798560"/>
                <a:tab algn="l" pos="376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CA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C++ Jav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ttribute Import Cou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798560"/>
                <a:tab algn="l" pos="376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CAE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C++ Jav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ttribute Export Cou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798560"/>
                <a:tab algn="l" pos="376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CM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C++ Jav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Method Import Cou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798560"/>
                <a:tab algn="l" pos="376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CME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C++ Jav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Method Export Cou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798560"/>
                <a:tab algn="l" pos="376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M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C++ Jav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cestor class-method-class-method import coup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798560"/>
                <a:tab algn="l" pos="376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MME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C++ Jav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endant class-method-class-method export coup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798560"/>
                <a:tab algn="l" pos="376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MM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C++ Jav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-method-class-method import cou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798560"/>
                <a:tab algn="l" pos="376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MME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C++ Jav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-method-class-method export cou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fault Metrics Profil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1434960"/>
                <a:tab algn="l" pos="1996920"/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fault metrics profile is used by in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434960"/>
                <a:tab algn="l" pos="1996920"/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trics_default.m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434960"/>
                <a:tab algn="l" pos="1996920"/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over-ridden in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434960"/>
                <a:tab algn="l" pos="1996920"/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disabled by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M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434960"/>
                <a:tab algn="l" pos="1996920"/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ed in the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434960"/>
                <a:tab algn="l" pos="1996920"/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${KWINSTALL}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projects_roo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434960"/>
                <a:tab algn="l" pos="1996920"/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jects/PROJ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434960"/>
                <a:tab algn="l" pos="1996920"/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ules/metrics_default.m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434960"/>
                <a:tab algn="l" pos="1996920"/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fault profile is inactive and contains only com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etric Rul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774360"/>
            <a:ext cx="8229600" cy="51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tric rule can be on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a com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es a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!alias name=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es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an alias for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scription;kind;expression;error;w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imple description to appear in the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UNCTION,METHOD,CLASS,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imple metric code such a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OC_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 a complex 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and warning thresh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number,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ssu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!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llowed by a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etric Rule Expression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816200"/>
                <a:tab algn="l" pos="3422520"/>
                <a:tab algn="l" pos="456876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pression can use one of the follo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16200"/>
                <a:tab algn="l" pos="3422520"/>
                <a:tab algn="l" pos="456876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16200"/>
                <a:tab algn="l" pos="3422520"/>
                <a:tab algn="l" pos="456876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thmetic operators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16200"/>
                <a:tab algn="l" pos="3422520"/>
                <a:tab algn="l" pos="456876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1816200"/>
                <a:tab algn="l" pos="3422520"/>
                <a:tab algn="l" pos="456876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er,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1816200"/>
                <a:tab algn="l" pos="3422520"/>
                <a:tab algn="l" pos="456876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imal, 10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1816200"/>
                <a:tab algn="l" pos="3422520"/>
                <a:tab algn="l" pos="456876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ating point, 0.102E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16200"/>
                <a:tab algn="l" pos="3422520"/>
                <a:tab algn="l" pos="456876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thmetic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16200"/>
                <a:tab algn="l" pos="3422520"/>
                <a:tab algn="l" pos="456876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bs(x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an2(y,x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s(x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xp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16200"/>
                <a:tab algn="l" pos="3422520"/>
                <a:tab algn="l" pos="456876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(x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og(x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n(x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qrt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16200"/>
                <a:tab algn="l" pos="3422520"/>
                <a:tab algn="l" pos="456876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mple metric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16200"/>
                <a:tab algn="l" pos="3422520"/>
                <a:tab algn="l" pos="456876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lias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ample Metric Rul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Number of lines of code of function;FUNCTION,CLASS-METHOD; LOC_METHOD;&gt;100;&gt;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MS Mincho"/>
              </a:rPr>
              <a:t>Generate an error when the number of lines of code in a function is more than 100, and a warning when over 3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Percent of comments;FILE;LINESCOMM/LOC_FILE*100;&lt;5;&lt;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Generate an error the percentage of comments in a file is less than 5%, and a warning when less than 1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#!alias HALSTEAD=(NODISOPRUSED + NODISOPUSED )*log(NOOPRUSED + NOOPUSED)/log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Define an alias called HALSTEAD to be used in other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Maintainability;FUNCTION;100-((NOINDPATH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CYCLOMATIC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.23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log(HALSTEAD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5.3);&lt;0;&lt;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the HALSTEAD alias to compute a Maintainability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covering the Metrics – Define the Profil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5760" y="990360"/>
            <a:ext cx="87645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trics for 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recovered by using inSpect using the metrics pro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a metrics profile in which all metrics are an error if they are greater or equal to zero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zero_profile.m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,BLANKLINES,FILE,number_of_blank_lines,;FILE;BLANKLINES;&gt;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,BYTESGLDATADECL,FILE,bytes_of_global_variables_declared,;FILE;BYTESGLDATADECL;&gt;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,CHECKSUM,FILE,Checksum,;FILE;CHECKSUM;&gt;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,DIRECTIVES,FILE,number_of_compiler_directives,;FILE;DIRECTIVES;&gt;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,NOCOMMSECT,FILE,number_of_comment_sections,;FILE;NOCOMMSECT;&gt;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,NOCONSTDECL,FILE,number_of_constant_declarations,;FILE;NOCONSTDECL;&gt;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,NODATADECL,FILE,number_of_global_variable_declarations,;FILE;NODATADECL;&gt;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e messages are formatted to be correctly parsed by Excel when it reads in the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report.txt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orking with Metrics Report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755280"/>
            <a:ext cx="8504280" cy="51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tric problem analysis functionality of Klocwork inSpect is configurable by the us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tails of what can be configured and where the configuration files are located are cove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cessary options to activate metric problem analysis are discus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trics are discussed in detail with emphasis on how the metric relates to the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tric rules and metric configuration files are presen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llection and used of software metrics extracted from the Klocwork database is presen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es to perform the characterization of the population and the derivation of a practical metrics profile are discus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 practical exercise in the formulation and application of metric rules to a sample software system is provi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covering the Metrics – Load Metrics Profil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zero_profile.mco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le into the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90720" y="1335240"/>
            <a:ext cx="6010200" cy="4508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190600" y="2706840"/>
            <a:ext cx="369900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covering the Metrics – Configure Metrics Profil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the project to us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zero_profile.mco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88960" y="1339920"/>
            <a:ext cx="6077160" cy="45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covering the Metrics – Generate the Metrics Repor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the metrics report in a build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TR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77760" y="1341360"/>
            <a:ext cx="6108840" cy="4581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408480" y="2214720"/>
            <a:ext cx="3995640" cy="33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covering the Metrics – Recover the Text Repor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147680"/>
                <a:tab algn="l" pos="170964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147680"/>
                <a:tab algn="l" pos="170964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port.txt file can also be retrieved from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147680"/>
                <a:tab algn="l" pos="170964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trics are written to a file cal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47680"/>
                <a:tab algn="l" pos="170964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$KWINSTA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projects_roo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47680"/>
                <a:tab algn="l" pos="170964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jects/PROJEC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47680"/>
                <a:tab algn="l" pos="170964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ilds/METRIC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47680"/>
                <a:tab algn="l" pos="170964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ports/report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147680"/>
                <a:tab algn="l" pos="170964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147680"/>
                <a:tab algn="l" pos="170964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covering the Metrics – Recover the Text Report 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30200" y="893520"/>
            <a:ext cx="8229600" cy="47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port.tx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src\sqlcmd.c;1;0;Error;3;METRIC_BASE;METRICS.E.,LOC_FILE,FILE,Number_of_lines_of_code,;Error;sqlcmd.c,205&gt;=0;Violated metric ",LOC_FILE,FILE,Number_of_lines_of_code,": sqlcmd.c 205&gt;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src\sqlcmd.c;1;0;Error;3;METRIC_BASE;METRICS.E.,NCNBLOC_FILE,FILE,Non_comment_non_blank_source_lines,;Error;sqlcmd.c,158&gt;=0;Violated metric ",NCNBLOC_FILE,FILE,non_comment_non_blank_source_lines,": sqlcmd.c 158&gt;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src\sqlcmd.c;1;0;Error;3;METRIC_BASE;METRICS.E.,NOCLASSDECL,FILE,Number_of_class_declarations,;Error;sqlcmd.c,0&gt;=0;Violated metric ",NOCLASSDECL,FILE,number_of_class_declarations,": sqlcmd.c 0&gt;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src\sqlcmd.c;1;0;Error;3;METRIC_BASE;METRICS.E.,NOCONSTDECL,FILE,Number_of_constant_declarations,;Error;sqlcmd.c,0&gt;=0;Violated metric ",NOCONSTDECL,FILE,number_of_constant_declarations,": sqlcmd.c 0&gt;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67520" y="1959120"/>
            <a:ext cx="484200" cy="299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5920" y="1498680"/>
            <a:ext cx="1555560" cy="299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04760" y="1973160"/>
            <a:ext cx="4535640" cy="300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covering the Metrics – Import into Exc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Excel to open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port.tx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le as a delimited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paration characters should be just semi-col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no text qualif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elect all cells and sort on column </a:t>
            </a: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Break out all </a:t>
            </a: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metrics to a </a:t>
            </a: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worksh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imilarly for </a:t>
            </a: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(and </a:t>
            </a: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if there are an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lete any un-needed colum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covering the Metrics – Query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ta-&gt;Filter-&gt;Auto Fil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each worksheet to query various combinations of colum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71520" y="1760400"/>
            <a:ext cx="842652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ing Metrics – Metric Profil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20840" y="808200"/>
            <a:ext cx="8229600" cy="49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trics that are extracted by inSpect can be analyzed to produce a set of values that represent the current pop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metric a histogram of the distribution can be dra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istogram can be examined to determine the breakpoint values below which 95% and 99% of the population ex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break points can be used as the Warning and Error values in the metric r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the extremely out-of-bounds cases fir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re-do the analyses and “tighten the screws” until the desired uniformity is achie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etric Profile – Extract the Values For a Metric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 all the values of each metr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NOOP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10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11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etric Profile – Basic Analysis of Metric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87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MIN, MAX, MEAN and STDEV for all metr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187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NOOP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2187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2187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31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2187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MEAN</a:t>
            </a: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43.5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2187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STDEV</a:t>
            </a: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53.7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locwork Metrics - Overvie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62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ftware Intelligence Engine collects 117 metr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62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39</a:t>
            </a: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62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CLASS/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62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34</a:t>
            </a: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FUNCTION/CLASS-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62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24</a:t>
            </a: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COUPLING/COHE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62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62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metrics can be recovered by inSp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62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62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 can be defined for inSpect to apply to the metr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62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etric Profile – Produce Histogram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a histogram with 10 b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ge 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MAX-MIN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bar for each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th of a range 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und((MAX-MIN+1)/(10-1)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example, NOOP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RANGE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3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DTH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 the number of values in each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example, NOOP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r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&lt; x &lt;=3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r 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&lt; x &lt;=7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r 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0 &lt; 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etric Profile – Step 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84160" y="1413000"/>
            <a:ext cx="7589880" cy="44560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36480" y="912960"/>
            <a:ext cx="77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lot the bars, for example NOOPU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etric Profile – Determine Shape of Histogra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66760" y="922320"/>
            <a:ext cx="8594640" cy="48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1620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if the histogram is Normally Distributed or Exponentially Distrib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1620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1620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a curve f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1620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1620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onential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1620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= HMAX*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urier New"/>
              </a:rPr>
              <a:t>–(x/ME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1620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lue of each x is the lower range of each histogram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1620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height of tallest bar in the hist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1620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1620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1620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= HMAX*(1–(1+sign(x-MEAN)*NORMDIST(x,MEAN,STDEV,TRUE))/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1620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lue of each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lower range of each histogram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1620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 return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–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1620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RMD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n Excel worksheet function that returns the normalized number for the giv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E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1620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height of the tallest bar in the hist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etric Profile – Determine Shape of Histogram ..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3640" y="768240"/>
            <a:ext cx="794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Exponential Curve appears to be the better f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03120" y="1187280"/>
            <a:ext cx="8561520" cy="4763880"/>
            <a:chOff x="303120" y="1187280"/>
            <a:chExt cx="8561520" cy="4763880"/>
          </a:xfrm>
        </p:grpSpPr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749160" y="1187280"/>
              <a:ext cx="8115480" cy="476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3819240" y="3624120"/>
              <a:ext cx="19609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PONENT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1800360" y="4676040"/>
              <a:ext cx="11430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3000240" y="4016160"/>
              <a:ext cx="84960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97560" y="2703240"/>
              <a:ext cx="12704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ORM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917800" y="3097080"/>
              <a:ext cx="78408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3120" y="4982760"/>
              <a:ext cx="1822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OOPUS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5042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etric Profile – Determine Error and Warning Threshold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162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he Warning and Error Thresholds based on 95% and 9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162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162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rmal then comp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162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OP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162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= MEAN + 3 * STDE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4.9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18162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9.7% of the population is within 3 std dev of m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162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r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= MEAN + 2 * STDE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18162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% of the population is within 2 std dev of m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162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162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xponential then comp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162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OP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162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= - MEAN * ln(1-0.99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.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18162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9% of the population is below this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162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r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= - MEAN * ln(1-0.95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0.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18162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% of the population is below this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etric Profile – Determine Error and Warning Thresholds ..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47560" y="990720"/>
            <a:ext cx="8047080" cy="49528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295960" y="1968480"/>
            <a:ext cx="0" cy="358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72080" y="1968480"/>
            <a:ext cx="0" cy="358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69320" y="166356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17960" y="166356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etric Profile – Define Rul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a metric rule that will enforce these values for NOOP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of Operands Used;FUNCTION;NOOPUSED;&gt;=200;&gt;=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 the same analysis for the other metr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the ne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metrics_profile.mco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th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those entities that need to be addressed to bring them into line with the majority of the pop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etric Profile – Re-Evaluat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90400"/>
            <a:ext cx="822960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odically re-perform the metric profile analysis to re-set the Warning and Error Threshold val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“tighten the screws” to surface entities to address into uniform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etric Profile – End Resul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nd result will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pulation will become more uni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istogram will become “high and tight” as more entities move “inside” the Warning thresho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population is “uniform enough” then st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ing metrics profile can then be used to ensure continued uniformity in the pop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ercis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olb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ject that has been previously built and analyz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e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ero_profile.mcon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import into the pro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 the report, import it into Excel, and perform the calcul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example is available fo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qlcm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qlcmd_metrics_analysis.x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the histograms for the Fun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type of distribution for each metr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Warning and Error Thresholds for each metr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zero_profile.mco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tric_profile.m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tric_profile.mco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enter the Warning and Error Threshold values for the metrics and save the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tric_profile.mco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the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run the METRICS re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the report and browse the source code for the reported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LE Metrics – C and C++ Only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919080"/>
            <a:ext cx="8534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479680"/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LANKLI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C+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blank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479680"/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YTESGLDATADEC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C+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tes of global variables decl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479680"/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ECKS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C+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479680"/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RECTIV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C+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compiler dir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479680"/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COMMS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C+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comment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479680"/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CONSTDEC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C+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constant decla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479680"/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DATADEC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C+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global variable decla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479680"/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479680"/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DIRECTIV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C+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include directives in the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479680"/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INCN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C+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include n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479680"/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3DPIN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C+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3rd party inclu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479680"/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LOCALIN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C+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local inclu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479680"/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MACR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C+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macros 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479680"/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SYSIN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C+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system inclu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479680"/>
                <a:tab algn="l" pos="4006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TALIN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C+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number of included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nd of Modul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LE Metrics – C, C++ and Jav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YTESCOM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C++ 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bytes of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LSTEADV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C++ 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lstead 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SCOM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C++ 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 of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C_F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C++ 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lines of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CNBLOC_F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C++ 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comment non-blank source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ROUTI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C++ 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functions/method 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IS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C++ 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ity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LE Metrics – Metrics About Classes in a Fil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05120"/>
                <a:tab algn="l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NOME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++ Jav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number of methods for all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05120"/>
                <a:tab algn="l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NOMS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++ Jav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+protected+(private if it has frie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05120"/>
                <a:tab algn="l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CLASSDEC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++ Jav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class decla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LE Metrics – Rollup Over All Functions/Method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801360"/>
            <a:ext cx="8686800" cy="50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10024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These metrics summarize all the function/methods in the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10024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10024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RCYCLOMATIC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 C++ Java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um of McCabe Cyclomatic complex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10024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RLOC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 C++ Java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um of the number of lines of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10024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RMAXCONDSPAN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 C++ Java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aximum conditional s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10024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RMAXLEVEL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 C++ Java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aximum value of control n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10024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RNOACCTOGLOB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 C++ Java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um of the number of usages of global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10024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RNOCALLS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 C++ Java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um of the number of calls to other rout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10024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RNOCONDARCS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 C++ Java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um of the number of conditional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10024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RNOCONTROLSTAT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 C++ Java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um of the number of control 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10024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RNODECLSTAT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 C++ Java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um of the number of declaration 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10024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RNOEXSTAT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 C++ Java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um of the number of executable 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10024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RNOINDPATHS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 C++ Java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um of log of the number of independent p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10024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RNOLOCDECL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 C++ Java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umber of local data items decl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10024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RNOOPRUSED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 C++ Java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um of the number of ope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10024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RNOOPUSED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 C++ Java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um of the number of ope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10024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RNOSTAT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 C++ Java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um of the number of 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ASS Metrics – C++ Only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28276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These are general metrics for a class or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28276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28276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BYTESDATADECL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++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Bytes of data item declared in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28276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HASPTRWODESTR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++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lass has pointers without de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28276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NCNBLOC_CLASS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++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on-comment non-blank source lines in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28276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NOCONSTMETH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++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umber of const methods in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28276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NOINLINEMETH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++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umber of in-line methods in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28276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NOPTRDECL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++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umber of pointers items in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28276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NOVIRTMETH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++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umber of pure virtual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ASS Metrics – C++ and Jav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569440" cy="45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7968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VIN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of inheri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7968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C_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 of code in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7968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CLASSDATADEC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data declarations in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7968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DATA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object declarations in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7968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ME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7968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MS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+protected+(private if it has frien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7968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PRIVDATADE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private attributes for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7968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PRIVME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private methods in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7968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PROTDATADEC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protected attributes for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7968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PROTME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protected methods in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7968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PUBDATADEC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public attributes for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7968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PUBME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public methods in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7968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STDATADEC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static attributes for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13:15:24Z</dcterms:created>
  <dc:creator>tmackenzie</dc:creator>
  <dc:description/>
  <dc:language>en-US</dc:language>
  <cp:lastModifiedBy>Neil Lillemark</cp:lastModifiedBy>
  <dcterms:modified xsi:type="dcterms:W3CDTF">2006-03-28T17:00:41Z</dcterms:modified>
  <cp:revision>254</cp:revision>
  <dc:subject/>
  <dc:title>Metric Analysis</dc:title>
</cp:coreProperties>
</file>