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7421-4B69-4A63-96B7-6C30EE688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2D57-F921-4E40-9AF0-C13999C77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7777-91A4-44FB-BAFC-B6048240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E858-7508-483E-9949-665FC55FE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34A2-3D18-4C90-89FB-F4EE9A0D4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8E84-40AA-413B-9A8A-6C9EE5D46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F776-BF3F-4E13-852E-758E03FD9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B135-81F9-4469-BFBC-6224534C6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FE77-EC31-4785-B3F0-9E3254413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DB92-0E26-44E7-8A1A-D3E505BCE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ACC7-4B29-409E-BDC5-0BA41E327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748C-60D3-4789-8C4D-C036485BE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CA19-12E0-4507-BB62-0F4E8EB460D8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15A-95D2-48D1-82A6-16E3DC1FE7F9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49546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OLBUS Sample Project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IND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OLBUS Sample Pro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sample project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is used to illustrate the use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ol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intended to be representative of an actual software system, while at the same time being small and easily understoo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so called a “sandbox” exampl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lication consists of C++ source code files that provide a way for multiple applications to register their existence, listen for events and launch other applica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is composed of a number of C++ files and header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Buffer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API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Error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IOProcess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ToolList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ke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Communication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Events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Launcher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cketIO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Connection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Init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Log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905120"/>
                <a:tab algn="l" pos="3997440"/>
                <a:tab algn="l" pos="5138640"/>
                <a:tab algn="l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ngToID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Control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IO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Menu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irectory Stru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696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 uses the directory struc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ourc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\sr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includ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\in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xecutable file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\b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4290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ol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o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tem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btai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 from your instruct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3080" indent="-299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vestigate the contents of the director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4:59:55Z</dcterms:created>
  <dc:creator>tmackenzie</dc:creator>
  <dc:description/>
  <dc:language>en-US</dc:language>
  <cp:lastModifiedBy>Neil Lillemark</cp:lastModifiedBy>
  <dcterms:modified xsi:type="dcterms:W3CDTF">2006-06-20T03:13:46Z</dcterms:modified>
  <cp:revision>295</cp:revision>
  <dc:subject/>
  <dc:title>klocwork Build Process</dc:title>
</cp:coreProperties>
</file>