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BC88-C311-45F0-9A24-399A99480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3080-A28D-445E-B9BB-A97C0979E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B80B-D2AD-4079-BF3B-6444F1931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546A8-2269-40F5-B660-653DBEA34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1FC3-2BB9-4FBB-B217-5F4131A19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3885-56A1-4B5E-8A65-F941268F7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93C6-E103-407D-AD03-268CFC193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D35D-2456-4C6E-85F3-D8CA12C99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2E4F-05D8-4328-81A5-4CDBC5044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B8D4-E8D1-40D8-8EA7-9057EA9EE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5FE9-50C4-4934-802B-BFC19E4E7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770D-2005-4F8E-9231-E89581E00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7320" y="6692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924B-087D-4903-A28F-68A0BCA860E2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6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8F27-C418-4EDD-BBFE-A73210838784}" type="datetime2">
              <a:rPr b="0" lang="en-US" sz="800" spc="-1" strike="noStrike">
                <a:solidFill>
                  <a:srgbClr val="000066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495432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QLCMD Sample Project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IND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The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Visual C++ Setu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the C/C++ Settings Tab, 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Category = Preprocess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Pre-processor definitions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, add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__WIN__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Additional include directories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 , ad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C:\mysql\include,C:\sqlcmd\in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The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Visual C++ Setu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3440" y="1076400"/>
            <a:ext cx="79470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tup the Link Settings Tab, 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Category = Genera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Output file name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 t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bin/sqlcmd.ex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The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Visual C++ Setu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1480" y="734760"/>
            <a:ext cx="804096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tup the Link Settings Tab, 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Category = Inpu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Object/library modules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, ad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wsock32.lib mysqlclient.lib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Ignore libraries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 t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libcmt.li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Additional library path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, ad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C:\mysql\lib\opt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Making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qlcm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840" y="990720"/>
            <a:ext cx="8200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_fi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ght button menu, 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Build (selection only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--------------------Configuration: sqlcmd - Win32 Debug--------------------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Compiling..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sqlifc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sqlcmd.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Linking..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sqlcmd.exe - 0 error(s), 0 warning(s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– Running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qlcm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unch a command prompt windo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icrosoft Windows XP [Version 5.1.2600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(C) Copyright 1985-2001 Microsoft Corp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Z:\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:\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d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sqlcmd\b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:\sqlcmd\bin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qlcmd.ex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Type "quit" to exi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&gt;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ow databas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0 rows return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&gt;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rc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sition to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irectory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irectory has already been installed by the instructo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3080" indent="-2998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vestigate the contents of the directory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form the steps outlined in this module to build and ru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isual C++ 6.0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type in the SQL command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ow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QLCMD Sample Projec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sample project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is used to illustrate the use of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tool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intended to be representative of an actual software system, while at the same time being small and easily understoo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so called a “sandbox” example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qlcm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pplication is a C source code file that connects to an SQL database, allows you to type in an SQL query, and then displays the resul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“main” pro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ifc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QL interfa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ifc.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QL interface header f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The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irectory Structu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920" y="990360"/>
            <a:ext cx="8696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project uses the directory struc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ource files are i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\sr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include files are i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\in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executable file are i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\b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62240" y="3429000"/>
            <a:ext cx="2743200" cy="6858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qlc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800600"/>
            <a:ext cx="2743200" cy="6858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62240" y="4800600"/>
            <a:ext cx="2743200" cy="6858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800600"/>
            <a:ext cx="2743200" cy="6858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419720"/>
            <a:ext cx="586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1148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4419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4419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The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Visual C++ Setu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29800"/>
            <a:ext cx="822168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o compile and link the sqlcmd project Microsoft Visual C++ 6.0 can be us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Create a new workspace called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Open the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File 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menu and select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New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81160" indent="-266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New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dialog appear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Select the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Projects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 tab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Win32 Console Application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Project name is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Press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OK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81160" indent="-266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Win32 Console Application – Step 1 of 1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dialog appear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Press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Finish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81160" indent="-266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New Project Information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dialog appear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Press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OK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The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Visual C++ Setu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dd files to the proj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ileVie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tab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pan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_files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y clicking on th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ource Fil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ight button menu, 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Add Files to Fold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19320" indent="-30492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Insert Files into Project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alog appear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rowse to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:\sqlcmd\sr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select all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.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fil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ss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O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The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Visual C++ Setu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figure the proj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sqlcmd_fil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ight button menu, select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Setting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19320" indent="-30492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Project Settings 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dialog appear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The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Visual C++ Setu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8200" y="990720"/>
            <a:ext cx="8107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the Debug Tab Settings, Category = Genera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Executable for debug sessio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t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:\sqlcmd\bin\sqlcmd.ex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The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Visual C++ Setu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the C/C++ Settings Tab, Category = Code Gener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Use run-time library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 to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Debug multi-thread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4:59:55Z</dcterms:created>
  <dc:creator>tmackenzie</dc:creator>
  <dc:description/>
  <dc:language>en-US</dc:language>
  <cp:lastModifiedBy>Mark Grice</cp:lastModifiedBy>
  <dcterms:modified xsi:type="dcterms:W3CDTF">2006-10-16T01:36:41Z</dcterms:modified>
  <cp:revision>293</cp:revision>
  <dc:subject/>
  <dc:title>klocwork Build Process</dc:title>
</cp:coreProperties>
</file>