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5.xml.rels" ContentType="application/vnd.openxmlformats-package.relationships+xml"/>
  <Override PartName="/ppt/notesSlides/notesSlide10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marL="216000"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marL="216000"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11000" y="4862160"/>
            <a:ext cx="5676840" cy="4605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A4B880B-5AEE-4ECE-869B-6FB48FDDD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11000" y="4862160"/>
            <a:ext cx="5676840" cy="4605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64CD-A15E-4F12-8E12-1862A3B73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F7F8-5C9C-41D0-990B-E9F968334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4B93-1F0F-4990-A50E-F35592CF1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9053-4DCE-4236-9839-75E5A316D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D9C4-78E4-4872-9436-80F5D90B8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7CDC-1310-4184-8967-15B2DD113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63B8-840C-4828-8F80-F7A9A97D9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492F-88B9-406C-87D5-897F14188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052B-FBF6-42B3-9535-A5396769B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7D01-14D1-413B-A941-52965B7E3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52C7-E10F-44FD-BAD6-2EDC79B48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5F5D-3B1F-4D24-86A4-5FFB326A5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DE81-81BB-4B94-8A71-B36A74E186E2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AE66-06CC-4FF2-A051-22A9CCFE1AC4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Code Problem Reporting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– Error Configuration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8720" y="781200"/>
            <a:ext cx="853092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ach row in the severity table defines attributes for each level of severit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rror Nam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user configurable name of the error that will appear i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ummary table in Klocwork Project Centra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Severit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number between 1 and 10 with 1 representing the most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ious defects and 10 representing the least serious with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configurable severity names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atego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of several user definable categori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rror Messag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user configurable error message text that will appear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Klocwork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tegrated Defect Management or in th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port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king a change and then pressing the “OK” button will save the configuration information for that defect into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roblem_defaults.pconf.xm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the Code Problems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detailed description of the code error, a trace back and the source code positioned to the defect is displayed.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451240" y="1776240"/>
            <a:ext cx="6372000" cy="46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2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py sqlcmd.c to sqlcmd.c.ori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a suitable editor, edi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.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fix the err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check that memory was allocated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f (sock==(char *)NULL) exit(1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reate a buil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xed_Code_Problem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using only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problems_default.pconf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should be no defects reported i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oject Centr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nction Behaviour Knowledge Base (FBKB)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A function behaviour knowledge base (FBKB) is used to provide additional information about the system to enhance the detection of code problem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inSpect (and optionally inForce) can both access and update the FBKB during static analys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Advance users and Administrators can update the FBKB for controlling defect reporting behavior and enhancing the detection of code problems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he FBKB contains information abo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Complex dynamic memory functions that allocate or release memor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Ranges of values returned by function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Functions that never retur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Functions that dereference pointe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tomatically Creating a FBK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FBKB, calle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d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is automatically created for each project that is built by the Klocwork Management Conso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700360" y="1709640"/>
            <a:ext cx="611964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the FBK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FBKB can be viewed by selecting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d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selecting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View in Edito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rom the right button menu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513160" y="1608120"/>
            <a:ext cx="63720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98360" y="898560"/>
            <a:ext cx="873936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ach line describes an interaction of a function with another function in the buil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ach record has the following form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name of a global function or metho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cludes constructors, destructor, templates and operato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names of class methods or namespace functions must b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ully qualifi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ually “-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haracteristi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racteristic of a function/metho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Descrip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pends on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haracteristi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ank lines are allow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comment begins with a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“#”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nd continues to the end of the lin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xample: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trcpy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-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NP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ffective use of FBKB file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BKB File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1844640"/>
            <a:ext cx="241128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1844640"/>
            <a:ext cx="6732720" cy="1297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141720"/>
            <a:ext cx="241128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11280" y="3141720"/>
            <a:ext cx="6732720" cy="3585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500280"/>
            <a:ext cx="241128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11280" y="3502080"/>
            <a:ext cx="6732720" cy="3585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860640"/>
            <a:ext cx="241128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11280" y="3862440"/>
            <a:ext cx="6732720" cy="3585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24000" y="5445000"/>
            <a:ext cx="118728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11280" y="5445000"/>
            <a:ext cx="43200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43280" y="5445000"/>
            <a:ext cx="72072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64000" y="5445000"/>
            <a:ext cx="72072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nction Characteristi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10600" y="698400"/>
            <a:ext cx="872676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 function characteristic is one of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NORE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 function that never return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 function that returns an integer or pointer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XRET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 function that conditionally returns an integer or pointer.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NP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 function that is passed a pointer that should be checked for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ULL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XNP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 function conditionally dereferences an argument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DMEM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 memory management function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TSsrc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 function returns a tainted string through a socket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TSFMTsink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 function receives a tainted format string through a socket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TSprop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 function taints a string for a socket if any of the following strings are 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ainted when the function is called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TaintedIntData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 function returns a tainted integer through a socket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UnsafeAllocSizeAccepter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 tainted integer is passed to a function may be used to dictate the size of 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memory to be allocated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UnsafeLoopBoundAccepter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 tainted integer is passed to a given function it may be used as a loop 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bound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UnsafeArrayIndexAccepter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 A tainted integer is passed to a given function may be used as an index to 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rray acces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BAA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Buffer Array Access describes how a function accesses arrays through 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pointer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BPS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Buffer property settings describe how a function changes buffer propertie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RET – A Function that Does Not Retur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escrip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always empt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BKB 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OR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sser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OR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Code 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(p==NULL) exit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&lt;inSpect knows that p can never be NULL at this point.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1905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strcpy(p, “Some string”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452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D – Function is Passed a Parameter that May be NUL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escrip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the number of the parameter that may be NUL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BKB 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trcpy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PD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trcpy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PD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Code 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strcpy(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*p, 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*v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&lt;inSpect knows that both p and v should be checked for NULL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while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((*p++=*v++)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74560"/>
                <a:tab algn="l" pos="1527120"/>
                <a:tab algn="l" pos="199692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NPD – Function Conditionally Dereferences a Pointer Passed as a Paramet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Descrip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ondi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argumen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Condition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one o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nv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parameter-specifier-lis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arameter-specifier-lis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parameter-specifie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parameter-specifie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arameter-specifie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$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numbe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rgume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the position of an argu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bcopy - xNPD $3 GE(1): 1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bcop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ereferences the first argument without checking it fo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the third argument is greater than or equal to 1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- Categor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ing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ategori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tab will display the user configurable defect categori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4680" y="1911240"/>
            <a:ext cx="62546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MEM – Function that Allocates or Deallocates Memor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Description is one o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GROUP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,allo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unction allocates 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GROUP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,free,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ARG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unction deallocates memory passed 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ameter numbe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RG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,MRF,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ARG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unction is passed a pointer as parameter number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RG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ut does not free or store it in a global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riabl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i="1" lang="en-CA" sz="1800" spc="-1" strike="noStrike">
                <a:solidFill>
                  <a:srgbClr val="000066"/>
                </a:solidFill>
                <a:latin typeface="Courier New"/>
              </a:rPr>
              <a:t>GROUP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is the name of the memory management group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There are three pre-defined group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stdc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free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stdc++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new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dele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stdc++[]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new[]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delete[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5256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Cross-group usage, e.g.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delete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, will result in an error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694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MEM – Function that Allocates or Deallocates Memory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xmalloc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MEM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xwrappers,allo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xfre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MEM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xwrappers,free,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Code 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p=(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*)xmalloc(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&lt;inSpect knows that p has been allocated memory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xfree(p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&lt;inSpect knows that the memory in p has been deallocated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*p=0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57080"/>
                <a:tab algn="l" pos="1996920"/>
                <a:tab algn="l" pos="23875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&lt;inSpect knows that this is an error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 – A Function that Returns an Integer or Point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7160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description is of the for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Courier New"/>
              </a:rPr>
              <a:t>Parameter-List-Specification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: </a:t>
            </a:r>
            <a:r>
              <a:rPr b="0" i="1" lang="en-US" sz="1600" spc="-1" strike="noStrike">
                <a:solidFill>
                  <a:srgbClr val="000066"/>
                </a:solidFill>
                <a:latin typeface="Courier New"/>
              </a:rPr>
              <a:t>Result-specific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i="1" lang="en-CA" sz="1800" spc="-1" strike="noStrike">
                <a:solidFill>
                  <a:srgbClr val="000066"/>
                </a:solidFill>
                <a:latin typeface="Courier New"/>
              </a:rPr>
              <a:t>Parameter-List-Specification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 is a comma separated list of one or more of the follow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Always returns </a:t>
            </a:r>
            <a:r>
              <a:rPr b="0" i="1" lang="en-CA" sz="1600" spc="-1" strike="noStrike">
                <a:solidFill>
                  <a:srgbClr val="000066"/>
                </a:solidFill>
                <a:latin typeface="Courier New"/>
              </a:rPr>
              <a:t>Result-specification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env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Sometimes returns </a:t>
            </a:r>
            <a:r>
              <a:rPr b="0" i="1" lang="en-CA" sz="1600" spc="-1" strike="noStrike">
                <a:solidFill>
                  <a:srgbClr val="000066"/>
                </a:solidFill>
                <a:latin typeface="Courier New"/>
              </a:rPr>
              <a:t>Result-specification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$n </a:t>
            </a:r>
            <a:r>
              <a:rPr b="0" i="1" lang="en-CA" sz="1600" spc="-1" strike="noStrike">
                <a:solidFill>
                  <a:srgbClr val="000066"/>
                </a:solidFill>
                <a:latin typeface="Courier New"/>
              </a:rPr>
              <a:t>Integer-Range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Parameter number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n 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in th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CA" sz="1600" spc="-1" strike="noStrike">
                <a:solidFill>
                  <a:srgbClr val="000066"/>
                </a:solidFill>
                <a:latin typeface="Courier New"/>
              </a:rPr>
              <a:t>Integer-Range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CA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CA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will return</a:t>
            </a:r>
            <a:r>
              <a:rPr b="0" i="1" lang="en-CA" sz="1600" spc="-1" strike="noStrike">
                <a:solidFill>
                  <a:srgbClr val="000066"/>
                </a:solidFill>
                <a:latin typeface="Courier New"/>
              </a:rPr>
              <a:t> Result-specific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i="1" lang="en-CA" sz="1800" spc="-1" strike="noStrike">
                <a:solidFill>
                  <a:srgbClr val="000066"/>
                </a:solidFill>
                <a:latin typeface="Courier New"/>
              </a:rPr>
              <a:t>Result-Specification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is an </a:t>
            </a:r>
            <a:r>
              <a:rPr b="0" i="1" lang="en-CA" sz="1800" spc="-1" strike="noStrike">
                <a:solidFill>
                  <a:srgbClr val="000066"/>
                </a:solidFill>
                <a:latin typeface="Courier New"/>
              </a:rPr>
              <a:t>Integer-Range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0" i="1" lang="en-CA" sz="1800" spc="-1" strike="noStrike">
                <a:solidFill>
                  <a:srgbClr val="000066"/>
                </a:solidFill>
                <a:latin typeface="Courier New"/>
              </a:rPr>
              <a:t>Integer-Range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is one o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EQ(n)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Equal to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Also used for pointer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NE(n)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Not equal to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Also used for pointer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GE(n)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Greater than or equal to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LE(n)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Less than or equal to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78000"/>
                <a:tab algn="l" pos="757080"/>
                <a:tab algn="l" pos="3144960"/>
                <a:tab algn="l" pos="5910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[n1,n2]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Between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n1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n2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inclusiv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 – A Function that Returns an Integer or Pointer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7080"/>
                <a:tab algn="l" pos="2662200"/>
                <a:tab algn="l" pos="3432240"/>
                <a:tab algn="l" pos="409716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s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57080"/>
                <a:tab algn="l" pos="2662200"/>
                <a:tab algn="l" pos="3432240"/>
                <a:tab algn="l" pos="409716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sql_connect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env : EQ(0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7080"/>
                <a:tab algn="l" pos="2662200"/>
                <a:tab algn="l" pos="3432240"/>
                <a:tab algn="l" pos="409716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7080"/>
                <a:tab algn="l" pos="2662200"/>
                <a:tab algn="l" pos="3432240"/>
                <a:tab algn="l" pos="409716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Code Examp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57080"/>
                <a:tab algn="l" pos="2662200"/>
                <a:tab algn="l" pos="3432240"/>
                <a:tab algn="l" pos="409716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conn=sql_connect(host,user,pass,data,port,sock,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57080"/>
                <a:tab algn="l" pos="2662200"/>
                <a:tab algn="l" pos="3432240"/>
                <a:tab algn="l" pos="409716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CA" sz="1400" spc="-1" strike="noStrike">
                <a:solidFill>
                  <a:srgbClr val="000066"/>
                </a:solidFill>
                <a:latin typeface="Arial"/>
              </a:rPr>
              <a:t>&lt;inSpect knows that conn may contain NULL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RET – A Function that Conditionally Returns a Val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description is of the form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range1 : socket-expression range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ange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the return valu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ocket-express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one o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$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umb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socket-expre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socket-expressio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-&gt;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fie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socket-expressio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field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ange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 a value returned by referenc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Function – XRET EQ(0): *$2 NE(0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Func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turns 0 if it sets the dereferenced second variable to a value other than zero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FBK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718080"/>
                <a:tab algn="l" pos="504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ome information cannot be captured automatically i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d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718080"/>
                <a:tab algn="l" pos="504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3560" indent="0">
              <a:spcBef>
                <a:spcPts val="451"/>
              </a:spcBef>
              <a:buNone/>
              <a:tabLst>
                <a:tab algn="l" pos="0"/>
                <a:tab algn="l" pos="3718080"/>
                <a:tab algn="l" pos="504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Information about complex dynamic memory functions that release memory 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DMEM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free,$</a:t>
            </a:r>
            <a:r>
              <a:rPr b="0" i="1" lang="en-CA" sz="1800" spc="-1" strike="noStrike">
                <a:solidFill>
                  <a:srgbClr val="000066"/>
                </a:solidFill>
                <a:latin typeface="Courier New"/>
              </a:rPr>
              <a:t>ARG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718080"/>
                <a:tab algn="l" pos="504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718080"/>
                <a:tab algn="l" pos="504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his information can be added to a custom FBKB that is used either instead of, or in addition to the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generated.kb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718080"/>
                <a:tab algn="l" pos="504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It is also possible to suppress the detection of defects that are not interesting, such as problems during low memory conditio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FBKB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2387520"/>
                <a:tab algn="l" pos="3144960"/>
                <a:tab algn="l" pos="409716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errors related to low memory conditions are to be suppress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2387520"/>
                <a:tab algn="l" pos="3144960"/>
                <a:tab algn="l" pos="409716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d rules that specify that the allocation functions do not return NUL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57080"/>
                <a:tab algn="l" pos="2387520"/>
                <a:tab algn="l" pos="3144960"/>
                <a:tab algn="l" pos="409716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2387520"/>
                <a:tab algn="l" pos="3144960"/>
                <a:tab algn="l" pos="409716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1:NE(0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2387520"/>
                <a:tab algn="l" pos="3144960"/>
                <a:tab algn="l" pos="409716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alloc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1:NE(0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2387520"/>
                <a:tab algn="l" pos="3144960"/>
                <a:tab algn="l" pos="409716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trdup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1:NE(0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57080"/>
                <a:tab algn="l" pos="2387520"/>
                <a:tab algn="l" pos="3144960"/>
                <a:tab algn="l" pos="409716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alloc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1:NE(0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FBKB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reate a knowledge base calle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uppress_low_memory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558800" y="1555920"/>
            <a:ext cx="6080400" cy="44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Custom FBK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3880" y="808200"/>
            <a:ext cx="8229600" cy="105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ort the custom FBKB file to the project using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M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wadmi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pe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ojec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enu 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mport Configuration Fi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597040" y="1698480"/>
            <a:ext cx="6116760" cy="458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Custom FBKB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79488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rowse to the custom configuration file and select i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mpor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833400" y="1627200"/>
            <a:ext cx="74772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- Categor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fects can be moved between existing categories by dragging and dropping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1760" y="1849320"/>
            <a:ext cx="4149720" cy="259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6120" y="2409840"/>
            <a:ext cx="4005360" cy="2503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65360" y="2825640"/>
            <a:ext cx="3521160" cy="681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520" y="5257800"/>
            <a:ext cx="86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Making a change and then pressing the “OK” button will save the configuration information for that defect into “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problem_defaults.pconf.xml”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Custom FBKB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28680" y="7826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ustom FBKB file is imported into the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t appears under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figuration Fil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tree and under the tab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514600" y="1512720"/>
            <a:ext cx="634536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FBK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07880" y="85860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-button over the project nam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Build Set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516040" y="1527120"/>
            <a:ext cx="632952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FBKB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89856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ame the buil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ustom_FBKB_Fi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ource code has to be re-compiled in order for the FBKB to take aff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ext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 tim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343320" y="2092320"/>
            <a:ext cx="52387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FBKB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d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uppress_low_memory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problems_default.pconf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l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nis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078000" y="1895400"/>
            <a:ext cx="52390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FBKB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it for the build to complet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641680" y="1652760"/>
            <a:ext cx="6126120" cy="45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FBKB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view the code problems in Project Centr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441520" y="1560600"/>
            <a:ext cx="6702480" cy="48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ing the FBK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uring each build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d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automatically updated with information about new code that is add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te, however, that information for functions already i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d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not changed once it has been added to the fi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means that functions whose definition changes significantly after being added to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d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ile will still be described using the previous knowledg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t is recommended that a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d.kb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 re-built from scratch on a regular basis, or special processes be put in place to compose accurat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d.k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or use during analysis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move the changes made in the previous exercise by copying sqlcmd.c.orig back to sqlcmd.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reate a custom function behavior knowledge base to suppress low memory errors and import it into the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tup a build called Low_Memory_Disabled and use the custom FBKB with the generated kb and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problems_default.pconf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i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spect the defects reported i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oject Centr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There should be non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- Categor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categories can be created by selecting an existing category and pressing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butt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73240" y="1700280"/>
            <a:ext cx="67975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0520" y="2273400"/>
            <a:ext cx="5924520" cy="3701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- Categor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reate new category dialog is display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ter the category name, select the parent category and press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O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to create the categor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708360" y="3517920"/>
            <a:ext cx="3638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- Categor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new category is added and the list is sorted in alphabetical ord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sting categories can also be deleted or renam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1881360"/>
            <a:ext cx="639432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- Sever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ing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veriti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tab will display the user configurable severiti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25440" y="1631880"/>
            <a:ext cx="7102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- Sever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04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ther a severity is a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rro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r a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Warnin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be configured by the slider bar on the right hand side. Moving the bar up will assig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Warnin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Moving the bar down will assig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rro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9800" y="2125800"/>
            <a:ext cx="3892680" cy="24318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289400" y="2506680"/>
            <a:ext cx="4659480" cy="2463840"/>
            <a:chOff x="4289400" y="2506680"/>
            <a:chExt cx="4659480" cy="24638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005440" y="2506680"/>
              <a:ext cx="394344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289400" y="2924280"/>
              <a:ext cx="833400" cy="188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90520" y="5508720"/>
            <a:ext cx="86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Making a change and then pressing the “OK” button will save the configuration information for that defect into “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problem_defaults.pconf.xml”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- Sever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severity name can be changed by highlighting it and typing in the new nam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6800" y="1736640"/>
            <a:ext cx="65592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Defect Severitie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are 10 severity levels pre-defined for code defect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r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r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fec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f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u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itic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rr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ve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7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expect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vestigat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gges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y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vie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f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66760"/>
                <a:tab algn="l" pos="376380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ta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9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33480" y="3257640"/>
            <a:ext cx="6343560" cy="2019240"/>
          </a:xfrm>
          <a:prstGeom prst="rect">
            <a:avLst/>
          </a:pr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Code Problems Repor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de problem analysis functionality of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winspec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winfor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configurable by the us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details of what can be configured, where the configuration files are located, and how configuration settings are changed are cover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necessary options to activate code problem analysis is discussed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use of filter files and knowledge bases is discuss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de problems are discussed in detail with emphasis on the code that causes the problem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actical exercise in the code problem analysis configuration and the generation and inspection of code problem reports is provid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ailed Messag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758520"/>
            <a:ext cx="854892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Detailed information is provided about the condition that triggered the identification of the code problem and information to assist in the understanding of the probl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is is provided for errors such as uninitialized variables, null pointer dereference, array indexed out of bounds, and memory leak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851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/* fnh_must.c - FNH.MUST *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851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851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851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x, *y=&amp;x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851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free(y)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851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851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fnh_must.c;5;Error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freeing non-heap memory from y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emory referenced by 'y' came from line 4 is illegally freed by passing argument 1 to function 'free' at line 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st vs. Migh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09800" y="1200240"/>
            <a:ext cx="3276360" cy="4952880"/>
            <a:chOff x="1009800" y="1200240"/>
            <a:chExt cx="3276360" cy="4952880"/>
          </a:xfrm>
        </p:grpSpPr>
        <p:sp>
          <p:nvSpPr>
            <p:cNvPr id="152" name=""/>
            <p:cNvSpPr/>
            <p:nvPr/>
          </p:nvSpPr>
          <p:spPr>
            <a:xfrm>
              <a:off x="2211480" y="1819440"/>
              <a:ext cx="981000" cy="2414520"/>
            </a:xfrm>
            <a:custGeom>
              <a:avLst/>
              <a:gdLst/>
              <a:ahLst/>
              <a:rect l="l" t="t" r="r" b="b"/>
              <a:pathLst>
                <a:path w="618" h="1521">
                  <a:moveTo>
                    <a:pt x="618" y="0"/>
                  </a:moveTo>
                  <a:cubicBezTo>
                    <a:pt x="613" y="31"/>
                    <a:pt x="618" y="50"/>
                    <a:pt x="588" y="60"/>
                  </a:cubicBezTo>
                  <a:cubicBezTo>
                    <a:pt x="572" y="84"/>
                    <a:pt x="559" y="91"/>
                    <a:pt x="533" y="103"/>
                  </a:cubicBezTo>
                  <a:cubicBezTo>
                    <a:pt x="527" y="109"/>
                    <a:pt x="522" y="117"/>
                    <a:pt x="515" y="121"/>
                  </a:cubicBezTo>
                  <a:cubicBezTo>
                    <a:pt x="508" y="125"/>
                    <a:pt x="497" y="122"/>
                    <a:pt x="491" y="127"/>
                  </a:cubicBezTo>
                  <a:cubicBezTo>
                    <a:pt x="468" y="147"/>
                    <a:pt x="468" y="173"/>
                    <a:pt x="449" y="194"/>
                  </a:cubicBezTo>
                  <a:cubicBezTo>
                    <a:pt x="416" y="279"/>
                    <a:pt x="472" y="386"/>
                    <a:pt x="388" y="442"/>
                  </a:cubicBezTo>
                  <a:cubicBezTo>
                    <a:pt x="373" y="471"/>
                    <a:pt x="355" y="497"/>
                    <a:pt x="327" y="515"/>
                  </a:cubicBezTo>
                  <a:cubicBezTo>
                    <a:pt x="313" y="536"/>
                    <a:pt x="291" y="557"/>
                    <a:pt x="273" y="576"/>
                  </a:cubicBezTo>
                  <a:cubicBezTo>
                    <a:pt x="252" y="638"/>
                    <a:pt x="238" y="702"/>
                    <a:pt x="218" y="764"/>
                  </a:cubicBezTo>
                  <a:cubicBezTo>
                    <a:pt x="216" y="818"/>
                    <a:pt x="239" y="909"/>
                    <a:pt x="194" y="958"/>
                  </a:cubicBezTo>
                  <a:cubicBezTo>
                    <a:pt x="184" y="988"/>
                    <a:pt x="172" y="1024"/>
                    <a:pt x="151" y="1048"/>
                  </a:cubicBezTo>
                  <a:cubicBezTo>
                    <a:pt x="142" y="1059"/>
                    <a:pt x="121" y="1079"/>
                    <a:pt x="121" y="1079"/>
                  </a:cubicBezTo>
                  <a:cubicBezTo>
                    <a:pt x="114" y="1101"/>
                    <a:pt x="85" y="1127"/>
                    <a:pt x="67" y="1145"/>
                  </a:cubicBezTo>
                  <a:cubicBezTo>
                    <a:pt x="61" y="1164"/>
                    <a:pt x="54" y="1182"/>
                    <a:pt x="48" y="1200"/>
                  </a:cubicBezTo>
                  <a:cubicBezTo>
                    <a:pt x="42" y="1371"/>
                    <a:pt x="62" y="1336"/>
                    <a:pt x="0" y="1430"/>
                  </a:cubicBezTo>
                  <a:cubicBezTo>
                    <a:pt x="2" y="1460"/>
                    <a:pt x="6" y="1521"/>
                    <a:pt x="6" y="152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68280" y="2435400"/>
              <a:ext cx="960480" cy="1760400"/>
            </a:xfrm>
            <a:custGeom>
              <a:avLst/>
              <a:gdLst/>
              <a:ahLst/>
              <a:rect l="l" t="t" r="r" b="b"/>
              <a:pathLst>
                <a:path w="605" h="1109">
                  <a:moveTo>
                    <a:pt x="0" y="0"/>
                  </a:moveTo>
                  <a:cubicBezTo>
                    <a:pt x="43" y="29"/>
                    <a:pt x="22" y="21"/>
                    <a:pt x="60" y="30"/>
                  </a:cubicBezTo>
                  <a:cubicBezTo>
                    <a:pt x="78" y="42"/>
                    <a:pt x="97" y="48"/>
                    <a:pt x="115" y="60"/>
                  </a:cubicBezTo>
                  <a:cubicBezTo>
                    <a:pt x="125" y="90"/>
                    <a:pt x="141" y="111"/>
                    <a:pt x="163" y="133"/>
                  </a:cubicBezTo>
                  <a:cubicBezTo>
                    <a:pt x="180" y="184"/>
                    <a:pt x="175" y="162"/>
                    <a:pt x="163" y="266"/>
                  </a:cubicBezTo>
                  <a:cubicBezTo>
                    <a:pt x="163" y="268"/>
                    <a:pt x="148" y="311"/>
                    <a:pt x="145" y="321"/>
                  </a:cubicBezTo>
                  <a:cubicBezTo>
                    <a:pt x="143" y="327"/>
                    <a:pt x="139" y="339"/>
                    <a:pt x="139" y="339"/>
                  </a:cubicBezTo>
                  <a:cubicBezTo>
                    <a:pt x="141" y="361"/>
                    <a:pt x="141" y="384"/>
                    <a:pt x="145" y="406"/>
                  </a:cubicBezTo>
                  <a:cubicBezTo>
                    <a:pt x="147" y="418"/>
                    <a:pt x="157" y="442"/>
                    <a:pt x="157" y="442"/>
                  </a:cubicBezTo>
                  <a:cubicBezTo>
                    <a:pt x="162" y="475"/>
                    <a:pt x="163" y="489"/>
                    <a:pt x="182" y="515"/>
                  </a:cubicBezTo>
                  <a:cubicBezTo>
                    <a:pt x="190" y="538"/>
                    <a:pt x="214" y="591"/>
                    <a:pt x="236" y="606"/>
                  </a:cubicBezTo>
                  <a:cubicBezTo>
                    <a:pt x="253" y="617"/>
                    <a:pt x="278" y="621"/>
                    <a:pt x="297" y="630"/>
                  </a:cubicBezTo>
                  <a:cubicBezTo>
                    <a:pt x="331" y="647"/>
                    <a:pt x="299" y="636"/>
                    <a:pt x="333" y="660"/>
                  </a:cubicBezTo>
                  <a:cubicBezTo>
                    <a:pt x="349" y="671"/>
                    <a:pt x="372" y="668"/>
                    <a:pt x="388" y="679"/>
                  </a:cubicBezTo>
                  <a:cubicBezTo>
                    <a:pt x="406" y="691"/>
                    <a:pt x="426" y="695"/>
                    <a:pt x="442" y="709"/>
                  </a:cubicBezTo>
                  <a:cubicBezTo>
                    <a:pt x="453" y="718"/>
                    <a:pt x="473" y="739"/>
                    <a:pt x="473" y="739"/>
                  </a:cubicBezTo>
                  <a:cubicBezTo>
                    <a:pt x="514" y="825"/>
                    <a:pt x="479" y="821"/>
                    <a:pt x="497" y="970"/>
                  </a:cubicBezTo>
                  <a:cubicBezTo>
                    <a:pt x="498" y="976"/>
                    <a:pt x="509" y="973"/>
                    <a:pt x="515" y="976"/>
                  </a:cubicBezTo>
                  <a:cubicBezTo>
                    <a:pt x="521" y="979"/>
                    <a:pt x="528" y="983"/>
                    <a:pt x="533" y="988"/>
                  </a:cubicBezTo>
                  <a:cubicBezTo>
                    <a:pt x="544" y="997"/>
                    <a:pt x="550" y="1013"/>
                    <a:pt x="564" y="1018"/>
                  </a:cubicBezTo>
                  <a:cubicBezTo>
                    <a:pt x="570" y="1020"/>
                    <a:pt x="598" y="1028"/>
                    <a:pt x="600" y="1036"/>
                  </a:cubicBezTo>
                  <a:cubicBezTo>
                    <a:pt x="605" y="1060"/>
                    <a:pt x="600" y="1085"/>
                    <a:pt x="600" y="11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76480" y="1200240"/>
              <a:ext cx="22096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ts Null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09800" y="4248360"/>
              <a:ext cx="23619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derefere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4360" y="5543640"/>
              <a:ext cx="24386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ust” p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96000" y="1143000"/>
            <a:ext cx="3124080" cy="5105520"/>
            <a:chOff x="4896000" y="1143000"/>
            <a:chExt cx="3124080" cy="5105520"/>
          </a:xfrm>
        </p:grpSpPr>
        <p:sp>
          <p:nvSpPr>
            <p:cNvPr id="158" name=""/>
            <p:cNvSpPr/>
            <p:nvPr/>
          </p:nvSpPr>
          <p:spPr>
            <a:xfrm>
              <a:off x="5581800" y="1143000"/>
              <a:ext cx="22096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ts Null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96000" y="4267080"/>
              <a:ext cx="23619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derefere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7840" y="1762200"/>
              <a:ext cx="587160" cy="2482920"/>
            </a:xfrm>
            <a:custGeom>
              <a:avLst/>
              <a:gdLst/>
              <a:ahLst/>
              <a:rect l="l" t="t" r="r" b="b"/>
              <a:pathLst>
                <a:path w="370" h="1564">
                  <a:moveTo>
                    <a:pt x="370" y="0"/>
                  </a:moveTo>
                  <a:cubicBezTo>
                    <a:pt x="364" y="26"/>
                    <a:pt x="355" y="44"/>
                    <a:pt x="339" y="66"/>
                  </a:cubicBezTo>
                  <a:cubicBezTo>
                    <a:pt x="335" y="78"/>
                    <a:pt x="331" y="91"/>
                    <a:pt x="327" y="103"/>
                  </a:cubicBezTo>
                  <a:cubicBezTo>
                    <a:pt x="325" y="109"/>
                    <a:pt x="326" y="117"/>
                    <a:pt x="321" y="121"/>
                  </a:cubicBezTo>
                  <a:cubicBezTo>
                    <a:pt x="309" y="129"/>
                    <a:pt x="285" y="145"/>
                    <a:pt x="285" y="145"/>
                  </a:cubicBezTo>
                  <a:cubicBezTo>
                    <a:pt x="261" y="181"/>
                    <a:pt x="214" y="199"/>
                    <a:pt x="176" y="218"/>
                  </a:cubicBezTo>
                  <a:cubicBezTo>
                    <a:pt x="148" y="259"/>
                    <a:pt x="120" y="304"/>
                    <a:pt x="85" y="339"/>
                  </a:cubicBezTo>
                  <a:cubicBezTo>
                    <a:pt x="65" y="398"/>
                    <a:pt x="95" y="306"/>
                    <a:pt x="73" y="382"/>
                  </a:cubicBezTo>
                  <a:cubicBezTo>
                    <a:pt x="69" y="394"/>
                    <a:pt x="61" y="418"/>
                    <a:pt x="61" y="418"/>
                  </a:cubicBezTo>
                  <a:cubicBezTo>
                    <a:pt x="66" y="529"/>
                    <a:pt x="65" y="539"/>
                    <a:pt x="91" y="618"/>
                  </a:cubicBezTo>
                  <a:cubicBezTo>
                    <a:pt x="85" y="871"/>
                    <a:pt x="132" y="847"/>
                    <a:pt x="24" y="964"/>
                  </a:cubicBezTo>
                  <a:cubicBezTo>
                    <a:pt x="17" y="984"/>
                    <a:pt x="7" y="998"/>
                    <a:pt x="0" y="1018"/>
                  </a:cubicBezTo>
                  <a:cubicBezTo>
                    <a:pt x="7" y="1197"/>
                    <a:pt x="24" y="1384"/>
                    <a:pt x="24" y="15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64240" y="1771560"/>
              <a:ext cx="1455840" cy="2414520"/>
            </a:xfrm>
            <a:custGeom>
              <a:avLst/>
              <a:gdLst/>
              <a:ahLst/>
              <a:rect l="l" t="t" r="r" b="b"/>
              <a:pathLst>
                <a:path w="917" h="1521">
                  <a:moveTo>
                    <a:pt x="38" y="0"/>
                  </a:moveTo>
                  <a:cubicBezTo>
                    <a:pt x="14" y="8"/>
                    <a:pt x="10" y="19"/>
                    <a:pt x="1" y="42"/>
                  </a:cubicBezTo>
                  <a:cubicBezTo>
                    <a:pt x="4" y="87"/>
                    <a:pt x="0" y="189"/>
                    <a:pt x="38" y="236"/>
                  </a:cubicBezTo>
                  <a:cubicBezTo>
                    <a:pt x="51" y="252"/>
                    <a:pt x="71" y="269"/>
                    <a:pt x="86" y="285"/>
                  </a:cubicBezTo>
                  <a:cubicBezTo>
                    <a:pt x="98" y="320"/>
                    <a:pt x="83" y="288"/>
                    <a:pt x="111" y="315"/>
                  </a:cubicBezTo>
                  <a:cubicBezTo>
                    <a:pt x="142" y="345"/>
                    <a:pt x="165" y="380"/>
                    <a:pt x="208" y="394"/>
                  </a:cubicBezTo>
                  <a:cubicBezTo>
                    <a:pt x="261" y="429"/>
                    <a:pt x="230" y="417"/>
                    <a:pt x="305" y="424"/>
                  </a:cubicBezTo>
                  <a:cubicBezTo>
                    <a:pt x="335" y="432"/>
                    <a:pt x="366" y="440"/>
                    <a:pt x="396" y="448"/>
                  </a:cubicBezTo>
                  <a:cubicBezTo>
                    <a:pt x="408" y="451"/>
                    <a:pt x="432" y="460"/>
                    <a:pt x="432" y="460"/>
                  </a:cubicBezTo>
                  <a:cubicBezTo>
                    <a:pt x="436" y="464"/>
                    <a:pt x="439" y="470"/>
                    <a:pt x="444" y="473"/>
                  </a:cubicBezTo>
                  <a:cubicBezTo>
                    <a:pt x="449" y="476"/>
                    <a:pt x="458" y="475"/>
                    <a:pt x="462" y="479"/>
                  </a:cubicBezTo>
                  <a:cubicBezTo>
                    <a:pt x="468" y="485"/>
                    <a:pt x="469" y="495"/>
                    <a:pt x="474" y="503"/>
                  </a:cubicBezTo>
                  <a:cubicBezTo>
                    <a:pt x="487" y="524"/>
                    <a:pt x="501" y="532"/>
                    <a:pt x="523" y="539"/>
                  </a:cubicBezTo>
                  <a:cubicBezTo>
                    <a:pt x="529" y="545"/>
                    <a:pt x="534" y="552"/>
                    <a:pt x="541" y="557"/>
                  </a:cubicBezTo>
                  <a:cubicBezTo>
                    <a:pt x="552" y="566"/>
                    <a:pt x="577" y="582"/>
                    <a:pt x="577" y="582"/>
                  </a:cubicBezTo>
                  <a:cubicBezTo>
                    <a:pt x="586" y="636"/>
                    <a:pt x="586" y="703"/>
                    <a:pt x="602" y="751"/>
                  </a:cubicBezTo>
                  <a:cubicBezTo>
                    <a:pt x="606" y="818"/>
                    <a:pt x="612" y="864"/>
                    <a:pt x="626" y="927"/>
                  </a:cubicBezTo>
                  <a:cubicBezTo>
                    <a:pt x="628" y="963"/>
                    <a:pt x="629" y="1000"/>
                    <a:pt x="632" y="1036"/>
                  </a:cubicBezTo>
                  <a:cubicBezTo>
                    <a:pt x="633" y="1043"/>
                    <a:pt x="637" y="1048"/>
                    <a:pt x="638" y="1055"/>
                  </a:cubicBezTo>
                  <a:cubicBezTo>
                    <a:pt x="649" y="1150"/>
                    <a:pt x="640" y="1252"/>
                    <a:pt x="699" y="1334"/>
                  </a:cubicBezTo>
                  <a:cubicBezTo>
                    <a:pt x="710" y="1366"/>
                    <a:pt x="731" y="1387"/>
                    <a:pt x="759" y="1406"/>
                  </a:cubicBezTo>
                  <a:cubicBezTo>
                    <a:pt x="773" y="1427"/>
                    <a:pt x="787" y="1429"/>
                    <a:pt x="808" y="1443"/>
                  </a:cubicBezTo>
                  <a:cubicBezTo>
                    <a:pt x="812" y="1449"/>
                    <a:pt x="815" y="1456"/>
                    <a:pt x="820" y="1461"/>
                  </a:cubicBezTo>
                  <a:cubicBezTo>
                    <a:pt x="830" y="1470"/>
                    <a:pt x="902" y="1521"/>
                    <a:pt x="917" y="15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1800" y="533412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ight” p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ll Pointer De-Referencing: Sourc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ULL pointer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 = NULL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 for NU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(p == NULL) { /*…*/ }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ULL returned from another fun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 = my_function(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unction always return NUL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unction sometimes returns NUL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tant NULL is used (no path analysis is requi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*((int *)NULL) = 1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ll Pointer De-Referencing: Typ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icit derefer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-&gt;fie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*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ss pointer to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unc2(&amp;p-&gt;v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-504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will dereference for s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unc1(p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-504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may dere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440" y="1371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5240" y="26668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all M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5053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all M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ll Pointer Error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73120" y="1282680"/>
          <a:ext cx="8007480" cy="3484440"/>
        </p:xfrm>
        <a:graphic>
          <a:graphicData uri="http://schemas.openxmlformats.org/drawingml/2006/table">
            <a:tbl>
              <a:tblPr/>
              <a:tblGrid>
                <a:gridCol w="1384200"/>
                <a:gridCol w="1166760"/>
                <a:gridCol w="1905120"/>
                <a:gridCol w="857160"/>
                <a:gridCol w="1181160"/>
                <a:gridCol w="1513080"/>
              </a:tblGrid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s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unc mu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unc m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PD.CHECK.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PD.CONST.DERE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NPD.GEN.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NPD.FUNC.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ll m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ll m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PD.CHECK.CALL.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PD.CONST.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NPD.GEN.CALL.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PD.FUNC.CALL.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746360" y="4981680"/>
            <a:ext cx="59436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* - means MIGHT or MUST depending on path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LU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ACTIV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MUST Type is ACTIV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2680" y="1219320"/>
            <a:ext cx="1419840" cy="1001520"/>
            <a:chOff x="562680" y="1219320"/>
            <a:chExt cx="1419840" cy="1001520"/>
          </a:xfrm>
        </p:grpSpPr>
        <p:sp>
          <p:nvSpPr>
            <p:cNvPr id="174" name=""/>
            <p:cNvSpPr/>
            <p:nvPr/>
          </p:nvSpPr>
          <p:spPr>
            <a:xfrm>
              <a:off x="562680" y="17715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2920" y="12193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400" y="1276200"/>
              <a:ext cx="1397160" cy="94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mmary of Critical Code Defects Detec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750960"/>
            <a:ext cx="8610480" cy="51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2060640"/>
                <a:tab algn="l" pos="6361200"/>
                <a:tab algn="l" pos="7354800"/>
                <a:tab algn="l" pos="79772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fa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6361200"/>
                <a:tab algn="l" pos="7354800"/>
                <a:tab algn="l" pos="797724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ort Nam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io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verit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361200"/>
                <a:tab algn="l" pos="7354800"/>
                <a:tab algn="l" pos="79772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PD.GEN.MIGH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ull Pointer Dereference - possi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361200"/>
                <a:tab algn="l" pos="7354800"/>
                <a:tab algn="l" pos="79772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PD.GEN.MUS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ull Pointer Dereferenc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361200"/>
                <a:tab algn="l" pos="7354800"/>
                <a:tab algn="l" pos="79772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PD.GEN.CALL.MIGH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ull pointer may be passed to dereferncing functio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361200"/>
                <a:tab algn="l" pos="7354800"/>
                <a:tab algn="l" pos="79772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PD.GEN.CALL.MUS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ull pointer will be passed to dereferencing functio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361200"/>
                <a:tab algn="l" pos="7354800"/>
                <a:tab algn="l" pos="79772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361200"/>
                <a:tab algn="l" pos="7354800"/>
                <a:tab algn="l" pos="79772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361200"/>
                <a:tab algn="l" pos="7354800"/>
                <a:tab algn="l" pos="79772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0840" y="14288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0840" y="112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D.GEN.MUST – Null Pointer is Dereferenc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ointer is always dereferenced when it is NUL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nul_gen_must.c - NUL.GEN.MUST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x=NULL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*x='\0'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ull_gen_must.c:5:Critical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ull pointer 'x' that comes from line 4 will be dereferenced at line 5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4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D.GEN.MIGHT – Possible that a Null Pointer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referenc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is a possibility that a NULL pointer is dereferenc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nul_gen_might.c - NUL.GEN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=NULL, *y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(y!=NULL) x=y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*x='\0'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y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br>
              <a:rPr sz="20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ull_gen_might.c:6:Critical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ull pointer 'x' that comes from line 4 may be dereferenced at line 6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D.GEN.CALL.MIGHT – Null pointer may be passed to dereferncing fun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 pointer may be dereferenced when it is NULL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/* nul_gen_must.c - NUL.GEN.MUST */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id reassign(int *argument, int *p){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f (goodEnough(argument)) return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*argument = *p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 *getNull(){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id npd_gen_call_might(int *argument){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0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 *p = getNull()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1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f (someCondition()){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2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 = f()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3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4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assign(argument, p)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5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ssage: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null_gen_call_might.c:14:Critical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Null pointer 'p' that comes from call to function 'getNull' at line 10 may be passed to function and can be dereferenced there by passing argument 2 to function 'reassign' at line 14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D.GEN.CALL.MUST – Null pointer will be passed to dereferncing fun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pointer is always dereferenced when it is NUL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nul_gen_must.c - NUL.GEN.MUS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oid reassign(int *argument, int *p)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(goodEnough(argument)) return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*argument = *p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oid npd_gen_call_must(int *argument)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t *p = NULL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assign(argument, p)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ull_gen_call_must.c:8:Critical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ull pointer 'p' that comes from line 7 will be passed to function and can be dereferenced there by passing argument 2 to function 'reassign' at line 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01720"/>
            <a:ext cx="849024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de Problem Configuration File specifies the default behavior for the reporting of the code errors detected by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winspect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kwinfor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rules are specified in a Code Problem Configuration Fi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is a default rules file and custom files can be creat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default code problems profile is called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roblems_default.pconf.xm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ster copy is created by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wadmin setup 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KWPROJDI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i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KWPROJDI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projects_root/projects/workspace/ru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file is copied into the rules directory of the project when it is first creat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KWPROJDI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projects_root/projects/</a:t>
            </a:r>
            <a:r>
              <a:rPr b="0" i="1" lang="en-US" sz="2000" spc="-1" strike="noStrike">
                <a:solidFill>
                  <a:srgbClr val="000066"/>
                </a:solidFill>
                <a:latin typeface="Courier New"/>
              </a:rPr>
              <a:t>PROJEC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ru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mmary of Severe Code Defects Detec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6000" y="750960"/>
            <a:ext cx="8610480" cy="51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fa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ort Nam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io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verit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NH.MIGH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Non-Heap Memory - possib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NH.MUS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Non-Heap Memory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.INCONSISTEN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Inconsistent Freeing of Memory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UM.GEN.MIGH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Unallocated Memory - possib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UM.GEN.MUS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Unallocated Memory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UM.ZERO.MIGH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null pointer - possib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UM.ZERO.MUS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null pointer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CRE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unction returns reference to local varia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DEREF.MIGH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 of free memory (access) - possi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DEREF.MUS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 of Freed Memory by Pointer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FFM.MIGH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 of free memory (double free) - possi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FFM.MUS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reeing Freed Memory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PARAMPASS.MIGH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 of free memory (passed parameter) - possi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PARAMPASS.MUS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 of Freed Memory as Passed Parameter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RETURN.MIGH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 of freed memory (return) - possi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RETURN.MUS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 of Freed Memory on Retur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USE.MIGH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 of free memory - possi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332080"/>
                <a:tab algn="l" pos="6361200"/>
                <a:tab algn="l" pos="726264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FM.USE.MUS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 of Freed Memory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0840" y="1390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0840" y="108576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NH.MUST – Stack Memory is Dealloca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allocated memory is being fre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nh_must.c - FNH.MUS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x, *y=&amp;x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y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nh_must.C:5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reeing of non-heap memory from 'y'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mory referenced by 'y' came from line 4 is illegally freed by passing argument 1 to function 'free' at line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NH.MIGHT – Stack Memory is Dealloca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allocated memory is being fre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nh_might.c - FNH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char x, *y=(char *)malloc(sizeof(char));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 if (y==NULL) y=&amp;x;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y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nh_might.C:6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ossible freeing of non-heap memory from 'y'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mory referenced by 'y' came from line 5 is illegally freed by passing argument 1 to function 'free' at line 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EE.INCONSISTENT – Inconsistent Freeing of Memor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onsistent Freeing of 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/* free_inc.C - FREE.INCONSISTENT *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void my_free(char *p, int flag) 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       if (flag==17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       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               p=NULL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               return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       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       if (flag == 34) return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        free(p)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10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free_inc.C:9:Sever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Memory pointed by 'p' is freed at this point, but this memory is not freed upon function exits at line(s) 6, 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M.GEN.MIGHT – Freeing Unallocated Memory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3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allocated memory is being fre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fum_gen_might.c – FUM.GEN.MIGHT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har *x=(char *)malloc(sizeof(char));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if (x==NULL) x=“\0”;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free(x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um_gen_might.c:6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ossible freeing of unallocated memory from 'x'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mory referenced by 'x' assigned on line 5 was freed by passing argument 1 to function 'free' at line 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M.GEN.MUST – Freeing Unallocated Memory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833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allocated memory is being fre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fum_gen_must.c – FUM.GEN.MUST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har *x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=“\0”;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e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x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um_must.c:5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reeing of unallocated memory from 'x'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mory referenced by 'x' assigned on line 4 was freed by passing argument 1 to function 'free' at line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M.ZERO.MIGHT – Freeing Unallocated Memory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3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eing Null Pointer – possi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um_zero_might.c – FUM.ZERO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dosmth(void *)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f(int size)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void *p = NULL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if (size &gt; 0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{ 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p = malloc(size);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}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dosmth(p, size);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10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free(p)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11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fum_zero_might.C:10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Freeing null from p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emory referenced by 'p' on line 4 was freed by passing argument 1 to function 'free' at line 1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M.ZERO.MUST – Freeing Unallocated Memory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3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eeing Null Poin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fum_zero_must.c – FUM.ZERO.MUST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har *x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=NULL;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e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x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fum_zero_must.c:5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Freeing null from x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emory referenced by 'x' on line 4 was freed by passing argument 1 to function 'free' at line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CRET– Function Returns Reference to Loc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address of a stack variable is returned by a func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locret_might.c – LOCRET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f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x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&amp;x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x=f(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*x='\0'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10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ret.c:4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unction returns reference to local vari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DEREF.MIGHT – Possible that Deallocated Memory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Dereferenc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is a possibility that previously deallocated memory is dereferenc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ufm_deref_might.c - UFM.DEREF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, *y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(y==NULL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1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x=y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y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*x='\0'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10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fm_deref_might.c:8:Sever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reference of freed memory pointed by 'x'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bject 'x' declared at line 4 was used at line 8 after being freed by passing argument 1 to function 'free' at line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the Code Problems Configuration 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120" y="820440"/>
            <a:ext cx="891036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ntents of the code problems configuration file are viewed and edited in an advanced edit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o edit the code problems configuration file open the “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System Configuration Files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” and select “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problems_default.pconf.xml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ight click to bring up a dialog and select “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Edit in advanced editor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98920" y="2365200"/>
            <a:ext cx="52830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DEREF.MUST –Deallocated Memory is Dereferenc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viously deallocated memory is dereferenc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ufm_deref_must.c - UFM.DEREF.MUST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free(x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*x='\0'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fm_deref_must.c:6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reference of freed memory pointed by 'x'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declared at line 4 was used at line 6 after being freed by passing argument 1 to function 'free' at line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FFM.MIGHT – Possibly that Deallocated Memory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alloca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is a possibility that deallocated memory is deallocated agai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ufm_ffm_might.c - UFM.FFM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(x!=NULL) free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fm_ffm_might.c:6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ouble freeing of freed memory pointed by 'x'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declared at line 4 was used at line 6 after being freed by passing argument 1 to function 'free' at line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FFM.MUST – Freeing Freed Memor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ttempt to Use Memory after Fre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/* ufm_ffm_must.c - UFM.FFM.MUS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fm_ffm_must.c:6:Sever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ouble freeing of freed memory pointed by 'x'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bject 'x' declared at line 4 was used at line 6 after being freed by passing argument 1 to function 'free' at line 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PARAMPASS.MUST – Deallocated Memory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ssed to Fun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pointer to deallocated memory is passed to a func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ufm_parampass_must.c - UFM.PARAMPASS.MUS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f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) {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(x!=NULL) *x='\0';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fm_parampass_must.c:7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ssing 'x' as parameter after its value was freed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declared at line 5 was used at line 7 after being freed by passing argument 1 to function 'free' at line 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PARAMPASS.MIGHT – Deallocated Memory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ssed to Fun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of Freed Memory as Passed Parameter – possi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ufm_parampass_must.c - UFM.PARAMPASS.MUS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f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) {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(x!=NULL) *x='\0';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If (x!=NULL) free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fm_parampass_might.c:7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ssing 'x' as parameter after its value was freed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declared at line 5 was used at line 7 after being freed by passing argument 1 to function 'free' at line 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RETURN.MUST –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allocated Memory is Return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om Fun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allocated memory is returned from a func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ufm_return_must.c - UFM.RETURN.MUS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*f(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*x) {free(x);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x;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)), *y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y=f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fm_return_must.c:3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is returned after it was freed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declared at line 3 was used at line 3 after being freed by passing argument 1 to function 'free' at line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340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RETURN.MIGHT –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allocated Memory is Return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om Fun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of Freed Memory on Return – possi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ufm_return_might.c - UFM.RETURN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*f(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*x) {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if (x!=NULL)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free(x);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x;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)), *y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y=f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fm_return_might.c:3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is returned after it was freed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declared at line 3 was used at line 3 after being freed by passing argument 1 to function 'free' at line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USE.MIGHT – Possible that Deallocated Memory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is a possibility that deallocated memory is us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ufm_use_might.c - UFM.USE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(x!=NULL) free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x++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fm_use_might.c:6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is used after it was freed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declared at line 4 was used at line 6 after being freed by passing argument 1 to function 'free' at line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FM.USE.MUST –  Deallocated Memory is Us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allocated memory is us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ufm_use_must.c - UFM.USE.MUS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x++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fm_use_must.c:6:Sev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is used after it was freed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 'x' declared at line 4 was used at line 6 after being freed by passing argument 1 to function 'free' at line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mmary of Error Code Defects Detec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02880"/>
            <a:ext cx="86104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fa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hort Name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scription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verity=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CHECK.CALL.MIGHT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ointer may be passed to function that can dereference it after it was positively checked for NUL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CHECK.CALL.MUST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ointer will be passed to function that may dereference it after it was positively checked for NUL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CHECK.MIGHT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ointer may be dereferenced after it was positively checked for NULL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CHECK.MUST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ointer will be dereferenced after it was positively checked for NULL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CONST.CALL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ULL is passed to function that can dereference it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CONST.DEREF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ULL is dereferenced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FUNC.CALL.MIGHT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sult of function that may return NULL may be passed to another function that may dereference i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FUNC.CALL.MUST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sult of function that may return NULL will be passed to another function that may dereference i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FUNC.MIGHT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sult of function that can return NULL may be dereferenced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PD.FUNC.MUST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sult of function that may return NULL will be dereferenced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NPD.CALL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uspicious dereference of pointer in function call before NULL check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NPD.DEREF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uspicious pointer de-ref before NULL check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0840" y="1467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0840" y="112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the Code Problems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Klocwork Configuration Editor is display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57320" y="1509840"/>
            <a:ext cx="70581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mmary of Error Code Defects Detec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6000" y="750960"/>
            <a:ext cx="8610480" cy="51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fa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ort Nam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io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verit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MM.MIGH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Mismatched Memory - possib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C++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MM.MUS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Mismatched Memory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C++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UNCRET.GEN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Non-void function does not return valu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MLK.MIGH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Memory Leak - possib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MLK.MUS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Memory Leak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.HEAP.MIGH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ialized Heap Use - possib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.HEAP.MUS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ialized Heap Us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.STACK.MIGH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ialized Variable - possib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.STACK.MUS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ialized Variab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.CTOR.MIGH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ialized Variable in Constructor - possibl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.CTOR.MUS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Uninitialized Variable in Constructor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TER.CONTAINER.MODIFIED Use of invalid iterator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TER.END.DEREF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reference of 'end' iterator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UM.BIN.MUS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ptr, might be result of arithmetic operation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UM.BIN.MIGH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reeing ptr, is result of arithmetic operation 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0840" y="14288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0840" y="112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MM.MIGHT – Possible that Allocated Memory is L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eing Mismatched Memory – possi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mm_might.c - FMM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int *x=new in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(x==NULL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x=(int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int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delet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fmm_might.CPP:7:Erro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Possible freeing of mismatched memory from 'x'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emory referenced by 'x' allocated through function 'malloc' at line 6 is illegally freed by passing argument 1 to function 'delete' at line 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MM.MUST –Allocated Memory is L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eing Mismatched 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mm_might.c - FMM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har *x=(char *)malloc(sizeof(char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delet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fmm_must.C:5:Erro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Freeing mismatched memory from 'x'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emory referenced by 'x' allocated through function 'malloc' at line 4 is illegally freed by passing argument 1 to function 'delete' at line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NCRET.GEN – No return from non-void fun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n-void function does not return val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uncret_gen.c - FUNCRET.GEN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har *f() {char *x=(char *)malloc(sizeof(char));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har *x = f(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f (x!=NULL) *x='\0'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funcret_must.c:3:Erro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Non-void function does not return val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LK.MIGHT – Possible that Allocated Memory is L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is a possibility that allocated memory is los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mlk_might.c - MLK.MIGHT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x="\0", *y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(x!=NULL) y=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lk_might.c:6:Erro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mory leak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ynamic memory stored in 'y' allocated through function 'malloc' at line 5 is lost at line 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LK.MUST – Allocated Memory is L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ocated memory is los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mlk_must.c - MLK.MUS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="\0", *y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(x!=NULL) y=x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lk_must.c:5:Erro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mory leak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ynamic memory stored in 'y' allocated through function 'malloc' at line 4 is lost at line 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NIT.HEAP.MIGHT – Possible Uninitialized Heap U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initialized Heap Use - possib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uninit_heap_might.c - UNINIT.HEAP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truct s{ int i; 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t f(int t)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   struct s *v = malloc(sizeof(struct s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   if (t &gt; 0){    v-&gt;i = t;  }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   return v-&gt;i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uninit_heap_might.c:6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Error:'v-&gt;i' may get its value from uninitialized heap memory are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NIT.HEAP.MUST – Uninitialized Heap U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initialized Heap Use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/* uninit_heap_must.c - UNINIT.HEAP.MUST *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#include&lt;stdlib.h&gt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ypedef struct {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 x; 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 y;}S1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ypedef struct {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1* ptr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 z;}S2;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09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id main() {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0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    S2* main_ptr = malloc(100);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1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    if(main_ptr != NULL) fun1(main_ptr-&gt;ptr);  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2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    free(main_ptr);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3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b2b2b2"/>
                </a:solidFill>
                <a:latin typeface="Courier New"/>
              </a:rPr>
              <a:t>0014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id fun1(S1* local_ptr){  int k = local_ptr-&gt;x;}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ff"/>
                </a:solidFill>
                <a:latin typeface="Arial"/>
              </a:rPr>
              <a:t>uninit_heap_must.c:11:Error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ff"/>
                </a:solidFill>
                <a:latin typeface="Arial"/>
              </a:rPr>
              <a:t>'main_ptr-&gt;ptr' gets its value from uninitialized heap memory area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NIT.STACK.MIGHT – Possible Uninitialized Variab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initialized Variable - possib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uninit_stack_might.c - UNINIT.STACK.MIGH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#include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char *x, *y=(char *)malloc(sizeof(char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if (y!=NULL) x=y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x++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return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77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uninit_stack_might.c:6:Erro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'x' might be used uninitialized in this fun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NIT.STACK.MUST –Uninitialized Variab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initialized Variab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uninit_stack_must.c - UNINIT.STACK.MUST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char *x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x++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return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uninit_stack_must.c:4:Erro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'x' is used uninitialized in this fun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– Enabling Defec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42184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entire category of defects is enabled/disabled by selecting/unselecting that categor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l defects in all categories can be selected/unselected using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lect Al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or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eselect Al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8280" y="2257560"/>
            <a:ext cx="62042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4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PND – Suspicious dereference of point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spicious dereference of pointer before NULL chec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/* rpnd.c - RPND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id f_1(int* t, int v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*t = 0;  // SUSPICIOUS  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(v &lt; 0) v = -v;  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(t) *t = v;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pnd.c:4:Critical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spicious dereference of pointer 't' before NULL check at line 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mmary of Unexpected Code Defects Detec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6000" y="750960"/>
            <a:ext cx="8610480" cy="51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fa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00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ort Nam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io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verit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SSIGCOND.BOOL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ssignment in condition (Boolean)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C++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SSIGCOND.CALL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ssignment in condition (call)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SSIGCOND.GEN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Assignment in condition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UNCRET.IMPLICI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Non-void function implicitly returning int does no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RETVOID.GEN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Non-void function returns void valu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RETVOID.IMPLICI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Implicitly int function returns void valu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SEMICOL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Suspiciously placed semicolon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VOIDRET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Void function returns value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TER.CONTAINER.INAPPROPRIATE Inappropriate use of ianother iterator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REACH.GE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de is Unreacha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2060640"/>
                <a:tab algn="l" pos="6100920"/>
                <a:tab algn="l" pos="7083360"/>
                <a:tab algn="l" pos="788832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0840" y="14288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0840" y="112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ASSIGCOND.BOOL – Assignment in Condition (Bool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An assignment operator is used in a condi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/* assigcond_bool_must.c -- ASSIGCOND.BOOL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333399"/>
                </a:solidFill>
                <a:latin typeface="Courier New"/>
              </a:rPr>
              <a:t>bool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x=false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(x=false) x=true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ff"/>
                </a:solidFill>
                <a:latin typeface="Arial"/>
              </a:rPr>
              <a:t>assigcond_bool_must.C:4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ff"/>
                </a:solidFill>
                <a:latin typeface="Arial"/>
              </a:rPr>
              <a:t>Unexpected:Assignment in boolean cond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Note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Place the assignment in parenthesis if it is meant to be intentiona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160" y="76320"/>
            <a:ext cx="8578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COND.CALL– Assignment in Condition (Call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An assignment operator is used in a condition to assign the return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value of a function to a variabl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/* assigcond_call_must.c -- ASSIGCOND.CALL *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&lt;stdlib.h&g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char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*f() {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(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char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*)malloc(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sizeof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(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char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));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char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*x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(x=f()) *x='\0'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(0)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99ff"/>
                </a:solidFill>
                <a:latin typeface="Arial"/>
              </a:rPr>
              <a:t>assigcond_call_must.c:6:Unexpected:Assignment in condition, cal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Note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Place the assignment in parenthesis if it is meant to be intentiona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COND.GEN – Assignment in Condi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An assignment operator is used in a condi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/* assigcond_gen.c -- ASSIGCOND.GEN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333399"/>
                </a:solidFill>
                <a:latin typeface="Courier New"/>
              </a:rPr>
              <a:t>char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x='0'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(x='0') x='1'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ff"/>
                </a:solidFill>
                <a:latin typeface="Arial"/>
              </a:rPr>
              <a:t>assigcond_must.c:4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ff"/>
                </a:solidFill>
                <a:latin typeface="Arial"/>
              </a:rPr>
              <a:t>Unexpected:Assignment in cond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Note: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Place the assignment in parenthesis if it is meant to be intentiona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UNCRET.IMPLICIT– Implicit Function Value Not Return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function implicitly returning int does not return a val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funcret_implicit_must.c - FUNCRET.IMPLICIT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x) {*x='\0';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x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    f(&amp;x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funcret_implicit_must.c:3:Unexpecte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Function implicitly returning int does not return val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VOID.GEN – Non-Void Function Returns Voi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non-void function does not return a val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retvoid_must.c - RETVOID.GEN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f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x) {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(x==NULL)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x;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x="\0"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(f(x)=='\0') *x='0'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retvoid_must.c:3:Unexpect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Non-void function returns void valu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VOID.IMPLICIT– Implicit Function Returns Voi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implicit int function does not return an in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/* retvoid_implicit_must.c - RETVOID.IMPLICIT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*x) {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(x!=NULL)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; *x='\0';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x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f(&amp;x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retvoid_implicit_must.c:3:Unexpecte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Implicitly non-void function returns void val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MICOL–  Misplaced Semicol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emi-colon is misplac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semicol_must.c - SEMICOL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x=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*)malloc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zeo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(x!=NULL); *x='\0'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free(x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ff"/>
                </a:solidFill>
                <a:latin typeface="Arial"/>
              </a:rPr>
              <a:t>semicol_must.c:5:Unexpecte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ff"/>
                </a:solidFill>
                <a:latin typeface="Arial"/>
              </a:rPr>
              <a:t>Suspiciously placed semicol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OIDRET – Void Function Returns a Val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rror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function that should return nothing returns a val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123456789012345678901234567890123456789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1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/* voidret_must.c - VOIDRET. *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2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&lt;stdlib.h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3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f(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*x) {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(x!=NULL) 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(*x);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4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5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char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*x="\0"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6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   f(x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7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(0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b2b2b2"/>
                </a:solidFill>
                <a:latin typeface="Courier New"/>
              </a:rPr>
              <a:t>0008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ssage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ff"/>
                </a:solidFill>
                <a:latin typeface="Arial"/>
              </a:rPr>
              <a:t>voidret_must.c:3:Unexpecte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ff"/>
                </a:solidFill>
                <a:latin typeface="Arial"/>
              </a:rPr>
              <a:t>void function returns val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– Enabling Defec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individual defect can be enabled/disabled by selecting/unselecting that def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03400" y="1671480"/>
            <a:ext cx="693720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mmary of Investigate Code Defects Detec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881360"/>
                <a:tab algn="l" pos="610092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fa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881360"/>
                <a:tab algn="l" pos="610092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ort Nam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fault Descriptio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verit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1881360"/>
                <a:tab algn="l" pos="610092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PAR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alid pointer arithmetic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1881360"/>
                <a:tab algn="l" pos="610092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A_UNUSE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abel unuse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1881360"/>
                <a:tab algn="l" pos="610092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REACH.BREAK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reachable break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1881360"/>
                <a:tab algn="l" pos="610092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REACH.RETURN0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reachable simple retur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1881360"/>
                <a:tab algn="l" pos="610092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REACH.RETUR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reachable Void Retur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5840" y="1363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7040" y="16891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mmary of Review Code Defects Detect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fa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ort Nam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fault Descriptio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verit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abl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FFEC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tatement has no effec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ECISION.LOS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ss of Precision in conversio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V_UNUSED.DEA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cal variable (dead code)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V_UNUSED.GE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cal variable unuse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_UNUSED.DEA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rameter unused (dead code)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_UNUSED.GE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rameter unuse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VA_UNUSED.GE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Value is Never Used after Assignmen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VA_UNUSED.INI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Value is Never Used after Initializatio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VA_UNUSED.INITCONS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Variable unused (constant)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.DEFAUL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 Entity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.FUNCTIO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 Function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.VARIA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 Variabl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.NAMESPAC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 Namespac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333520"/>
                <a:tab algn="l" pos="555480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TAL of 40 other “UNUSED.???”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8440" y="16160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8680" y="130176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scriptions of Code Defec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0600" y="9234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tailed descriptions of code defects are available for any defect from a link in the attributes dialog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28680" y="1708200"/>
            <a:ext cx="3504960" cy="347040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1855800" y="2286000"/>
            <a:ext cx="7072200" cy="3772080"/>
            <a:chOff x="1855800" y="2286000"/>
            <a:chExt cx="7072200" cy="3772080"/>
          </a:xfrm>
        </p:grpSpPr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3873600" y="2286000"/>
              <a:ext cx="5054400" cy="37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855800" y="3008160"/>
              <a:ext cx="348444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72520" y="764640"/>
            <a:ext cx="8666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rpose: To use the default profile to analyze a Critical erro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rt the KM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di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roblems_default.pconf.xm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 the System Configuration Files with the Advanced Edito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a critical error, e.g.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NPD.GEN.MUS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nd edit it to display the defect attributes dialog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the “Error Description” link to display the help for the defec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py the code example for the defect and paste it into a source file named after the defect in a directory under C:, e.g.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:\NPD_GEN_MUST\npd_gen_must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the KMC to create a project for the defect analysis, e.g.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npd_gen_mus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and specify the directory of source file you just saved, e.g.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:\NPD_GEN_MUS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and build the projec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unch a web browser and open http://localhost:8064, login as your name with any passwor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Manage Defects and open build_1 of the project you created and bui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s Generate List to see the defects for the exampl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on Scenari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mon scenarios are presented and examples shown for eac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de Problems Rules Fi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reating a Custom Code Problem Configuration F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mporting a Custom Code Problem Configuration F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leting a Custom Code Problem Configuration Fil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ing a Custom Code Problems Configuration F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ewing the Code Probl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Function Behaviour Knowledge Bas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Creating a FBK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Manually Creating a FBK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Importing a FBK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Viewing the FBK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Code Problem Configuration 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1297080"/>
            <a:ext cx="8175600" cy="14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are occasions when the use of a custom code problems configuration file by the user is warra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 those cases a custom code problems configuration file can be created using the default as a gu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Code Problem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1280" y="896400"/>
            <a:ext cx="839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reference copy of the default settings is obtained by copying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KWPROJDIR\projects\workspace\rules\problems_default.pconf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om the server and saving a local copy a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:\sqlcmd\the_problems_default.pconf.xm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backup copy should also be created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\sqlcmd\a_problems_default.pconf.x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84640" y="2782800"/>
            <a:ext cx="556092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Code Problem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8172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 modify the default settings of a customer code problem configuration file create a new C/C++ project, calle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_custom_configuration_fi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658960" y="1755720"/>
            <a:ext cx="6255000" cy="4692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467240" y="1920960"/>
            <a:ext cx="4251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Custom Code Problem Configuration 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ort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\sqlcmd\a_problems_default.pconf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ile into the project using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M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wadmi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pe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ojec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enu 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mport Configuration Fi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892600" y="2100240"/>
            <a:ext cx="554328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Code Problem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rowse to the custom configuration file and select i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mpor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33400" y="1868400"/>
            <a:ext cx="74772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– Error Configur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1280" y="82080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detailed properties for a defect can be chang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an error and press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di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butt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27240" y="1514520"/>
            <a:ext cx="7124760" cy="44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Code Problem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 change the settings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_problems_default.pconf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Edit in the Advanced Edit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68600" y="1619280"/>
            <a:ext cx="63324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66720" y="1905120"/>
            <a:ext cx="6478560" cy="40496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Code Problem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55480" y="8157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dit the custom configuration file to remove code problems, alter message text or change Error/Warning/Hidden preferenc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ave the new setting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543480" y="1638360"/>
            <a:ext cx="5181480" cy="43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a Custom Code Problem Configuration 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3760" y="786960"/>
            <a:ext cx="8461440" cy="19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ustom configuration file has been saved on the Klocwork serv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py the altered configuration file from the server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KWPROJDIR\projects\a_custom_configuration_file\rules\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_problems_default.pconf.xm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 a local fi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:\sqlcmd\sqlcmd_problems_default.pconf.xm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192480" y="2629080"/>
            <a:ext cx="5537160" cy="37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Custom Code Problem Configuration 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custom configuration file can be imported into a project to be used instead of the default setting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652840" y="1967040"/>
            <a:ext cx="60926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Custom Code Problem Configuration File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-button over the project name and select Import Configuration Fi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828880" y="1628640"/>
            <a:ext cx="600408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Custom Code Problem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rowse to the custom configuration file and select i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mpor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42880" y="1866960"/>
            <a:ext cx="74772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Custom Code Problem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ustom code problems configuration file is imported into the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t appears under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figuration Fil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tree and under the tab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711520" y="1792440"/>
            <a:ext cx="592128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ferencing your PCONF file remotel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ing your PCONF file on the server also needs to be reflected on the analysis machin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launching inForce, these files are copied from the server to your machine in order to run the analys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When launching a build, an automated solution is not yet availab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5000" indent="-285480">
              <a:spcBef>
                <a:spcPts val="45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is means you need to make sure that you copy any changes to your PCONF files onto a SHARED disk that other build machines can rea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ing a Code Problem Configuration 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 button over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oblem_defaults.pconf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i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elet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and confirm the dele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811600" y="1790640"/>
            <a:ext cx="60674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ing a Code Problem Configuration File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nfiguration file is remov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827440" y="164628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de Problem Configuration File – Error Configur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dialog is displayed with the properties of the def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17720" y="1411200"/>
            <a:ext cx="481968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Code Problems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-button over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Build Set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859120" y="1770120"/>
            <a:ext cx="581184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Code Problems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ame the buil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ustom_Code_Problem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119400" y="1409760"/>
            <a:ext cx="50007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Code Problems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2240" y="990720"/>
            <a:ext cx="876600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Use Pre-built Klocwork Tab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rowse to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KWPROJDIR/projects_root/projects/sqlcmd/builds/build_1/tabl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33880" y="2209680"/>
            <a:ext cx="4249440" cy="404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Code Problems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5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select all options excep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how full file paths, Show unmatched rules, Detail all occurrences of usage rules violation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int verbose messages during execu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359160" y="2147760"/>
            <a:ext cx="523872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Code Problems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problems_default.pconf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l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nis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906640" y="1776240"/>
            <a:ext cx="523872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Custom Code Problems Configuration Fi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it for the build to complet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625840" y="1658880"/>
            <a:ext cx="6168960" cy="46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a Problems Configuration File Remotel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previous examples work fine when the build is being launched from the same machine where the Klocwork Services are running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launched from a remote machine, builds will, by default, simply reference the default Problem-configurations file that is found within the installa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fore, it is important to ensure that you copy any KMC configuration changes onto a shared disk where builds can reference these fi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TE:  With 7.1XG, inForce will copy configuration files over for each execution, but not yet implemented for build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the Code Problem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pen the Klocwor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oject Centr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expand the project to view the builds.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strict to Selected Categori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che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ategori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xtended Li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Pres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enerate Li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516040" y="1803240"/>
            <a:ext cx="629604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the Code Problems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de problems are displayed in the custom forma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421000" y="1506600"/>
            <a:ext cx="6514920" cy="47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ewing the Code Problems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880" y="85104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ach code problems can be view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magnifying glass icon for the first err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433600" y="1639800"/>
            <a:ext cx="6515280" cy="472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4:26:07Z</dcterms:created>
  <dc:creator>Tom MacKenzie</dc:creator>
  <dc:description/>
  <dc:language>en-US</dc:language>
  <cp:lastModifiedBy>Mark Grice</cp:lastModifiedBy>
  <dcterms:modified xsi:type="dcterms:W3CDTF">2006-10-18T03:03:05Z</dcterms:modified>
  <cp:revision>950</cp:revision>
  <dc:subject/>
  <dc:title>Working with Code Problem Reporting</dc:title>
</cp:coreProperties>
</file>