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A166-6815-41F9-B69A-7CE4BE8B9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463C-00E1-4AA0-8437-752342018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17EE-334D-489B-93C2-DD35E0988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8CCC-9E6C-4443-AC00-A35E4E60D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506D-EEBD-40FF-8572-2C92B0D41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89D4-7828-46C6-89AE-1E96A9DDC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F8C5-2419-4ECA-80E3-D0FF6195F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5891-77B2-4597-9634-B04483405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37AC-A035-4AF6-A281-F0757F453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AB22-6726-45F3-BC66-59DC21006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BD4A-413D-4B80-B714-E58D2305D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6CC6-2B6D-466E-960F-B4A0CE9BB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7320" y="6692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1440-06C9-42B7-8955-EE154A542090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BDDD-528B-4469-A966-54CFD350134E}" type="datetime2">
              <a:rPr b="0" lang="en-US" sz="800" spc="-1" strike="noStrike">
                <a:solidFill>
                  <a:srgbClr val="000066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king with Include Problems Reporting – K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C_TRANS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 - Usage of symbol has a transitive </a:t>
            </a:r>
            <a:br>
              <a:rPr sz="2400"/>
            </a:b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dependency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_trans.c;3;-1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rning;7;INCLUDE_BASE;INC_TRANS;Warning;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_trans.c,header.h;For file 'inc_trans.c' header 'header.h' must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e directly included due to usage of object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'header.h:{TYPE}aType'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rcise 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toolbu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proj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reate a custom include problem configuration file that only reports include errors and import it into the project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form a build using only the custom include problem configuration file to show only the include errors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spect the results in Project Centr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king with Include Problems Report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include problems are discussed in detail with emphasis on the code that causes the problem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practical exercise in the include problem analysis configuration and the generation and inspection of include problem reports is provid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mmary of Include Problems Detect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440" y="914400"/>
            <a:ext cx="880128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1787400"/>
                <a:tab algn="l" pos="6551640"/>
                <a:tab algn="l" pos="780588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hort Nam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fault Descriptio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faul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abl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1787400"/>
                <a:tab algn="l" pos="6551640"/>
                <a:tab algn="l" pos="780588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C_CONTEX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Usage of symbol has a contextual dependency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Warning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1787400"/>
                <a:tab algn="l" pos="6551640"/>
                <a:tab algn="l" pos="780588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C_EXTRA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No symbols used from header fil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Review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1787400"/>
                <a:tab algn="l" pos="6551640"/>
                <a:tab algn="l" pos="780588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C_TRANS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Usage of symbol has a transitive dependency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Review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1787400"/>
                <a:tab algn="l" pos="6551640"/>
                <a:tab algn="l" pos="780588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1787400"/>
                <a:tab algn="l" pos="6551640"/>
                <a:tab algn="l" pos="780588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2492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4464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clude Problems Related to C/C++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s are provided for the include problems applicable to C and C++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4880" y="76320"/>
            <a:ext cx="87627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C_CONTEXT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 - Usage of symbol has a contextual </a:t>
            </a:r>
            <a:br>
              <a:rPr sz="2400"/>
            </a:b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dependenc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028880"/>
            <a:ext cx="82296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symbol is used from a file that has a contextual dependenc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56000" y="3730680"/>
            <a:ext cx="2619360" cy="210204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head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type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Typ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83280" y="3730680"/>
            <a:ext cx="2741040" cy="210204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header1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1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1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extern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Type 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5800" y="3730680"/>
            <a:ext cx="3032280" cy="210204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ILE: inc_tran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"header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"header1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main 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aType x=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737240" y="3165480"/>
            <a:ext cx="2539800" cy="434160"/>
            <a:chOff x="4737240" y="3165480"/>
            <a:chExt cx="2539800" cy="434160"/>
          </a:xfrm>
        </p:grpSpPr>
        <p:grpSp>
          <p:nvGrpSpPr>
            <p:cNvPr id="96" name=""/>
            <p:cNvGrpSpPr/>
            <p:nvPr/>
          </p:nvGrpSpPr>
          <p:grpSpPr>
            <a:xfrm>
              <a:off x="4737240" y="3165480"/>
              <a:ext cx="2539800" cy="304560"/>
              <a:chOff x="4737240" y="3165480"/>
              <a:chExt cx="2539800" cy="304560"/>
            </a:xfrm>
          </p:grpSpPr>
          <p:sp>
            <p:nvSpPr>
              <p:cNvPr id="97" name=""/>
              <p:cNvSpPr/>
              <p:nvPr/>
            </p:nvSpPr>
            <p:spPr>
              <a:xfrm>
                <a:off x="4844880" y="3452760"/>
                <a:ext cx="22845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737240" y="3178080"/>
                <a:ext cx="107640" cy="27936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129440" y="3165480"/>
                <a:ext cx="147600" cy="30456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221800" y="3262320"/>
              <a:ext cx="1572120" cy="337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ssing incl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903960" y="2244600"/>
            <a:ext cx="7312680" cy="910080"/>
            <a:chOff x="903960" y="2244600"/>
            <a:chExt cx="7312680" cy="910080"/>
          </a:xfrm>
        </p:grpSpPr>
        <p:sp>
          <p:nvSpPr>
            <p:cNvPr id="102" name=""/>
            <p:cNvSpPr/>
            <p:nvPr/>
          </p:nvSpPr>
          <p:spPr>
            <a:xfrm>
              <a:off x="903960" y="2786400"/>
              <a:ext cx="1284120" cy="368280"/>
            </a:xfrm>
            <a:prstGeom prst="rect">
              <a:avLst/>
            </a:prstGeom>
            <a:solidFill>
              <a:srgbClr val="c7c9f8">
                <a:alpha val="50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_trans.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10280" y="2786400"/>
              <a:ext cx="1206360" cy="368280"/>
            </a:xfrm>
            <a:prstGeom prst="rect">
              <a:avLst/>
            </a:prstGeom>
            <a:solidFill>
              <a:srgbClr val="c7c9f8">
                <a:alpha val="50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1.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20840" y="2786400"/>
              <a:ext cx="1080000" cy="368280"/>
            </a:xfrm>
            <a:prstGeom prst="rect">
              <a:avLst/>
            </a:prstGeom>
            <a:solidFill>
              <a:srgbClr val="c7c9f8">
                <a:alpha val="50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.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211480" y="2803320"/>
              <a:ext cx="1727280" cy="337320"/>
              <a:chOff x="2211480" y="2803320"/>
              <a:chExt cx="1727280" cy="337320"/>
            </a:xfrm>
          </p:grpSpPr>
          <p:sp>
            <p:nvSpPr>
              <p:cNvPr id="106" name=""/>
              <p:cNvSpPr/>
              <p:nvPr/>
            </p:nvSpPr>
            <p:spPr>
              <a:xfrm>
                <a:off x="2211480" y="2971800"/>
                <a:ext cx="17272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611080" y="2803320"/>
                <a:ext cx="9273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inclu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562040" y="2244600"/>
              <a:ext cx="6019560" cy="523800"/>
              <a:chOff x="1562040" y="2244600"/>
              <a:chExt cx="6019560" cy="523800"/>
            </a:xfrm>
          </p:grpSpPr>
          <p:sp>
            <p:nvSpPr>
              <p:cNvPr id="109" name=""/>
              <p:cNvSpPr/>
              <p:nvPr/>
            </p:nvSpPr>
            <p:spPr>
              <a:xfrm>
                <a:off x="1563840" y="2412720"/>
                <a:ext cx="60051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01840" y="2244600"/>
                <a:ext cx="9273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inclu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1562040" y="2412720"/>
                <a:ext cx="0" cy="3556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581600" y="2412720"/>
                <a:ext cx="0" cy="3430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5103720" y="2801880"/>
            <a:ext cx="1897200" cy="337320"/>
            <a:chOff x="5103720" y="2801880"/>
            <a:chExt cx="1897200" cy="337320"/>
          </a:xfrm>
        </p:grpSpPr>
        <p:sp>
          <p:nvSpPr>
            <p:cNvPr id="114" name=""/>
            <p:cNvSpPr/>
            <p:nvPr/>
          </p:nvSpPr>
          <p:spPr>
            <a:xfrm>
              <a:off x="5103720" y="2970000"/>
              <a:ext cx="189720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36360" y="2801880"/>
              <a:ext cx="1230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uses a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C_CONTEXT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 - No symbols used from header fi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eader1.h;3;-1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;3;INCLUDE_BASE;INC_CONTEXT;Error;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eader1.h,header.h;File 'header1.h' contextually uses 'header.h',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t must be directly included due to usage of object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'header.h:{TYPE}aType' otherwise this file is not self-compila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4880" y="76320"/>
            <a:ext cx="87627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C_EXTRA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 - No symbols used from header 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028880"/>
            <a:ext cx="82296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file is included but no symbols are used from i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56000" y="3730680"/>
            <a:ext cx="2619360" cy="210204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head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type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Typ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83280" y="3730680"/>
            <a:ext cx="2741040" cy="210204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header1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1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1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extern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int 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5800" y="3730680"/>
            <a:ext cx="3032280" cy="210204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ILE: inc_tran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"header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"header1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main 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int x=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4160" y="2202480"/>
            <a:ext cx="1284120" cy="368280"/>
          </a:xfrm>
          <a:prstGeom prst="rect">
            <a:avLst/>
          </a:prstGeom>
          <a:solidFill>
            <a:srgbClr val="c7c9f8">
              <a:alpha val="50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_trans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11680" y="2202480"/>
            <a:ext cx="2889360" cy="368280"/>
            <a:chOff x="3811680" y="2202480"/>
            <a:chExt cx="2889360" cy="368280"/>
          </a:xfrm>
        </p:grpSpPr>
        <p:sp>
          <p:nvSpPr>
            <p:cNvPr id="125" name=""/>
            <p:cNvSpPr/>
            <p:nvPr/>
          </p:nvSpPr>
          <p:spPr>
            <a:xfrm>
              <a:off x="5621040" y="2202480"/>
              <a:ext cx="1080000" cy="368280"/>
            </a:xfrm>
            <a:prstGeom prst="rect">
              <a:avLst/>
            </a:prstGeom>
            <a:solidFill>
              <a:srgbClr val="c7c9f8">
                <a:alpha val="50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.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811680" y="2219400"/>
              <a:ext cx="1727280" cy="337320"/>
              <a:chOff x="3811680" y="2219400"/>
              <a:chExt cx="1727280" cy="337320"/>
            </a:xfrm>
          </p:grpSpPr>
          <p:sp>
            <p:nvSpPr>
              <p:cNvPr id="127" name=""/>
              <p:cNvSpPr/>
              <p:nvPr/>
            </p:nvSpPr>
            <p:spPr>
              <a:xfrm>
                <a:off x="3811680" y="2387880"/>
                <a:ext cx="17272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211280" y="2219400"/>
                <a:ext cx="9273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inclu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3124080" y="2565360"/>
            <a:ext cx="3627360" cy="741960"/>
            <a:chOff x="3124080" y="2565360"/>
            <a:chExt cx="3627360" cy="741960"/>
          </a:xfrm>
        </p:grpSpPr>
        <p:sp>
          <p:nvSpPr>
            <p:cNvPr id="130" name=""/>
            <p:cNvSpPr/>
            <p:nvPr/>
          </p:nvSpPr>
          <p:spPr>
            <a:xfrm>
              <a:off x="5545080" y="2939040"/>
              <a:ext cx="1206360" cy="368280"/>
            </a:xfrm>
            <a:prstGeom prst="rect">
              <a:avLst/>
            </a:prstGeom>
            <a:solidFill>
              <a:srgbClr val="c7c9f8">
                <a:alpha val="50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1.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138480" y="2955960"/>
              <a:ext cx="2387160" cy="337320"/>
              <a:chOff x="3138480" y="2955960"/>
              <a:chExt cx="2387160" cy="337320"/>
            </a:xfrm>
          </p:grpSpPr>
          <p:sp>
            <p:nvSpPr>
              <p:cNvPr id="132" name=""/>
              <p:cNvSpPr/>
              <p:nvPr/>
            </p:nvSpPr>
            <p:spPr>
              <a:xfrm>
                <a:off x="3138480" y="3124440"/>
                <a:ext cx="23871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68200" y="2955960"/>
                <a:ext cx="9273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inclu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124080" y="2565360"/>
              <a:ext cx="0" cy="558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C_EXTRA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 - No symbols used from header fi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_extra.c;1;-1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rning;7;INCLUDE_BASE;INC_EXTRA;Warning;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_extra.c,header.h;For 'inc_extra.c' no identifiers from file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'header.h' are us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4880" y="76320"/>
            <a:ext cx="87627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C_TRANS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 - Usage of symbol has a transitive dependenc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028880"/>
            <a:ext cx="82296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symbol is used from a file included by another fi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6760" y="3921120"/>
            <a:ext cx="2619360" cy="18079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head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type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Typ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34400" y="3921120"/>
            <a:ext cx="2741040" cy="18079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header1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1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1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"header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extern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Type 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6560" y="3921120"/>
            <a:ext cx="3032280" cy="18079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ILE: inc_tran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"header1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main 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aType x=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546200" y="1914480"/>
            <a:ext cx="6054480" cy="752400"/>
            <a:chOff x="1546200" y="1914480"/>
            <a:chExt cx="6054480" cy="752400"/>
          </a:xfrm>
        </p:grpSpPr>
        <p:sp>
          <p:nvSpPr>
            <p:cNvPr id="143" name=""/>
            <p:cNvSpPr/>
            <p:nvPr/>
          </p:nvSpPr>
          <p:spPr>
            <a:xfrm flipV="1">
              <a:off x="1546200" y="2082600"/>
              <a:ext cx="0" cy="5713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00680" y="2082960"/>
              <a:ext cx="0" cy="5839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549440" y="1914480"/>
              <a:ext cx="6045120" cy="337320"/>
              <a:chOff x="1549440" y="1914480"/>
              <a:chExt cx="6045120" cy="337320"/>
            </a:xfrm>
          </p:grpSpPr>
          <p:sp>
            <p:nvSpPr>
              <p:cNvPr id="146" name=""/>
              <p:cNvSpPr/>
              <p:nvPr/>
            </p:nvSpPr>
            <p:spPr>
              <a:xfrm>
                <a:off x="1549440" y="2082960"/>
                <a:ext cx="60451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958560" y="1914480"/>
                <a:ext cx="12308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uses aTyp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903960" y="2710440"/>
            <a:ext cx="7249680" cy="368280"/>
            <a:chOff x="903960" y="2710440"/>
            <a:chExt cx="7249680" cy="368280"/>
          </a:xfrm>
        </p:grpSpPr>
        <p:sp>
          <p:nvSpPr>
            <p:cNvPr id="149" name=""/>
            <p:cNvSpPr/>
            <p:nvPr/>
          </p:nvSpPr>
          <p:spPr>
            <a:xfrm>
              <a:off x="903960" y="2710440"/>
              <a:ext cx="1284120" cy="368280"/>
            </a:xfrm>
            <a:prstGeom prst="rect">
              <a:avLst/>
            </a:prstGeom>
            <a:solidFill>
              <a:srgbClr val="c7c9f8">
                <a:alpha val="50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_trans.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73640" y="2710440"/>
              <a:ext cx="1080000" cy="368280"/>
            </a:xfrm>
            <a:prstGeom prst="rect">
              <a:avLst/>
            </a:prstGeom>
            <a:solidFill>
              <a:srgbClr val="c7c9f8">
                <a:alpha val="50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.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7480" y="2710440"/>
              <a:ext cx="1206360" cy="368280"/>
            </a:xfrm>
            <a:prstGeom prst="rect">
              <a:avLst/>
            </a:prstGeom>
            <a:solidFill>
              <a:srgbClr val="c7c9f8">
                <a:alpha val="50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1.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170320" y="2727360"/>
              <a:ext cx="1791000" cy="337320"/>
              <a:chOff x="5170320" y="2727360"/>
              <a:chExt cx="1791000" cy="337320"/>
            </a:xfrm>
          </p:grpSpPr>
          <p:sp>
            <p:nvSpPr>
              <p:cNvPr id="153" name=""/>
              <p:cNvSpPr/>
              <p:nvPr/>
            </p:nvSpPr>
            <p:spPr>
              <a:xfrm>
                <a:off x="5170320" y="2895840"/>
                <a:ext cx="17910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02320" y="2727360"/>
                <a:ext cx="9273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inclu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211480" y="2727360"/>
              <a:ext cx="1727280" cy="337320"/>
              <a:chOff x="2211480" y="2727360"/>
              <a:chExt cx="1727280" cy="337320"/>
            </a:xfrm>
          </p:grpSpPr>
          <p:sp>
            <p:nvSpPr>
              <p:cNvPr id="156" name=""/>
              <p:cNvSpPr/>
              <p:nvPr/>
            </p:nvSpPr>
            <p:spPr>
              <a:xfrm>
                <a:off x="2211480" y="2895840"/>
                <a:ext cx="17272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611080" y="2727360"/>
                <a:ext cx="9273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inclu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2197080" y="2206800"/>
            <a:ext cx="4800600" cy="485280"/>
            <a:chOff x="2197080" y="2206800"/>
            <a:chExt cx="4800600" cy="485280"/>
          </a:xfrm>
        </p:grpSpPr>
        <p:sp>
          <p:nvSpPr>
            <p:cNvPr id="159" name=""/>
            <p:cNvSpPr/>
            <p:nvPr/>
          </p:nvSpPr>
          <p:spPr>
            <a:xfrm>
              <a:off x="2400480" y="2405160"/>
              <a:ext cx="431784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73960" y="2206800"/>
              <a:ext cx="1572120" cy="337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ssing incl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197080" y="2400480"/>
              <a:ext cx="203400" cy="279360"/>
            </a:xfrm>
            <a:prstGeom prst="line">
              <a:avLst/>
            </a:prstGeom>
            <a:ln w="284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6718320" y="2387160"/>
              <a:ext cx="279360" cy="304920"/>
            </a:xfrm>
            <a:prstGeom prst="line">
              <a:avLst/>
            </a:prstGeom>
            <a:ln w="28440">
              <a:solidFill>
                <a:srgbClr val="80808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4:26:07Z</dcterms:created>
  <dc:creator>Tom MacKenzie</dc:creator>
  <dc:description/>
  <dc:language>en-US</dc:language>
  <cp:lastModifiedBy>Neil Lillemark</cp:lastModifiedBy>
  <dcterms:modified xsi:type="dcterms:W3CDTF">2005-10-28T22:11:44Z</dcterms:modified>
  <cp:revision>647</cp:revision>
  <dc:subject/>
  <dc:title>Working with Code Problem Reporting</dc:title>
</cp:coreProperties>
</file>